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DF386-F8AE-48C6-A187-92E2744FA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1C8C0-BD19-4EA7-A149-D0D16B96C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8B56F-47CC-48A2-87EA-31927A69A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FFFF8-BBEB-4CFE-9CE0-1F2C837A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9B9-0D17-4758-A2F3-868F6CFB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043-DE7A-4B87-8F5B-77EE889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33B-E347-4FD0-9D6E-0CCA557D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5AF-EF79-49B4-AE9A-4EAEA442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AAC-8572-4127-883A-10ECD66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994-5648-421E-B6F9-1D44A4A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340-7557-4966-94FC-4BECE8C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9A6-0DB5-4B51-ADCC-B9AF5127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93F-043A-42CF-BA20-4473F58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F24-73FB-469F-A4A0-E2AC10D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0EF-F5BF-4CA7-B51F-4EE5380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F2B-FD34-4342-8FD2-8416DAE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F11C3-0B79-4256-B344-FE22B59D5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C9734-56BC-49CE-8548-BDF89570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0180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troducing BMI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asic Model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86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cott D. Peckh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ief Software Architect for CSD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ch 25,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SDMS_high_res_weblogo.jpg"/>
          <p:cNvPicPr/>
          <p:nvPr/>
        </p:nvPicPr>
        <p:blipFill>
          <a:blip r:embed="rId1"/>
          <a:stretch/>
        </p:blipFill>
        <p:spPr>
          <a:xfrm>
            <a:off x="262080" y="252360"/>
            <a:ext cx="4203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SF_Logo.png"/>
          <p:cNvPicPr/>
          <p:nvPr/>
        </p:nvPicPr>
        <p:blipFill>
          <a:blip r:embed="rId2"/>
          <a:stretch/>
        </p:blipFill>
        <p:spPr>
          <a:xfrm>
            <a:off x="7377120" y="181080"/>
            <a:ext cx="15858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523800" y="63360"/>
            <a:ext cx="81136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Linking Component-based Model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How Can Two Models Diff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41360" y="1407960"/>
            <a:ext cx="8307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, C++, Fortran, Java, Python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lution:  Babel and Bocca (CCA toolcha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ational gr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riangles, rectangles, Voronoi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lution:  ESMF regridder (parallel, spatial interpo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stepp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xed, adaptive, lo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lution:  Temporal interpol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ed some means of “semantic medi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lution:  CSDMS Standard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lution:  UDUNITS (Uni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144440" y="34920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Different Types of Model Gr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Uniform.png"/>
          <p:cNvPicPr/>
          <p:nvPr/>
        </p:nvPicPr>
        <p:blipFill>
          <a:blip r:embed="rId1"/>
          <a:stretch/>
        </p:blipFill>
        <p:spPr>
          <a:xfrm>
            <a:off x="824040" y="1706400"/>
            <a:ext cx="3349440" cy="165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Rectilinear.png"/>
          <p:cNvPicPr/>
          <p:nvPr/>
        </p:nvPicPr>
        <p:blipFill>
          <a:blip r:embed="rId2"/>
          <a:stretch/>
        </p:blipFill>
        <p:spPr>
          <a:xfrm>
            <a:off x="4681440" y="1722600"/>
            <a:ext cx="3328920" cy="143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tructured.png"/>
          <p:cNvPicPr/>
          <p:nvPr/>
        </p:nvPicPr>
        <p:blipFill>
          <a:blip r:embed="rId3"/>
          <a:stretch/>
        </p:blipFill>
        <p:spPr>
          <a:xfrm>
            <a:off x="806400" y="4073400"/>
            <a:ext cx="3564000" cy="19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Unstructured.png"/>
          <p:cNvPicPr/>
          <p:nvPr/>
        </p:nvPicPr>
        <p:blipFill>
          <a:blip r:embed="rId4"/>
          <a:stretch/>
        </p:blipFill>
        <p:spPr>
          <a:xfrm>
            <a:off x="4795920" y="3917880"/>
            <a:ext cx="305100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904400" y="339264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36160" y="3232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tilin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845000" y="60976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5456520" y="60832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struct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Some Key Concepts and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6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Model: 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State variable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or some system of interest are discretized in space (on a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computational gri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) and new values are computed from previous values by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marching forward in time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ccording to a set of rules (e.g. laws of physic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Model Component: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 model that has been specially prepared for plug-and-play reusability.  (i.e. wrapped with a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standard interface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&amp; compiled for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language interoperability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Interface: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 standardized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set of function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, which a caller uses to interact with a resource such as a model, database or service. 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Heterogeneous resource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rapped with a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standard interface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n operate in a </a:t>
            </a:r>
            <a:r>
              <a:rPr b="0" lang="ja-JP" sz="2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</a:t>
            </a:r>
            <a:r>
              <a:rPr b="0" lang="ja-JP" sz="22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wa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Modeling Framework: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 software container in which pre-compiled model components are instantiated, configured and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dynamically linked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o rapidly </a:t>
            </a:r>
            <a:r>
              <a:rPr b="0" i="1" lang="en-US" sz="2200" spc="-1" strike="noStrike">
                <a:solidFill>
                  <a:srgbClr val="ff6600"/>
                </a:solidFill>
                <a:latin typeface="Calibri"/>
              </a:rPr>
              <a:t>create a customized model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.  (With a </a:t>
            </a:r>
            <a:r>
              <a:rPr b="0" lang="ja-JP" sz="2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irds-eye view</a:t>
            </a:r>
            <a:r>
              <a:rPr b="0" lang="ja-JP" sz="22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of all component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Taming Heterogeneity with Interfa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Rowdy_Crowd.jpg"/>
          <p:cNvPicPr/>
          <p:nvPr/>
        </p:nvPicPr>
        <p:blipFill>
          <a:blip r:embed="rId1"/>
          <a:stretch/>
        </p:blipFill>
        <p:spPr>
          <a:xfrm>
            <a:off x="4327560" y="1052640"/>
            <a:ext cx="4359240" cy="253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arines_in_Uniform.jpg"/>
          <p:cNvPicPr/>
          <p:nvPr/>
        </p:nvPicPr>
        <p:blipFill>
          <a:blip r:embed="rId2"/>
          <a:stretch/>
        </p:blipFill>
        <p:spPr>
          <a:xfrm>
            <a:off x="304920" y="3726000"/>
            <a:ext cx="4190760" cy="2919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04920" y="1182600"/>
            <a:ext cx="38703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efo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ach resource is uniq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wn ways of doing thing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spond different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an become uns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fficult to contr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643280" y="3738600"/>
            <a:ext cx="40435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f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iform outward appeara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spond to same comma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terchangeable uni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ave a chain of comm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ork as a te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523800" y="63360"/>
            <a:ext cx="81136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The Basic Model Interface (BMI) Stand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385920" y="1290600"/>
            <a:ext cx="8307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MI requires a developer to make some relatively simple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ninvas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ramework-independ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to his/her model source code, mostly by adding some new functions.  Functions can be grouped in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odel Control Function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itialize, update, fin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Model Information Fun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.g. time-stepping sche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ariable Information Functions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.g. dimensions, data type,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Arial"/>
              </a:rPr>
              <a:t>Variable Getters and S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Grid Information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functions make the mod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elf-describ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o the framework can “see” and reconcile model differences) and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ully controll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DMS can automatically wrap BMI-enabled models to provide them with a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MI interfa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allows them to be used in the CSDMS framework and to gain other new capabilities, including NetCDF outp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457200" y="2746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BMI and CMI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5724360" y="3714480"/>
            <a:ext cx="1806840" cy="2719440"/>
            <a:chOff x="5724360" y="3714480"/>
            <a:chExt cx="1806840" cy="2719440"/>
          </a:xfrm>
        </p:grpSpPr>
        <p:grpSp>
          <p:nvGrpSpPr>
            <p:cNvPr id="74" name="Group 5"/>
            <p:cNvGrpSpPr/>
            <p:nvPr/>
          </p:nvGrpSpPr>
          <p:grpSpPr>
            <a:xfrm>
              <a:off x="5724360" y="3714480"/>
              <a:ext cx="1806840" cy="2719440"/>
              <a:chOff x="5724360" y="3714480"/>
              <a:chExt cx="1806840" cy="2719440"/>
            </a:xfrm>
          </p:grpSpPr>
          <p:sp>
            <p:nvSpPr>
              <p:cNvPr id="75" name="Pentagon 1"/>
              <p:cNvSpPr/>
              <p:nvPr/>
            </p:nvSpPr>
            <p:spPr>
              <a:xfrm rot="16200000">
                <a:off x="5904720" y="4807440"/>
                <a:ext cx="1446120" cy="1806840"/>
              </a:xfrm>
              <a:custGeom>
                <a:avLst/>
                <a:gdLst>
                  <a:gd name="textAreaLeft" fmla="*/ 0 w 1446120"/>
                  <a:gd name="textAreaRight" fmla="*/ 1446480 w 1446120"/>
                  <a:gd name="textAreaTop" fmla="*/ 0 h 1806840"/>
                  <a:gd name="textAreaBottom" fmla="*/ 1807200 h 18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Chevron 2"/>
              <p:cNvSpPr/>
              <p:nvPr/>
            </p:nvSpPr>
            <p:spPr>
              <a:xfrm rot="16200000">
                <a:off x="5871240" y="3567600"/>
                <a:ext cx="1513080" cy="1806840"/>
              </a:xfrm>
              <a:custGeom>
                <a:avLst/>
                <a:gdLst>
                  <a:gd name="textAreaLeft" fmla="*/ 0 w 1513080"/>
                  <a:gd name="textAreaRight" fmla="*/ 1513440 w 1513080"/>
                  <a:gd name="textAreaTop" fmla="*/ 0 h 1806840"/>
                  <a:gd name="textAreaBottom" fmla="*/ 1807200 h 18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Box 3"/>
              <p:cNvSpPr/>
              <p:nvPr/>
            </p:nvSpPr>
            <p:spPr>
              <a:xfrm>
                <a:off x="6159600" y="5574600"/>
                <a:ext cx="95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BMI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TextBox 9"/>
            <p:cNvSpPr/>
            <p:nvPr/>
          </p:nvSpPr>
          <p:spPr>
            <a:xfrm>
              <a:off x="6138720" y="3906360"/>
              <a:ext cx="94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MI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1512720" y="3731760"/>
            <a:ext cx="1805040" cy="2721600"/>
            <a:chOff x="1512720" y="3731760"/>
            <a:chExt cx="1805040" cy="2721600"/>
          </a:xfrm>
        </p:grpSpPr>
        <p:grpSp>
          <p:nvGrpSpPr>
            <p:cNvPr id="80" name="Group 13"/>
            <p:cNvGrpSpPr/>
            <p:nvPr/>
          </p:nvGrpSpPr>
          <p:grpSpPr>
            <a:xfrm>
              <a:off x="1512720" y="3731760"/>
              <a:ext cx="1805040" cy="2721600"/>
              <a:chOff x="1512720" y="3731760"/>
              <a:chExt cx="1805040" cy="2721600"/>
            </a:xfrm>
          </p:grpSpPr>
          <p:sp>
            <p:nvSpPr>
              <p:cNvPr id="81" name="Pentagon 15"/>
              <p:cNvSpPr/>
              <p:nvPr/>
            </p:nvSpPr>
            <p:spPr>
              <a:xfrm rot="16200000">
                <a:off x="1691280" y="4826880"/>
                <a:ext cx="1447920" cy="18050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1805040"/>
                  <a:gd name="textAreaBottom" fmla="*/ 1805400 h 180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Chevron 16"/>
              <p:cNvSpPr/>
              <p:nvPr/>
            </p:nvSpPr>
            <p:spPr>
              <a:xfrm rot="16200000">
                <a:off x="1657800" y="3586320"/>
                <a:ext cx="1514520" cy="180504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1805040"/>
                  <a:gd name="textAreaBottom" fmla="*/ 1805400 h 180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Box 17"/>
              <p:cNvSpPr/>
              <p:nvPr/>
            </p:nvSpPr>
            <p:spPr>
              <a:xfrm>
                <a:off x="1947240" y="5592960"/>
                <a:ext cx="95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</a:rPr>
                  <a:t>BMI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1926360" y="3924000"/>
              <a:ext cx="94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MI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Left-Right Arrow 10"/>
          <p:cNvSpPr/>
          <p:nvPr/>
        </p:nvSpPr>
        <p:spPr>
          <a:xfrm>
            <a:off x="3740040" y="4359240"/>
            <a:ext cx="1617840" cy="484200"/>
          </a:xfrm>
          <a:prstGeom prst="left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12720" y="1409760"/>
            <a:ext cx="6159600" cy="6951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A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Up-Down Arrow 18"/>
          <p:cNvSpPr/>
          <p:nvPr/>
        </p:nvSpPr>
        <p:spPr>
          <a:xfrm>
            <a:off x="2227320" y="2365200"/>
            <a:ext cx="399960" cy="1114560"/>
          </a:xfrm>
          <a:prstGeom prst="up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Up-Down Arrow 21"/>
          <p:cNvSpPr/>
          <p:nvPr/>
        </p:nvSpPr>
        <p:spPr>
          <a:xfrm>
            <a:off x="6397560" y="2362320"/>
            <a:ext cx="399960" cy="1112760"/>
          </a:xfrm>
          <a:prstGeom prst="upDown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3097080" y="2400480"/>
            <a:ext cx="2905200" cy="887400"/>
            <a:chOff x="3097080" y="2400480"/>
            <a:chExt cx="2905200" cy="887400"/>
          </a:xfrm>
        </p:grpSpPr>
        <p:sp>
          <p:nvSpPr>
            <p:cNvPr id="90" name="Rounded Rectangle 19"/>
            <p:cNvSpPr/>
            <p:nvPr/>
          </p:nvSpPr>
          <p:spPr>
            <a:xfrm>
              <a:off x="3097080" y="2400480"/>
              <a:ext cx="2905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20"/>
            <p:cNvSpPr/>
            <p:nvPr/>
          </p:nvSpPr>
          <p:spPr>
            <a:xfrm>
              <a:off x="3709080" y="2439000"/>
              <a:ext cx="176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Left-Right Arrow 26"/>
          <p:cNvSpPr/>
          <p:nvPr/>
        </p:nvSpPr>
        <p:spPr>
          <a:xfrm rot="18433800">
            <a:off x="3058920" y="3727080"/>
            <a:ext cx="730080" cy="257040"/>
          </a:xfrm>
          <a:prstGeom prst="left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856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eft-Right Arrow 29"/>
          <p:cNvSpPr/>
          <p:nvPr/>
        </p:nvSpPr>
        <p:spPr>
          <a:xfrm rot="2902800">
            <a:off x="5275440" y="3670200"/>
            <a:ext cx="731880" cy="258480"/>
          </a:xfrm>
          <a:prstGeom prst="leftRightArrow">
            <a:avLst>
              <a:gd name="adj1" fmla="val 50000"/>
              <a:gd name="adj2" fmla="val 5006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249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Up-Down Arrow 27"/>
          <p:cNvSpPr/>
          <p:nvPr/>
        </p:nvSpPr>
        <p:spPr>
          <a:xfrm>
            <a:off x="1079640" y="4759200"/>
            <a:ext cx="285480" cy="1405080"/>
          </a:xfrm>
          <a:prstGeom prst="upDownArrow">
            <a:avLst>
              <a:gd name="adj1" fmla="val 50000"/>
              <a:gd name="adj2" fmla="val 5006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Up-Down Arrow 31"/>
          <p:cNvSpPr/>
          <p:nvPr/>
        </p:nvSpPr>
        <p:spPr>
          <a:xfrm>
            <a:off x="7740720" y="4740120"/>
            <a:ext cx="285840" cy="1405080"/>
          </a:xfrm>
          <a:prstGeom prst="upDown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1971000" y="606600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6168600" y="604980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5240" y="2065320"/>
            <a:ext cx="859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asic Model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://csdms.colorado.edu/wiki/BMI_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SDMS Standard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://csdms.colorado.edu/wiki/CSDMS_Standard_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A Quick Overview of Our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BMI-Related Web P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7"/>
          <p:cNvSpPr/>
          <p:nvPr/>
        </p:nvSpPr>
        <p:spPr>
          <a:xfrm>
            <a:off x="1326960" y="165240"/>
            <a:ext cx="64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 A Simple Water Tank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39"/>
          <p:cNvGrpSpPr/>
          <p:nvPr/>
        </p:nvGrpSpPr>
        <p:grpSpPr>
          <a:xfrm>
            <a:off x="1800720" y="773280"/>
            <a:ext cx="5872680" cy="5768640"/>
            <a:chOff x="1800720" y="773280"/>
            <a:chExt cx="5872680" cy="5768640"/>
          </a:xfrm>
        </p:grpSpPr>
        <p:pic>
          <p:nvPicPr>
            <p:cNvPr id="102" name="Picture 24" descr="rainy_weather_with_thunder.png"/>
            <p:cNvPicPr/>
            <p:nvPr/>
          </p:nvPicPr>
          <p:blipFill>
            <a:blip r:embed="rId1"/>
            <a:stretch/>
          </p:blipFill>
          <p:spPr>
            <a:xfrm>
              <a:off x="3087720" y="773280"/>
              <a:ext cx="2622600" cy="243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36"/>
            <p:cNvGrpSpPr/>
            <p:nvPr/>
          </p:nvGrpSpPr>
          <p:grpSpPr>
            <a:xfrm>
              <a:off x="1800720" y="2585880"/>
              <a:ext cx="5872680" cy="3956040"/>
              <a:chOff x="1800720" y="2585880"/>
              <a:chExt cx="5872680" cy="3956040"/>
            </a:xfrm>
          </p:grpSpPr>
          <p:grpSp>
            <p:nvGrpSpPr>
              <p:cNvPr id="104" name="Group 22"/>
              <p:cNvGrpSpPr/>
              <p:nvPr/>
            </p:nvGrpSpPr>
            <p:grpSpPr>
              <a:xfrm>
                <a:off x="3044880" y="3366720"/>
                <a:ext cx="3505680" cy="3175200"/>
                <a:chOff x="3044880" y="3366720"/>
                <a:chExt cx="3505680" cy="3175200"/>
              </a:xfrm>
            </p:grpSpPr>
            <p:sp>
              <p:nvSpPr>
                <p:cNvPr id="105" name="Oval 1"/>
                <p:cNvSpPr/>
                <p:nvPr/>
              </p:nvSpPr>
              <p:spPr>
                <a:xfrm>
                  <a:off x="3055680" y="3366720"/>
                  <a:ext cx="2595960" cy="9144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Straight Connector 3"/>
                <p:cNvSpPr/>
                <p:nvPr/>
              </p:nvSpPr>
              <p:spPr>
                <a:xfrm>
                  <a:off x="3055680" y="3847680"/>
                  <a:ext cx="0" cy="2237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Straight Connector 4"/>
                <p:cNvSpPr/>
                <p:nvPr/>
              </p:nvSpPr>
              <p:spPr>
                <a:xfrm>
                  <a:off x="5645520" y="3847680"/>
                  <a:ext cx="0" cy="2237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Rectangle 10"/>
                <p:cNvSpPr/>
                <p:nvPr/>
              </p:nvSpPr>
              <p:spPr>
                <a:xfrm>
                  <a:off x="5652000" y="5638680"/>
                  <a:ext cx="608040" cy="19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Oval 11"/>
                <p:cNvSpPr/>
                <p:nvPr/>
              </p:nvSpPr>
              <p:spPr>
                <a:xfrm>
                  <a:off x="6242760" y="5621040"/>
                  <a:ext cx="11556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Rectangle 17"/>
                <p:cNvSpPr/>
                <p:nvPr/>
              </p:nvSpPr>
              <p:spPr>
                <a:xfrm>
                  <a:off x="3047760" y="4946400"/>
                  <a:ext cx="2608560" cy="110484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Oval 9"/>
                <p:cNvSpPr/>
                <p:nvPr/>
              </p:nvSpPr>
              <p:spPr>
                <a:xfrm>
                  <a:off x="3044880" y="4478040"/>
                  <a:ext cx="2607120" cy="91584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Oval 5"/>
                <p:cNvSpPr/>
                <p:nvPr/>
              </p:nvSpPr>
              <p:spPr>
                <a:xfrm>
                  <a:off x="3047760" y="5627520"/>
                  <a:ext cx="2605680" cy="914400"/>
                </a:xfrm>
                <a:prstGeom prst="ellipse">
                  <a:avLst/>
                </a:prstGeom>
                <a:solidFill>
                  <a:srgbClr val="66ffff"/>
                </a:solidFill>
                <a:ln w="0">
                  <a:noFill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Arc 18"/>
                <p:cNvSpPr/>
                <p:nvPr/>
              </p:nvSpPr>
              <p:spPr>
                <a:xfrm>
                  <a:off x="6063120" y="5735520"/>
                  <a:ext cx="487440" cy="669960"/>
                </a:xfrm>
                <a:custGeom>
                  <a:avLst/>
                  <a:gdLst/>
                  <a:ahLst/>
                  <a:rect l="l" t="t" r="r" b="b"/>
                  <a:pathLst>
                    <a:path stroke="0" w="487292" h="669994">
                      <a:moveTo>
                        <a:pt x="243646" y="0"/>
                      </a:moveTo>
                      <a:cubicBezTo>
                        <a:pt x="378208" y="0"/>
                        <a:pt x="487292" y="149983"/>
                        <a:pt x="487292" y="334997"/>
                      </a:cubicBezTo>
                      <a:lnTo>
                        <a:pt x="243646" y="334997"/>
                      </a:lnTo>
                      <a:lnTo>
                        <a:pt x="243646" y="0"/>
                      </a:lnTo>
                      <a:close/>
                    </a:path>
                    <a:path fill="none" w="487292" h="669994">
                      <a:moveTo>
                        <a:pt x="243646" y="0"/>
                      </a:moveTo>
                      <a:cubicBezTo>
                        <a:pt x="378208" y="0"/>
                        <a:pt x="487292" y="149983"/>
                        <a:pt x="487292" y="334997"/>
                      </a:cubicBezTo>
                    </a:path>
                  </a:pathLst>
                </a:custGeom>
                <a:noFill/>
                <a:ln w="127080">
                  <a:solidFill>
                    <a:srgbClr val="66ffff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14" name="Straight Arrow Connector 26"/>
              <p:cNvCxnSpPr/>
              <p:nvPr/>
            </p:nvCxnSpPr>
            <p:spPr>
              <a:xfrm flipH="1">
                <a:off x="2545920" y="4946760"/>
                <a:ext cx="2160" cy="12592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5" name="TextBox 27"/>
              <p:cNvSpPr/>
              <p:nvPr/>
            </p:nvSpPr>
            <p:spPr>
              <a:xfrm>
                <a:off x="1800720" y="5335920"/>
                <a:ext cx="73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ept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28"/>
              <p:cNvSpPr/>
              <p:nvPr/>
            </p:nvSpPr>
            <p:spPr>
              <a:xfrm>
                <a:off x="6776280" y="5801040"/>
                <a:ext cx="89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outflow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spee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TextBox 29"/>
              <p:cNvSpPr/>
              <p:nvPr/>
            </p:nvSpPr>
            <p:spPr>
              <a:xfrm>
                <a:off x="3440880" y="3534120"/>
                <a:ext cx="96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op are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18" name="Straight Arrow Connector 31"/>
              <p:cNvCxnSpPr/>
              <p:nvPr/>
            </p:nvCxnSpPr>
            <p:spPr>
              <a:xfrm>
                <a:off x="6664680" y="5735520"/>
                <a:ext cx="891360" cy="216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34"/>
              <p:cNvCxnSpPr/>
              <p:nvPr/>
            </p:nvCxnSpPr>
            <p:spPr>
              <a:xfrm flipH="1">
                <a:off x="5333760" y="2585880"/>
                <a:ext cx="2160" cy="61956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arrow" w="med"/>
              </a:ln>
            </p:spPr>
          </p:cxnSp>
          <p:sp>
            <p:nvSpPr>
              <p:cNvPr id="120" name="TextBox 35"/>
              <p:cNvSpPr/>
              <p:nvPr/>
            </p:nvSpPr>
            <p:spPr>
              <a:xfrm>
                <a:off x="5431320" y="2667960"/>
                <a:ext cx="113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rainrate(t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TextBox 38"/>
            <p:cNvSpPr/>
            <p:nvPr/>
          </p:nvSpPr>
          <p:spPr>
            <a:xfrm>
              <a:off x="3327480" y="555264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olu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40"/>
          <p:cNvSpPr/>
          <p:nvPr/>
        </p:nvSpPr>
        <p:spPr>
          <a:xfrm>
            <a:off x="434880" y="1211400"/>
            <a:ext cx="1892160" cy="213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put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in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in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le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itial water dep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6587640" y="3678120"/>
            <a:ext cx="17946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Output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dep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flow 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2:49:25Z</dcterms:created>
  <dc:creator>Scott Peckham</dc:creator>
  <dc:description/>
  <dc:language>en-US</dc:language>
  <cp:lastModifiedBy>Scott Peckham</cp:lastModifiedBy>
  <dcterms:modified xsi:type="dcterms:W3CDTF">2013-04-01T17:25:03Z</dcterms:modified>
  <cp:revision>71</cp:revision>
  <dc:subject/>
  <dc:title>Introducing BMI: Basic Model Interface</dc:title>
</cp:coreProperties>
</file>