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B322A-12FD-483A-B87A-6DFA0A5853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8130F-DF41-4DC8-82AE-8DFCB1195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on the last item by Er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BE8E1-4DB3-4496-8969-D8D38EDB5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on this item by Albe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CBEB9-4732-410E-AF8D-6A61A4354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eneral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eneral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eneral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eneral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C7C-D351-4AB4-8A07-86177D0A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10A-66B1-4396-8F8D-47EECFBE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CF8-3482-4E22-B72A-0982A713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E3C-1E3D-4906-8C75-473210CA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25A-D86A-4905-8C6C-164839DA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25F-0FEF-4D04-A746-FB21DECF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B3E-7042-453F-9C47-DEE6AE9E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5F9-C67D-4E2E-8E24-5ED49310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F86-AC1C-4656-9C35-0A2ED6D4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124-27FA-4656-ADED-BB74BFCF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071-82BD-47DA-944E-0FB70111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33B-4C7E-425C-B596-D2F0333B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2C9F6-A708-4119-A433-A62CF9E916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6BD03-9E69-485B-ACCC-A73FB91C6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c4bd97"/>
                </a:solidFill>
                <a:latin typeface="Calibri"/>
              </a:rPr>
              <a:t>E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762120" y="1447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4bd97"/>
                </a:solidFill>
                <a:latin typeface="Calibri"/>
              </a:rPr>
              <a:t>Education and Knowledge Transfer </a:t>
            </a:r>
            <a:br>
              <a:rPr sz="4000"/>
            </a:br>
            <a:r>
              <a:rPr b="1" lang="en-US" sz="4000" spc="-1" strike="noStrike">
                <a:solidFill>
                  <a:srgbClr val="c4bd97"/>
                </a:solidFill>
                <a:latin typeface="Calibri"/>
              </a:rPr>
              <a:t>Objectives, Progress &amp; Pl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rina Over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1295280"/>
          </a:xfrm>
          <a:prstGeom prst="rect">
            <a:avLst/>
          </a:prstGeom>
          <a:solidFill>
            <a:srgbClr val="80008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4bd97"/>
                </a:solidFill>
                <a:latin typeface="Calibri"/>
              </a:rPr>
              <a:t>BIG IDEAS ON E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33520" y="1676520"/>
            <a:ext cx="7924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Series of model labs with added proces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Develop EKT modeling framework so that it can keep improving and growing. Tool for module use and student assessment for individual teac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 ‘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GOOGLE Earth’ like application that set your model input-conditions  automatically strea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Publish in educational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Surface Processes Animations for Science Museum and  NP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5200" cy="1164960"/>
          </a:xfrm>
          <a:prstGeom prst="rect">
            <a:avLst/>
          </a:prstGeom>
          <a:solidFill>
            <a:srgbClr val="ffcc00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4bd97"/>
                </a:solidFill>
                <a:latin typeface="Calibri"/>
              </a:rPr>
              <a:t>Modeler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981080" y="2666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SedFlux Model Home with downloads, installation and input explanations, and issues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647640" y="2666880"/>
            <a:ext cx="990720" cy="112716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27160"/>
              <a:gd name="textAreaBottom" fmla="*/ 1063080 h 1127160"/>
            </a:gdLst>
            <a:ahLst/>
            <a:rect l="textAreaLeft" t="textAreaTop" r="textAreaRight" b="textAreaBottom"/>
            <a:pathLst>
              <a:path w="21600" h="24574">
                <a:moveTo>
                  <a:pt x="0" y="0"/>
                </a:moveTo>
                <a:lnTo>
                  <a:pt x="21600" y="0"/>
                </a:lnTo>
                <a:lnTo>
                  <a:pt x="21600" y="24574"/>
                </a:lnTo>
                <a:lnTo>
                  <a:pt x="0" y="24574"/>
                </a:lnTo>
                <a:close/>
              </a:path>
              <a:path fill="lightenLess" w="21600" h="245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74">
                <a:moveTo>
                  <a:pt x="21600" y="0"/>
                </a:moveTo>
                <a:lnTo>
                  <a:pt x="21600" y="24574"/>
                </a:lnTo>
                <a:lnTo>
                  <a:pt x="20200" y="23174"/>
                </a:lnTo>
                <a:lnTo>
                  <a:pt x="20200" y="1400"/>
                </a:lnTo>
                <a:close/>
              </a:path>
              <a:path fill="darkenLess" w="21600" h="24574">
                <a:moveTo>
                  <a:pt x="21600" y="24574"/>
                </a:moveTo>
                <a:lnTo>
                  <a:pt x="0" y="24574"/>
                </a:lnTo>
                <a:lnTo>
                  <a:pt x="1400" y="23174"/>
                </a:lnTo>
                <a:lnTo>
                  <a:pt x="20200" y="23174"/>
                </a:lnTo>
                <a:close/>
              </a:path>
              <a:path fill="lighten" w="21600" h="24574">
                <a:moveTo>
                  <a:pt x="0" y="245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74"/>
                </a:lnTo>
                <a:close/>
              </a:path>
              <a:path fill="darken" w="21600" h="24574">
                <a:moveTo>
                  <a:pt x="10800" y="5324"/>
                </a:moveTo>
                <a:lnTo>
                  <a:pt x="13376" y="7935"/>
                </a:lnTo>
                <a:lnTo>
                  <a:pt x="13376" y="6194"/>
                </a:lnTo>
                <a:lnTo>
                  <a:pt x="15152" y="6194"/>
                </a:lnTo>
                <a:lnTo>
                  <a:pt x="15152" y="9711"/>
                </a:lnTo>
                <a:lnTo>
                  <a:pt x="17763" y="12287"/>
                </a:lnTo>
                <a:lnTo>
                  <a:pt x="16109" y="12287"/>
                </a:lnTo>
                <a:lnTo>
                  <a:pt x="16109" y="19476"/>
                </a:lnTo>
                <a:lnTo>
                  <a:pt x="5491" y="19476"/>
                </a:lnTo>
                <a:lnTo>
                  <a:pt x="5491" y="12287"/>
                </a:lnTo>
                <a:lnTo>
                  <a:pt x="3837" y="12287"/>
                </a:lnTo>
                <a:close/>
              </a:path>
              <a:path fill="darkenLess" w="21600" h="24574">
                <a:moveTo>
                  <a:pt x="13376" y="7935"/>
                </a:moveTo>
                <a:lnTo>
                  <a:pt x="13376" y="6194"/>
                </a:lnTo>
                <a:lnTo>
                  <a:pt x="15152" y="6194"/>
                </a:lnTo>
                <a:lnTo>
                  <a:pt x="15152" y="9711"/>
                </a:lnTo>
                <a:close/>
              </a:path>
              <a:path fill="darkenLess" w="21600" h="24574">
                <a:moveTo>
                  <a:pt x="9877" y="15786"/>
                </a:moveTo>
                <a:lnTo>
                  <a:pt x="11723" y="15786"/>
                </a:lnTo>
                <a:lnTo>
                  <a:pt x="11723" y="19476"/>
                </a:lnTo>
                <a:lnTo>
                  <a:pt x="16109" y="19476"/>
                </a:lnTo>
                <a:lnTo>
                  <a:pt x="16109" y="12287"/>
                </a:lnTo>
                <a:lnTo>
                  <a:pt x="5491" y="12287"/>
                </a:lnTo>
                <a:lnTo>
                  <a:pt x="5491" y="19476"/>
                </a:lnTo>
                <a:lnTo>
                  <a:pt x="9877" y="1947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85080" y="5029200"/>
            <a:ext cx="77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48a54"/>
                </a:solidFill>
                <a:latin typeface="Arial"/>
              </a:rPr>
              <a:t>NEEDS TO BE SOLICITED FROM CSDMS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4bd97"/>
                </a:solidFill>
                <a:latin typeface="Calibri"/>
              </a:rPr>
              <a:t>EKT 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533520" y="1317600"/>
            <a:ext cx="79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cc9900"/>
                </a:solidFill>
                <a:latin typeface="Calibri"/>
              </a:rPr>
              <a:t>Education of CSDMS mod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Educational Reposi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Focus on undergradu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EKT short-term and long-term goals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/>
          <p:cNvSpPr/>
          <p:nvPr/>
        </p:nvSpPr>
        <p:spPr>
          <a:xfrm>
            <a:off x="914400" y="365760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This repository has been started, but major expansion between 2009-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Teaching Materials now contain  lectures of 2 modeling courses and  model excercises. Intented for download for teaching faculty, movies and animations of model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1440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Objective: distribute model simulations, educational presentations, reports, publications, short course material and the CSDMS hosted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143000" y="304920"/>
            <a:ext cx="70866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al Reposi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al 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533520" y="16765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4bd97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Well-documented model movies to explain surface-dynamics processes. Every movie has a short description, and more detailed explanation, key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Fit into the data-base like structure in wi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Macintosh HD:Users:albert:Desktop:PRESENTATIONS:TerrCoastalWG2009:2005JF000422_ms04.avi" descr="/Users/overeem/DATA/CSDMS/workinggroups/EKT/EKTDiscussion_Irina/2005JF000422_ms04.avi"/>
          <p:cNvPicPr/>
          <p:nvPr/>
        </p:nvPicPr>
        <p:blipFill>
          <a:blip r:embed="rId2"/>
          <a:stretch/>
        </p:blipFill>
        <p:spPr>
          <a:xfrm>
            <a:off x="173160" y="3733920"/>
            <a:ext cx="8894520" cy="2438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458640" y="6157800"/>
            <a:ext cx="84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Ashton and Murray Model, Coastal Evolution of Wave-dominated co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al 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CM Capture 1.png"/>
          <p:cNvPicPr/>
          <p:nvPr/>
        </p:nvPicPr>
        <p:blipFill>
          <a:blip r:embed="rId2"/>
          <a:stretch/>
        </p:blipFill>
        <p:spPr>
          <a:xfrm>
            <a:off x="1676520" y="1371600"/>
            <a:ext cx="5711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al 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33520" y="1676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Basic model experiments, stepping up in complex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Fit into the data-base like structure in wi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/Users/overeem/Desktop/ExecMeetingSept2009/SedfluxMOVIES/basicavulsion1.avi"/>
          <p:cNvPicPr/>
          <p:nvPr/>
        </p:nvPicPr>
        <p:blipFill>
          <a:blip r:embed="rId2"/>
          <a:stretch/>
        </p:blipFill>
        <p:spPr>
          <a:xfrm>
            <a:off x="457200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/Users/overeem/Desktop/ExecMeetingSept2009/SedfluxMOVIES/basicplumeELEV.avi"/>
          <p:cNvPicPr/>
          <p:nvPr/>
        </p:nvPicPr>
        <p:blipFill>
          <a:blip r:embed="rId3"/>
          <a:stretch/>
        </p:blipFill>
        <p:spPr>
          <a:xfrm>
            <a:off x="0" y="27432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542520" y="58024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P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425560" y="58024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witch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155160" y="6292800"/>
            <a:ext cx="89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ddd9c3"/>
                </a:solidFill>
                <a:latin typeface="Arial"/>
              </a:rPr>
              <a:t>Associated Algorithms is key for learning processes as well as model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2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2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2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al ESP Mov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533520" y="1676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4bd97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Well-documented real-world to explain surface-dynamics processes. Every movie has a factsheet, and more detailed explanation, key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1676520" y="3352680"/>
            <a:ext cx="4267080" cy="3353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523880" y="3616200"/>
            <a:ext cx="4267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tic Coastal Ero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er of 2008, time-lapse coast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rming permafrost and longer sea-ice free Arctic Ocean promote rapid coastal ret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iscussion and Recommended 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thors:  Cameron Wobus (CIRES), Irina Overeem, Bob Anderson, Nora Matell (INSTAAR), Gary Clow, Frank Urban, Ben Jones (U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ction Button: Movie 7"/>
          <p:cNvSpPr/>
          <p:nvPr/>
        </p:nvSpPr>
        <p:spPr>
          <a:xfrm>
            <a:off x="6324480" y="3616200"/>
            <a:ext cx="2133720" cy="879480"/>
          </a:xfrm>
          <a:custGeom>
            <a:avLst/>
            <a:gdLst>
              <a:gd name="textAreaLeft" fmla="*/ 56880 w 2133720"/>
              <a:gd name="textAreaRight" fmla="*/ 2076840 w 2133720"/>
              <a:gd name="textAreaTop" fmla="*/ 56880 h 879480"/>
              <a:gd name="textAreaBottom" fmla="*/ 822600 h 879480"/>
            </a:gdLst>
            <a:ahLst/>
            <a:rect l="textAreaLeft" t="textAreaTop" r="textAreaRight" b="textAreaBottom"/>
            <a:pathLst>
              <a:path w="52391" h="21600">
                <a:moveTo>
                  <a:pt x="0" y="0"/>
                </a:moveTo>
                <a:lnTo>
                  <a:pt x="52391" y="0"/>
                </a:lnTo>
                <a:lnTo>
                  <a:pt x="52391" y="21600"/>
                </a:lnTo>
                <a:lnTo>
                  <a:pt x="0" y="21600"/>
                </a:lnTo>
                <a:close/>
              </a:path>
              <a:path fill="lightenLess" w="52391" h="21600">
                <a:moveTo>
                  <a:pt x="0" y="0"/>
                </a:moveTo>
                <a:lnTo>
                  <a:pt x="52391" y="0"/>
                </a:lnTo>
                <a:lnTo>
                  <a:pt x="50991" y="1400"/>
                </a:lnTo>
                <a:lnTo>
                  <a:pt x="1400" y="1400"/>
                </a:lnTo>
                <a:close/>
              </a:path>
              <a:path fill="darken" w="52391" h="21600">
                <a:moveTo>
                  <a:pt x="52391" y="0"/>
                </a:moveTo>
                <a:lnTo>
                  <a:pt x="52391" y="21600"/>
                </a:lnTo>
                <a:lnTo>
                  <a:pt x="50991" y="20200"/>
                </a:lnTo>
                <a:lnTo>
                  <a:pt x="50991" y="1400"/>
                </a:lnTo>
                <a:close/>
              </a:path>
              <a:path fill="darkenLess" w="52391" h="21600">
                <a:moveTo>
                  <a:pt x="52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91" y="20200"/>
                </a:lnTo>
                <a:close/>
              </a:path>
              <a:path fill="lighten" w="52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91" h="21600">
                <a:moveTo>
                  <a:pt x="19189" y="7301"/>
                </a:moveTo>
                <a:lnTo>
                  <a:pt x="20103" y="7301"/>
                </a:lnTo>
                <a:lnTo>
                  <a:pt x="20486" y="7667"/>
                </a:lnTo>
                <a:lnTo>
                  <a:pt x="29695" y="7667"/>
                </a:lnTo>
                <a:lnTo>
                  <a:pt x="30252" y="8224"/>
                </a:lnTo>
                <a:lnTo>
                  <a:pt x="30252" y="8772"/>
                </a:lnTo>
                <a:lnTo>
                  <a:pt x="32097" y="8772"/>
                </a:lnTo>
                <a:lnTo>
                  <a:pt x="32462" y="8224"/>
                </a:lnTo>
                <a:lnTo>
                  <a:pt x="33202" y="8224"/>
                </a:lnTo>
                <a:lnTo>
                  <a:pt x="33202" y="13376"/>
                </a:lnTo>
                <a:lnTo>
                  <a:pt x="32462" y="13376"/>
                </a:lnTo>
                <a:lnTo>
                  <a:pt x="32097" y="12828"/>
                </a:lnTo>
                <a:lnTo>
                  <a:pt x="30252" y="12828"/>
                </a:lnTo>
                <a:lnTo>
                  <a:pt x="30252" y="14107"/>
                </a:lnTo>
                <a:lnTo>
                  <a:pt x="20669" y="14107"/>
                </a:lnTo>
                <a:lnTo>
                  <a:pt x="20669" y="9877"/>
                </a:lnTo>
                <a:lnTo>
                  <a:pt x="20486" y="9877"/>
                </a:lnTo>
                <a:lnTo>
                  <a:pt x="20103" y="10243"/>
                </a:lnTo>
                <a:lnTo>
                  <a:pt x="19189" y="10243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ction Button: Home 9"/>
          <p:cNvSpPr/>
          <p:nvPr/>
        </p:nvSpPr>
        <p:spPr>
          <a:xfrm>
            <a:off x="6324480" y="5334120"/>
            <a:ext cx="1600200" cy="96048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960480"/>
              <a:gd name="textAreaBottom" fmla="*/ 898560 h 960480"/>
            </a:gdLst>
            <a:ahLst/>
            <a:rect l="textAreaLeft" t="textAreaTop" r="textAreaRight" b="textAreaBottom"/>
            <a:pathLst>
              <a:path w="35981" h="21600">
                <a:moveTo>
                  <a:pt x="0" y="0"/>
                </a:moveTo>
                <a:lnTo>
                  <a:pt x="35981" y="0"/>
                </a:lnTo>
                <a:lnTo>
                  <a:pt x="35981" y="21600"/>
                </a:lnTo>
                <a:lnTo>
                  <a:pt x="0" y="21600"/>
                </a:lnTo>
                <a:close/>
              </a:path>
              <a:path fill="lightenLess" w="35981" h="21600">
                <a:moveTo>
                  <a:pt x="0" y="0"/>
                </a:moveTo>
                <a:lnTo>
                  <a:pt x="35981" y="0"/>
                </a:lnTo>
                <a:lnTo>
                  <a:pt x="34581" y="1400"/>
                </a:lnTo>
                <a:lnTo>
                  <a:pt x="1400" y="1400"/>
                </a:lnTo>
                <a:close/>
              </a:path>
              <a:path fill="darken" w="35981" h="21600">
                <a:moveTo>
                  <a:pt x="35981" y="0"/>
                </a:moveTo>
                <a:lnTo>
                  <a:pt x="35981" y="21600"/>
                </a:lnTo>
                <a:lnTo>
                  <a:pt x="34581" y="20200"/>
                </a:lnTo>
                <a:lnTo>
                  <a:pt x="34581" y="1400"/>
                </a:lnTo>
                <a:close/>
              </a:path>
              <a:path fill="darkenLess" w="35981" h="21600">
                <a:moveTo>
                  <a:pt x="35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1" y="20200"/>
                </a:lnTo>
                <a:close/>
              </a:path>
              <a:path fill="lighten" w="35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1" h="21600">
                <a:moveTo>
                  <a:pt x="17991" y="3837"/>
                </a:moveTo>
                <a:lnTo>
                  <a:pt x="20567" y="6448"/>
                </a:lnTo>
                <a:lnTo>
                  <a:pt x="20567" y="4707"/>
                </a:lnTo>
                <a:lnTo>
                  <a:pt x="22342" y="4707"/>
                </a:lnTo>
                <a:lnTo>
                  <a:pt x="22342" y="8224"/>
                </a:lnTo>
                <a:lnTo>
                  <a:pt x="24954" y="10800"/>
                </a:lnTo>
                <a:lnTo>
                  <a:pt x="23300" y="10800"/>
                </a:lnTo>
                <a:lnTo>
                  <a:pt x="23300" y="17989"/>
                </a:lnTo>
                <a:lnTo>
                  <a:pt x="12681" y="17989"/>
                </a:lnTo>
                <a:lnTo>
                  <a:pt x="12681" y="10800"/>
                </a:lnTo>
                <a:lnTo>
                  <a:pt x="11028" y="10800"/>
                </a:lnTo>
                <a:close/>
              </a:path>
              <a:path fill="darkenLess" w="35981" h="21600">
                <a:moveTo>
                  <a:pt x="20567" y="6448"/>
                </a:moveTo>
                <a:lnTo>
                  <a:pt x="20567" y="4707"/>
                </a:lnTo>
                <a:lnTo>
                  <a:pt x="22342" y="4707"/>
                </a:lnTo>
                <a:lnTo>
                  <a:pt x="22342" y="8224"/>
                </a:lnTo>
                <a:close/>
              </a:path>
              <a:path fill="darkenLess" w="35981" h="21600">
                <a:moveTo>
                  <a:pt x="17068" y="14299"/>
                </a:moveTo>
                <a:lnTo>
                  <a:pt x="18913" y="14299"/>
                </a:lnTo>
                <a:lnTo>
                  <a:pt x="18913" y="17989"/>
                </a:lnTo>
                <a:lnTo>
                  <a:pt x="23300" y="17989"/>
                </a:lnTo>
                <a:lnTo>
                  <a:pt x="23300" y="10800"/>
                </a:lnTo>
                <a:lnTo>
                  <a:pt x="12681" y="10800"/>
                </a:lnTo>
                <a:lnTo>
                  <a:pt x="12681" y="17989"/>
                </a:lnTo>
                <a:lnTo>
                  <a:pt x="17068" y="17989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1295280"/>
          </a:xfrm>
          <a:prstGeom prst="rect">
            <a:avLst/>
          </a:prstGeom>
          <a:solidFill>
            <a:srgbClr val="80008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4bd97"/>
                </a:solidFill>
                <a:latin typeface="Calibri"/>
              </a:rPr>
              <a:t>Short-term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57200" y="1905120"/>
            <a:ext cx="7924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Really good examples of model labs to showcase 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educational modules, every WG 1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GC2D-HYDROTREND-CEM-P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Models can be run stand-alone through Ccaffeine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Users can set  few key parameters, run &amp; down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4bd97"/>
                </a:solidFill>
                <a:latin typeface="Calibri"/>
              </a:rPr>
              <a:t>Help on models is available through links to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4bd97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3:13:55Z</dcterms:created>
  <dc:creator>Irina Overeem</dc:creator>
  <dc:description/>
  <dc:language>en-US</dc:language>
  <cp:lastModifiedBy>Albert Kettner</cp:lastModifiedBy>
  <dcterms:modified xsi:type="dcterms:W3CDTF">2009-10-27T14:49:42Z</dcterms:modified>
  <cp:revision>76</cp:revision>
  <dc:subject/>
  <dc:title>EKT Working Group Discussions</dc:title>
</cp:coreProperties>
</file>