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ct" ContentType="image/x-pict"/>
  <Override PartName="/ppt/media/image4.png" ContentType="image/png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01B0-E7D2-4034-86BD-56F9B8C5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now going to focus on dynamical downscaling using a particular model known as the WRF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picking on WRF because that’s the model I’m most familiar with, but you should be aware that there are a number of other models out there that can be used for dynamical downsc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pick the best physics for your particular application (more options being added each ye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ojection are often are provided by the ensemble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any models available also helps in assessing the robustness of various parts of a proj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ospective analyses:  Use datasets such as NCEP FNLs which are available for about the last 30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mprove understanding of recently observed changes on federal lan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est predictive mod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hing to keep in mind is that WRF is primarily an atmospher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ir temperature &amp; precip may be interesting, it may be that what you want is something else (thawing degree days, …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us, the real utility of WRF is in using to drive Landscape Change models, ecosystem change mode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C8A-C6A6-4FE5-AE38-9DD2FF0E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C32-0900-41F9-8725-17F9BF25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7CB-5D79-4102-9344-3488FEE7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95A-328F-4D27-8AC7-D904CBC7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47F-10BA-4351-9E38-6106EE52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DF4-D036-4C36-B711-5327608F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5AB-C310-47F1-802D-ED5EBF92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74B-6AC2-4B3E-BE7E-591DC1BF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3F4-2947-4AEA-8A41-1FB5AB44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8B9-C909-4F3D-A4CF-2DF25735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D2E-5DEE-4376-AAD8-40D27EE6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E84-7879-4A49-8486-BA1D0F9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C139-41FD-4580-94A2-F05A04ACA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24160" y="838080"/>
            <a:ext cx="4495680" cy="1501200"/>
          </a:xfrm>
          <a:prstGeom prst="rect">
            <a:avLst/>
          </a:prstGeom>
          <a:solidFill>
            <a:srgbClr val="e2e2e2">
              <a:alpha val="7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neva"/>
              </a:rPr>
              <a:t>High-Resolution Atmospheric Modeling using W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33360" cy="45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720" y="35211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ff"/>
                </a:solidFill>
                <a:latin typeface="Arial"/>
              </a:rPr>
              <a:t>Surface Press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4920" y="281952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ff"/>
                </a:solidFill>
                <a:latin typeface="Arial"/>
              </a:rPr>
              <a:t>Wind Sp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2004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ff"/>
                </a:solidFill>
                <a:latin typeface="Arial"/>
              </a:rPr>
              <a:t>Wind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6324480"/>
            <a:ext cx="2590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54920" y="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8551" t="13951" r="11792" b="7469"/>
          <a:stretch/>
        </p:blipFill>
        <p:spPr>
          <a:xfrm>
            <a:off x="0" y="3701880"/>
            <a:ext cx="3154320" cy="3111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8551" t="13951" r="10710" b="7469"/>
          <a:stretch/>
        </p:blipFill>
        <p:spPr>
          <a:xfrm>
            <a:off x="3016080" y="3376440"/>
            <a:ext cx="3191040" cy="310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8551" t="13951" r="10710" b="7469"/>
          <a:stretch/>
        </p:blipFill>
        <p:spPr>
          <a:xfrm>
            <a:off x="6049800" y="301788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34440" y="6248520"/>
            <a:ext cx="20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ary C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USGS - Earth Surface Dynam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5616" r="1539" b="0"/>
          <a:stretch/>
        </p:blipFill>
        <p:spPr>
          <a:xfrm>
            <a:off x="-685800" y="611280"/>
            <a:ext cx="4113360" cy="40482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2821320" y="29844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0" t="5363" r="738" b="0"/>
          <a:stretch/>
        </p:blipFill>
        <p:spPr>
          <a:xfrm>
            <a:off x="1371600" y="1523880"/>
            <a:ext cx="4113360" cy="3787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878360" y="12193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10400" y="15228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RF Resolution for Mojave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5616" r="1539" b="0"/>
          <a:stretch/>
        </p:blipFill>
        <p:spPr>
          <a:xfrm>
            <a:off x="-685800" y="611280"/>
            <a:ext cx="4113360" cy="40482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2821320" y="29844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0" t="5363" r="738" b="0"/>
          <a:stretch/>
        </p:blipFill>
        <p:spPr>
          <a:xfrm>
            <a:off x="1371600" y="1523880"/>
            <a:ext cx="4113360" cy="3787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4878360" y="12193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rcRect l="0" t="4653" r="507" b="0"/>
          <a:stretch/>
        </p:blipFill>
        <p:spPr>
          <a:xfrm>
            <a:off x="3354480" y="2111400"/>
            <a:ext cx="4113000" cy="4065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6554520" y="1797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10400" y="15228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RF Resolution for Mojave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5616" r="1539" b="0"/>
          <a:stretch/>
        </p:blipFill>
        <p:spPr>
          <a:xfrm>
            <a:off x="-685800" y="609480"/>
            <a:ext cx="4113360" cy="40482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2821320" y="29844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0" t="5363" r="738" b="0"/>
          <a:stretch/>
        </p:blipFill>
        <p:spPr>
          <a:xfrm>
            <a:off x="1371600" y="1523880"/>
            <a:ext cx="4113360" cy="3787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4878360" y="12193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rcRect l="0" t="4653" r="507" b="0"/>
          <a:stretch/>
        </p:blipFill>
        <p:spPr>
          <a:xfrm>
            <a:off x="3354480" y="2111400"/>
            <a:ext cx="4113000" cy="4065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6554520" y="1797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rcRect l="0" t="5622" r="590" b="0"/>
          <a:stretch/>
        </p:blipFill>
        <p:spPr>
          <a:xfrm>
            <a:off x="5815080" y="2744640"/>
            <a:ext cx="3336840" cy="4113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8491320" y="24224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0400" y="15228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RF Resolution for Mojave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560" y="480960"/>
            <a:ext cx="2201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neva"/>
              </a:rPr>
              <a:t>What is WR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440" y="998640"/>
            <a:ext cx="191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954920" y="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11860" r="0" b="4765"/>
          <a:stretch/>
        </p:blipFill>
        <p:spPr>
          <a:xfrm>
            <a:off x="5867280" y="4083120"/>
            <a:ext cx="3198960" cy="266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4120" y="1371600"/>
            <a:ext cx="81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-generation mesoscale Weather Research &amp; Forecas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7080" y="2171880"/>
            <a:ext cx="67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odel: 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NCAR, NOAA, AFWA, NRL, FAA, univers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840" y="2971800"/>
            <a:ext cx="791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ompressible nonhydrostat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designed for use at scales ranging from meters to 1000s of kilometer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3120" y="413712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a wide rang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1320" y="4937040"/>
            <a:ext cx="41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ud-resolving when dx &lt; 1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6440" y="41112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neva"/>
              </a:rPr>
              <a:t>WRF Output and Diagnostic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3080" y="934920"/>
            <a:ext cx="49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5120" y="1143000"/>
            <a:ext cx="30852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il mois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ow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 dewpoint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 frost point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 sh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ble heat fl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nt heat fl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 relative hum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2600" y="4251240"/>
            <a:ext cx="23659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ir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es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 speed &amp;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vort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vective ins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ater vapor d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143000"/>
            <a:ext cx="38862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ecip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ecip. type (rain, graupel, s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nvective vs. non-convective prec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lumn-integrated cloud liquid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oud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oud water mixing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oud ice mixing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oud cei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loud-top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5400" t="30874" r="7469" b="23489"/>
          <a:stretch/>
        </p:blipFill>
        <p:spPr>
          <a:xfrm>
            <a:off x="4421160" y="4464000"/>
            <a:ext cx="4570560" cy="239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1160" y="452916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 cover (Arctic Alask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15800" y="455760"/>
            <a:ext cx="3320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neva"/>
              </a:rPr>
              <a:t>WRF Physics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200" y="990720"/>
            <a:ext cx="30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3440" y="126216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wave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0320" y="164448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RTM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GFDL, CCSM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2720" y="21528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wave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1040" y="252720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udhia,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Goddard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GFDL, CCSM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2720" y="393372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 Parame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7080" y="4295880"/>
            <a:ext cx="45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ain-Fritsch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Betts-Miller-Janjic, Grell-Devenv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280" y="3043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Micro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9600" y="3411360"/>
            <a:ext cx="69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Kessler; Lin et al.; NCEP; WSM 3,5,6 class; Ferrier; Thompson;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orrison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2360" y="482436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tary Boundar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8880" y="5180040"/>
            <a:ext cx="34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YSU, Mellor-Yamada-Janjic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MR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2000" y="57150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 Surfa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8880" y="6064200"/>
            <a:ext cx="72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5 slab soil model, RUC LSM,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ah LSM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Urban Canopy model, CLM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(2008/9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943600" y="152280"/>
            <a:ext cx="3043080" cy="2283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02160" y="219708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D. Law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778560" y="339840"/>
            <a:ext cx="14349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neva"/>
              </a:rPr>
              <a:t>2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558" t="11870" r="10312" b="7105"/>
          <a:stretch/>
        </p:blipFill>
        <p:spPr>
          <a:xfrm>
            <a:off x="533520" y="2139840"/>
            <a:ext cx="3473280" cy="319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12170" r="50030" b="52690"/>
          <a:stretch/>
        </p:blipFill>
        <p:spPr>
          <a:xfrm rot="16200000">
            <a:off x="5176800" y="2160000"/>
            <a:ext cx="2979720" cy="307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975920" y="1295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Future Climate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8160" y="1285920"/>
            <a:ext cx="33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Retrospectiv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080" y="561672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 WRF within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-scale cir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60280" y="5616720"/>
            <a:ext cx="41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 WRF within large-scale cir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y an AOG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40320" y="20955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OG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3063600">
            <a:off x="5379480" y="3711240"/>
            <a:ext cx="993960" cy="87948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3733920"/>
            <a:ext cx="990360" cy="99036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91040" y="1924200"/>
            <a:ext cx="1298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10-250 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44520" y="1933560"/>
            <a:ext cx="1149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CEP FN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2333520"/>
            <a:ext cx="12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50-300 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619600" y="4952520"/>
            <a:ext cx="95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676520" y="4800600"/>
            <a:ext cx="2286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228600" y="0"/>
            <a:ext cx="9372600" cy="6858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93760" y="843120"/>
            <a:ext cx="12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0-30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crosc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4497480"/>
            <a:ext cx="2724120" cy="18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947600" y="1411920"/>
            <a:ext cx="356760" cy="1270440"/>
          </a:xfrm>
          <a:prstGeom prst="line">
            <a:avLst/>
          </a:prstGeom>
          <a:ln w="57240">
            <a:solidFill>
              <a:srgbClr val="404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762120"/>
            <a:ext cx="3198960" cy="685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neva"/>
              </a:rPr>
              <a:t>NCEP/FNLs  or  AOG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2640" y="2708280"/>
            <a:ext cx="3505320" cy="838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neva"/>
              </a:rPr>
              <a:t>W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Geneva"/>
              </a:rPr>
              <a:t>(primarily an atmospheric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808520"/>
            <a:ext cx="3327480" cy="990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neva"/>
              </a:rPr>
              <a:t>Landscape Chang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neva"/>
              </a:rPr>
              <a:t>Ecosystem Chang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551040"/>
            <a:ext cx="333720" cy="1245240"/>
          </a:xfrm>
          <a:prstGeom prst="line">
            <a:avLst/>
          </a:prstGeom>
          <a:ln w="5724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7240" y="291924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1 - 10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>
            <a:lum contrast="10000"/>
          </a:blip>
          <a:srcRect l="0" t="5195" r="25516" b="67708"/>
          <a:stretch/>
        </p:blipFill>
        <p:spPr>
          <a:xfrm>
            <a:off x="5334120" y="152280"/>
            <a:ext cx="348588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5596" r="0" b="16162"/>
          <a:stretch/>
        </p:blipFill>
        <p:spPr>
          <a:xfrm>
            <a:off x="5792760" y="2133720"/>
            <a:ext cx="2568600" cy="21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954600" y="309600"/>
            <a:ext cx="4808520" cy="548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1558" t="11870" r="10312" b="7105"/>
          <a:stretch/>
        </p:blipFill>
        <p:spPr>
          <a:xfrm>
            <a:off x="-4680" y="3489480"/>
            <a:ext cx="3473280" cy="3193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55000" y="289548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CEP FN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457200"/>
            <a:ext cx="33526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762120"/>
            <a:ext cx="113508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23000" y="554040"/>
            <a:ext cx="91440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7920" y="322200"/>
            <a:ext cx="66672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7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09680" y="480960"/>
            <a:ext cx="5677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9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55760" y="601560"/>
            <a:ext cx="5677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70320" y="793800"/>
            <a:ext cx="5677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523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99080" y="979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32480" y="8301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307656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10160" y="316224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10 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10400" y="15228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RF Resolution for Mojave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5616" r="1539" b="0"/>
          <a:stretch/>
        </p:blipFill>
        <p:spPr>
          <a:xfrm>
            <a:off x="-685800" y="611280"/>
            <a:ext cx="4113360" cy="404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2821320" y="29844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02720" y="28195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440" y="28908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5616" r="1539" b="0"/>
          <a:stretch/>
        </p:blipFill>
        <p:spPr>
          <a:xfrm>
            <a:off x="-685800" y="611280"/>
            <a:ext cx="4113360" cy="40482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2821320" y="29844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7794" t="9087" r="15875" b="7232"/>
          <a:stretch/>
        </p:blipFill>
        <p:spPr>
          <a:xfrm>
            <a:off x="5183280" y="1060560"/>
            <a:ext cx="2925720" cy="274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81080" y="77004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CM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9760" y="34369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6440" y="28908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6:07:57Z</dcterms:created>
  <dc:creator>Gary Clow</dc:creator>
  <dc:description/>
  <dc:language>en-US</dc:language>
  <cp:lastModifiedBy>Gary Clow</cp:lastModifiedBy>
  <dcterms:modified xsi:type="dcterms:W3CDTF">2009-10-26T20:34:24Z</dcterms:modified>
  <cp:revision>87</cp:revision>
  <dc:subject/>
  <dc:title>PowerPoint Presentation</dc:title>
</cp:coreProperties>
</file>