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882880" y="1490760"/>
            <a:ext cx="2228760" cy="27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1733400" y="4536720"/>
            <a:ext cx="453096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882880" y="1490760"/>
            <a:ext cx="2228760" cy="27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1733400" y="4536720"/>
            <a:ext cx="453096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800440" y="1582560"/>
            <a:ext cx="216828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1687680" y="4822560"/>
            <a:ext cx="440352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2882880" y="1490760"/>
            <a:ext cx="2228760" cy="27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1733400" y="4536720"/>
            <a:ext cx="453096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937116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4455720"/>
            <a:ext cx="937116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2560" y="129528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445572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2560" y="445572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01716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8880" y="1295280"/>
            <a:ext cx="301716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7240" y="1295280"/>
            <a:ext cx="301716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4455720"/>
            <a:ext cx="301716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8880" y="4455720"/>
            <a:ext cx="301716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7240" y="4455720"/>
            <a:ext cx="301716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57308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2560" y="1295280"/>
            <a:ext cx="457308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69880" y="228240"/>
            <a:ext cx="797904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2560" y="1295280"/>
            <a:ext cx="457308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445572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57308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2560" y="129528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2560" y="445572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2560" y="1295280"/>
            <a:ext cx="457308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4455720"/>
            <a:ext cx="9371160" cy="28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380880" y="762120"/>
            <a:ext cx="9345600" cy="14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69880" y="22824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152280" y="0"/>
            <a:ext cx="9753840" cy="762012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28600" y="338040"/>
            <a:ext cx="922032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Luxi Sans"/>
              </a:rPr>
              <a:t>Tutorial on Large-Eddy Simulation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Senthil Radhakrishnan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University of California Santa Barbara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xi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228600" y="228600"/>
            <a:ext cx="9524880" cy="7238880"/>
          </a:xfrm>
          <a:prstGeom prst="roundRect">
            <a:avLst>
              <a:gd name="adj" fmla="val 23"/>
            </a:avLst>
          </a:prstGeom>
          <a:noFill/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Bitstream Vera Sans"/>
              </a:rPr>
              <a:t>Alternative for high-</a:t>
            </a:r>
            <a:r>
              <a:rPr b="0" i="1" lang="en-GB" sz="21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GB" sz="2100" spc="-1" strike="noStrike">
                <a:solidFill>
                  <a:srgbClr val="000000"/>
                </a:solidFill>
                <a:latin typeface="Bitstream Vera Sans"/>
              </a:rPr>
              <a:t> applications:</a:t>
            </a:r>
            <a:endParaRPr b="0" lang="en-US" sz="21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ypass the wall lay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l its effects in an </a:t>
            </a:r>
            <a:r>
              <a:rPr b="0" lang="en-GB" sz="1800" spc="-1" strike="noStrike">
                <a:solidFill>
                  <a:srgbClr val="ff0000"/>
                </a:solidFill>
                <a:latin typeface="Bitstream Vera Sans"/>
              </a:rPr>
              <a:t>averag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en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Grid is so coarse that it contains a very larg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) number of near-wall edd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e time-step is much larger than the near-wall-eddy timesca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887480" y="4203720"/>
            <a:ext cx="6264360" cy="3568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95280" y="7596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itstream Vera Sans"/>
              </a:rPr>
              <a:t>Wall-layer modeled LES (WMLES)</a:t>
            </a:r>
            <a:endParaRPr b="1" i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Bitstream Vera Sans"/>
              </a:rPr>
              <a:t>Alternative for high-</a:t>
            </a:r>
            <a:r>
              <a:rPr b="0" i="1" lang="en-GB" sz="21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GB" sz="2100" spc="-1" strike="noStrike">
                <a:solidFill>
                  <a:srgbClr val="000000"/>
                </a:solidFill>
                <a:latin typeface="Bitstream Vera Sans"/>
              </a:rPr>
              <a:t> applications:</a:t>
            </a:r>
            <a:endParaRPr b="0" lang="en-US" sz="21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ypass the wall lay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l its effects in an </a:t>
            </a:r>
            <a:r>
              <a:rPr b="0" lang="en-GB" sz="1800" spc="-1" strike="noStrike">
                <a:solidFill>
                  <a:srgbClr val="ff0000"/>
                </a:solidFill>
                <a:latin typeface="Bitstream Vera Sans"/>
              </a:rPr>
              <a:t>averag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en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Grid is so coarse that it contains a very larg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) number of near-wall eddi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e time-step is much larger than the near-wall-eddy timescal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531720" y="5481720"/>
            <a:ext cx="8976600" cy="1331640"/>
            <a:chOff x="531720" y="5481720"/>
            <a:chExt cx="8976600" cy="1331640"/>
          </a:xfrm>
        </p:grpSpPr>
        <p:grpSp>
          <p:nvGrpSpPr>
            <p:cNvPr id="189" name="Group 5"/>
            <p:cNvGrpSpPr/>
            <p:nvPr/>
          </p:nvGrpSpPr>
          <p:grpSpPr>
            <a:xfrm>
              <a:off x="808920" y="5481720"/>
              <a:ext cx="8699400" cy="1284120"/>
              <a:chOff x="808920" y="5481720"/>
              <a:chExt cx="8699400" cy="1284120"/>
            </a:xfrm>
          </p:grpSpPr>
          <p:sp>
            <p:nvSpPr>
              <p:cNvPr id="190" name="Text Box 6"/>
              <p:cNvSpPr/>
              <p:nvPr/>
            </p:nvSpPr>
            <p:spPr>
              <a:xfrm>
                <a:off x="1656720" y="5481720"/>
                <a:ext cx="78516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The average effect of the near-wall eddies on the momentum transport can be accounted through RANS-like models</a:t>
                </a:r>
                <a:endParaRPr b="0" lang="en-US" sz="2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91" name="Text Box 7"/>
              <p:cNvSpPr/>
              <p:nvPr/>
            </p:nvSpPr>
            <p:spPr>
              <a:xfrm>
                <a:off x="808920" y="5889600"/>
                <a:ext cx="46404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</a:t>
                </a:r>
                <a:endParaRPr b="0" lang="en-US" sz="2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sp>
          <p:nvSpPr>
            <p:cNvPr id="192" name="Rectangle 8"/>
            <p:cNvSpPr/>
            <p:nvPr/>
          </p:nvSpPr>
          <p:spPr>
            <a:xfrm>
              <a:off x="531720" y="5481720"/>
              <a:ext cx="8824680" cy="1331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93" name="Rectangle 9"/>
          <p:cNvSpPr/>
          <p:nvPr/>
        </p:nvSpPr>
        <p:spPr>
          <a:xfrm>
            <a:off x="6939000" y="4376880"/>
            <a:ext cx="183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95280" y="7596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itstream Vera Sans"/>
              </a:rPr>
              <a:t>Wall-layer modeled LES (WMLES)</a:t>
            </a:r>
            <a:endParaRPr b="1" i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ES_cost"/>
          <p:cNvPicPr/>
          <p:nvPr/>
        </p:nvPicPr>
        <p:blipFill>
          <a:blip r:embed="rId1"/>
          <a:stretch/>
        </p:blipFill>
        <p:spPr>
          <a:xfrm>
            <a:off x="60480" y="1947960"/>
            <a:ext cx="9693000" cy="4986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8443800" y="2897280"/>
            <a:ext cx="836640" cy="18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3521160" y="1143000"/>
            <a:ext cx="3457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Piomelli (2008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9786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itstream Vera Sans"/>
              </a:rPr>
              <a:t>Cost: LES of wall-bounded flows</a:t>
            </a:r>
            <a:r>
              <a:rPr b="1" i="1" lang="en-GB" sz="3200" spc="-1" strike="noStrike">
                <a:solidFill>
                  <a:srgbClr val="587467"/>
                </a:solidFill>
                <a:latin typeface="BlairMdITC TT-Medium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Various techniques: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quilibrium stress layer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Assume a velocity profile (logarithmic law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Given the outer-flow velocity          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use the assumed profil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ompute the wall stress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939000" y="4376880"/>
            <a:ext cx="183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1" name="Picture 5" descr="Picture 2"/>
          <p:cNvPicPr/>
          <p:nvPr/>
        </p:nvPicPr>
        <p:blipFill>
          <a:blip r:embed="rId1"/>
          <a:stretch/>
        </p:blipFill>
        <p:spPr>
          <a:xfrm>
            <a:off x="1905120" y="2414520"/>
            <a:ext cx="3879720" cy="862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Picture 2"/>
          <p:cNvPicPr/>
          <p:nvPr/>
        </p:nvPicPr>
        <p:blipFill>
          <a:blip r:embed="rId2"/>
          <a:srcRect l="0" t="0" r="83545" b="0"/>
          <a:stretch/>
        </p:blipFill>
        <p:spPr>
          <a:xfrm>
            <a:off x="4572000" y="3328920"/>
            <a:ext cx="638280" cy="862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latex-image-1"/>
          <p:cNvPicPr/>
          <p:nvPr/>
        </p:nvPicPr>
        <p:blipFill>
          <a:blip r:embed="rId3"/>
          <a:stretch/>
        </p:blipFill>
        <p:spPr>
          <a:xfrm>
            <a:off x="4191120" y="4002120"/>
            <a:ext cx="1101600" cy="341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wmles-1"/>
          <p:cNvPicPr/>
          <p:nvPr/>
        </p:nvPicPr>
        <p:blipFill>
          <a:blip r:embed="rId4"/>
          <a:stretch/>
        </p:blipFill>
        <p:spPr>
          <a:xfrm>
            <a:off x="5400720" y="4684680"/>
            <a:ext cx="4657680" cy="3087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95280" y="7596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itstream Vera Sans"/>
              </a:rPr>
              <a:t>Wall-layer modeled LES (WMLES)</a:t>
            </a:r>
            <a:endParaRPr b="1" i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786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itstream Vera Sans"/>
              </a:rPr>
              <a:t>Sub-grid stresses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07" name="Picture 7" descr="tau_ij.png"/>
          <p:cNvPicPr/>
          <p:nvPr/>
        </p:nvPicPr>
        <p:blipFill>
          <a:blip r:embed="rId1"/>
          <a:stretch/>
        </p:blipFill>
        <p:spPr>
          <a:xfrm>
            <a:off x="3048120" y="1523880"/>
            <a:ext cx="3886200" cy="784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tau_ij_modeled.png"/>
          <p:cNvPicPr/>
          <p:nvPr/>
        </p:nvPicPr>
        <p:blipFill>
          <a:blip r:embed="rId2"/>
          <a:stretch/>
        </p:blipFill>
        <p:spPr>
          <a:xfrm>
            <a:off x="3200400" y="2743200"/>
            <a:ext cx="4114800" cy="248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02760" y="1071720"/>
            <a:ext cx="297432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ub-grid stresses: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-7200" y="2367000"/>
            <a:ext cx="767268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Eddy viscosity based model of sub-grid stresses: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1" name="Picture 12" descr="eddy_viscosity.png"/>
          <p:cNvPicPr/>
          <p:nvPr/>
        </p:nvPicPr>
        <p:blipFill>
          <a:blip r:embed="rId3"/>
          <a:stretch/>
        </p:blipFill>
        <p:spPr>
          <a:xfrm>
            <a:off x="3276720" y="5651640"/>
            <a:ext cx="2743200" cy="7491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3"/>
          <p:cNvSpPr/>
          <p:nvPr/>
        </p:nvSpPr>
        <p:spPr>
          <a:xfrm>
            <a:off x="351720" y="5110200"/>
            <a:ext cx="33368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magorinsky model: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3" name="Picture 14" descr="strain_rate.png"/>
          <p:cNvPicPr/>
          <p:nvPr/>
        </p:nvPicPr>
        <p:blipFill>
          <a:blip r:embed="rId4"/>
          <a:stretch/>
        </p:blipFill>
        <p:spPr>
          <a:xfrm>
            <a:off x="3276720" y="6502320"/>
            <a:ext cx="2743200" cy="8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786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itstream Vera Sans"/>
              </a:rPr>
              <a:t>Sub-grid stresses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15" name="Picture 12" descr="eddy_viscosity.png"/>
          <p:cNvPicPr/>
          <p:nvPr/>
        </p:nvPicPr>
        <p:blipFill>
          <a:blip r:embed="rId1"/>
          <a:stretch/>
        </p:blipFill>
        <p:spPr>
          <a:xfrm>
            <a:off x="3505320" y="1219320"/>
            <a:ext cx="2743200" cy="7491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3"/>
          <p:cNvSpPr/>
          <p:nvPr/>
        </p:nvSpPr>
        <p:spPr>
          <a:xfrm>
            <a:off x="46800" y="838080"/>
            <a:ext cx="33368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magorinsky model: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0" y="2057400"/>
            <a:ext cx="1006632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Length scale = filter width which is proportional to grid spacing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onstant model coefficien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itstream Vera Serif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 does not work well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alculate coefficient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itstream Vera Serif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) using Germano et al. (1991) dynamic method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8" name="Picture 3" descr="energy_spectra_dynamic_model.png"/>
          <p:cNvPicPr/>
          <p:nvPr/>
        </p:nvPicPr>
        <p:blipFill>
          <a:blip r:embed="rId2"/>
          <a:stretch/>
        </p:blipFill>
        <p:spPr>
          <a:xfrm>
            <a:off x="5257800" y="4419720"/>
            <a:ext cx="4660920" cy="3073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energy_spectra.png"/>
          <p:cNvPicPr/>
          <p:nvPr/>
        </p:nvPicPr>
        <p:blipFill>
          <a:blip r:embed="rId3"/>
          <a:stretch/>
        </p:blipFill>
        <p:spPr>
          <a:xfrm>
            <a:off x="304920" y="4191120"/>
            <a:ext cx="45781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69880" y="7596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itstream Vera Sans"/>
              </a:rPr>
              <a:t>Grid convergence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0" y="1986120"/>
            <a:ext cx="7315200" cy="5557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380880" y="838080"/>
            <a:ext cx="807732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C.-H. Moeng, J.Dudhia, J. Klemp, and P. Sullivan (2007) 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Planetary boundary layer simulation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7133760" y="1981080"/>
            <a:ext cx="3109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Coarse grid spacing: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150m X150m X 20m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258680" y="4724280"/>
            <a:ext cx="2786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Fine grid spacing: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50m X 50m X 20m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69880" y="7596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itstream Vera Sans"/>
              </a:rPr>
              <a:t>Grid convergence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26" name="Picture 3" descr="energy_spectra.png"/>
          <p:cNvPicPr/>
          <p:nvPr/>
        </p:nvPicPr>
        <p:blipFill>
          <a:blip r:embed="rId1"/>
          <a:stretch/>
        </p:blipFill>
        <p:spPr>
          <a:xfrm>
            <a:off x="1600200" y="1447920"/>
            <a:ext cx="548640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82440"/>
            <a:ext cx="7979040" cy="6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itstream Vera Sans"/>
              </a:rPr>
              <a:t>Channel flow: Synthetic turbulence at the LES inlet</a:t>
            </a:r>
            <a:endParaRPr b="1" i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3100320" y="1162080"/>
            <a:ext cx="6178680" cy="642312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4"/>
          <p:cNvGrpSpPr/>
          <p:nvPr/>
        </p:nvGrpSpPr>
        <p:grpSpPr>
          <a:xfrm>
            <a:off x="7362000" y="5952960"/>
            <a:ext cx="1865520" cy="564840"/>
            <a:chOff x="7362000" y="5952960"/>
            <a:chExt cx="1865520" cy="564840"/>
          </a:xfrm>
        </p:grpSpPr>
        <p:sp>
          <p:nvSpPr>
            <p:cNvPr id="230" name="AutoShape 5"/>
            <p:cNvSpPr/>
            <p:nvPr/>
          </p:nvSpPr>
          <p:spPr>
            <a:xfrm>
              <a:off x="7507080" y="5952960"/>
              <a:ext cx="164520" cy="564840"/>
            </a:xfrm>
            <a:custGeom>
              <a:avLst/>
              <a:gdLst/>
              <a:ahLst/>
              <a:rect l="l" t="t" r="r" b="b"/>
              <a:pathLst>
                <a:path w="21600" h="74044">
                  <a:moveTo>
                    <a:pt x="75" y="0"/>
                  </a:moveTo>
                  <a:arcTo wR="75" hR="75" stAng="16200000" swAng="-5400000"/>
                  <a:lnTo>
                    <a:pt x="0" y="73969"/>
                  </a:lnTo>
                  <a:arcTo wR="75" hR="75" stAng="10800000" swAng="-5400000"/>
                  <a:lnTo>
                    <a:pt x="21525" y="74044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231" name="Group 6"/>
            <p:cNvGrpSpPr/>
            <p:nvPr/>
          </p:nvGrpSpPr>
          <p:grpSpPr>
            <a:xfrm>
              <a:off x="7362000" y="5952960"/>
              <a:ext cx="1865520" cy="564480"/>
              <a:chOff x="7362000" y="5952960"/>
              <a:chExt cx="1865520" cy="564480"/>
            </a:xfrm>
          </p:grpSpPr>
          <p:sp>
            <p:nvSpPr>
              <p:cNvPr id="232" name="AutoShape 7"/>
              <p:cNvSpPr/>
              <p:nvPr/>
            </p:nvSpPr>
            <p:spPr>
              <a:xfrm>
                <a:off x="7507080" y="5952960"/>
                <a:ext cx="164520" cy="564480"/>
              </a:xfrm>
              <a:custGeom>
                <a:avLst/>
                <a:gdLst/>
                <a:ahLst/>
                <a:rect l="l" t="t" r="r" b="b"/>
                <a:pathLst>
                  <a:path w="21600" h="73997">
                    <a:moveTo>
                      <a:pt x="75" y="0"/>
                    </a:moveTo>
                    <a:arcTo wR="75" hR="75" stAng="16200000" swAng="-5400000"/>
                    <a:lnTo>
                      <a:pt x="0" y="73922"/>
                    </a:lnTo>
                    <a:arcTo wR="75" hR="75" stAng="10800000" swAng="-5400000"/>
                    <a:lnTo>
                      <a:pt x="21525" y="73997"/>
                    </a:lnTo>
                    <a:arcTo wR="75" hR="75" stAng="5400000" swAng="-5400000"/>
                    <a:lnTo>
                      <a:pt x="21600" y="75"/>
                    </a:lnTo>
                    <a:arcTo wR="75" hR="7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2480" bIns="4248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233" name="AutoShape 8"/>
              <p:cNvSpPr/>
              <p:nvPr/>
            </p:nvSpPr>
            <p:spPr>
              <a:xfrm>
                <a:off x="7362000" y="5952960"/>
                <a:ext cx="1865520" cy="4399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2480" bIns="4248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60440"/>
                    <a:tab algn="l" pos="923760"/>
                    <a:tab algn="l" pos="1386000"/>
                    <a:tab algn="l" pos="1847880"/>
                    <a:tab algn="l" pos="2309760"/>
                    <a:tab algn="l" pos="2773440"/>
                    <a:tab algn="l" pos="3233880"/>
                    <a:tab algn="l" pos="3695760"/>
                    <a:tab algn="l" pos="4157640"/>
                    <a:tab algn="l" pos="4621320"/>
                    <a:tab algn="l" pos="5083200"/>
                    <a:tab algn="l" pos="5545080"/>
                    <a:tab algn="l" pos="6006960"/>
                    <a:tab algn="l" pos="6469200"/>
                    <a:tab algn="l" pos="6931080"/>
                    <a:tab algn="l" pos="7392960"/>
                    <a:tab algn="l" pos="7856640"/>
                    <a:tab algn="l" pos="8318520"/>
                    <a:tab algn="l" pos="8778960"/>
                    <a:tab algn="l" pos="9240840"/>
                    <a:tab algn="l" pos="10163160"/>
                  </a:tabLst>
                </a:pPr>
                <a:r>
                  <a:rPr b="0" lang="en-GB" sz="2500" spc="-1" strike="noStrike">
                    <a:solidFill>
                      <a:srgbClr val="000000"/>
                    </a:solidFill>
                    <a:latin typeface="Bitstream Vera Serif"/>
                  </a:rPr>
                  <a:t>Controlled</a:t>
                </a:r>
                <a:endParaRPr b="0" lang="en-US" sz="25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sp>
        <p:nvSpPr>
          <p:cNvPr id="234" name="Freeform 9"/>
          <p:cNvSpPr/>
          <p:nvPr/>
        </p:nvSpPr>
        <p:spPr>
          <a:xfrm>
            <a:off x="5021280" y="1095480"/>
            <a:ext cx="4665600" cy="6657840"/>
          </a:xfrm>
          <a:custGeom>
            <a:avLst/>
            <a:gdLst>
              <a:gd name="textAreaLeft" fmla="*/ 0 w 4665600"/>
              <a:gd name="textAreaRight" fmla="*/ 4665960 w 4665600"/>
              <a:gd name="textAreaTop" fmla="*/ 0 h 6657840"/>
              <a:gd name="textAreaBottom" fmla="*/ 6658200 h 6657840"/>
            </a:gdLst>
            <a:ahLst/>
            <a:rect l="textAreaLeft" t="textAreaTop" r="textAreaRight" b="textAreaBottom"/>
            <a:pathLst>
              <a:path w="2944" h="4080">
                <a:moveTo>
                  <a:pt x="1296" y="0"/>
                </a:moveTo>
                <a:lnTo>
                  <a:pt x="0" y="4080"/>
                </a:lnTo>
                <a:cubicBezTo>
                  <a:pt x="981" y="4077"/>
                  <a:pt x="1962" y="4074"/>
                  <a:pt x="2944" y="4072"/>
                </a:cubicBezTo>
                <a:lnTo>
                  <a:pt x="2928" y="0"/>
                </a:lnTo>
                <a:lnTo>
                  <a:pt x="144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83960" y="2133720"/>
            <a:ext cx="45057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Keating and Piomelli (2004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96375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07960"/>
                <a:tab algn="l" pos="1017720"/>
                <a:tab algn="l" pos="1527120"/>
                <a:tab algn="l" pos="2036880"/>
                <a:tab algn="l" pos="2546280"/>
                <a:tab algn="l" pos="3056040"/>
                <a:tab algn="l" pos="3565440"/>
                <a:tab algn="l" pos="4075200"/>
                <a:tab algn="l" pos="4584600"/>
                <a:tab algn="l" pos="5092560"/>
                <a:tab algn="l" pos="5602320"/>
                <a:tab algn="l" pos="6111720"/>
                <a:tab algn="l" pos="6621480"/>
                <a:tab algn="l" pos="7130880"/>
                <a:tab algn="l" pos="7640640"/>
                <a:tab algn="l" pos="8150400"/>
                <a:tab algn="l" pos="8659800"/>
                <a:tab algn="l" pos="9169560"/>
                <a:tab algn="l" pos="9677520"/>
                <a:tab algn="l" pos="1018692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Bitstream Vera Sans"/>
              </a:rPr>
              <a:t>Channel flow: </a:t>
            </a:r>
            <a:r>
              <a:rPr b="1" i="1" lang="en-US" sz="2000" spc="-1" strike="noStrike">
                <a:solidFill>
                  <a:srgbClr val="000000"/>
                </a:solidFill>
                <a:latin typeface="Bitstream Vera Sans"/>
              </a:rPr>
              <a:t>Synthetic turbulence at the LES inlet</a:t>
            </a:r>
            <a:endParaRPr b="1" i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3120" y="1332000"/>
            <a:ext cx="47260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6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04720"/>
                <a:tab algn="l" pos="1014480"/>
                <a:tab algn="l" pos="1523880"/>
                <a:tab algn="l" pos="2033640"/>
                <a:tab algn="l" pos="2543040"/>
                <a:tab algn="l" pos="3052800"/>
                <a:tab algn="l" pos="3560760"/>
                <a:tab algn="l" pos="4070520"/>
                <a:tab algn="l" pos="4579920"/>
                <a:tab algn="l" pos="5089680"/>
                <a:tab algn="l" pos="5599080"/>
                <a:tab algn="l" pos="6108840"/>
                <a:tab algn="l" pos="6618240"/>
                <a:tab algn="l" pos="7128000"/>
                <a:tab algn="l" pos="7637400"/>
                <a:tab algn="l" pos="8147160"/>
                <a:tab algn="l" pos="8655120"/>
                <a:tab algn="l" pos="9164520"/>
                <a:tab algn="l" pos="9674280"/>
                <a:tab algn="l" pos="1018368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low rapidly loses turbulent kinetic energy and begins to relaminariz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762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504720"/>
                <a:tab algn="l" pos="1014480"/>
                <a:tab algn="l" pos="1523880"/>
                <a:tab algn="l" pos="2033640"/>
                <a:tab algn="l" pos="2543040"/>
                <a:tab algn="l" pos="3052800"/>
                <a:tab algn="l" pos="3560760"/>
                <a:tab algn="l" pos="4070520"/>
                <a:tab algn="l" pos="4579920"/>
                <a:tab algn="l" pos="5089680"/>
                <a:tab algn="l" pos="5599080"/>
                <a:tab algn="l" pos="6108840"/>
                <a:tab algn="l" pos="6618240"/>
                <a:tab algn="l" pos="7128000"/>
                <a:tab algn="l" pos="7637400"/>
                <a:tab algn="l" pos="8147160"/>
                <a:tab algn="l" pos="8655120"/>
                <a:tab algn="l" pos="9164520"/>
                <a:tab algn="l" pos="9674280"/>
                <a:tab algn="l" pos="1018368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ntually, the flow transitions and reaches acceptable turbulence levels 20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wnstream of the inflow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rcRect l="0" t="0" r="0" b="66433"/>
          <a:stretch/>
        </p:blipFill>
        <p:spPr>
          <a:xfrm>
            <a:off x="5256360" y="1501920"/>
            <a:ext cx="4333680" cy="253656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5"/>
          <p:cNvGrpSpPr/>
          <p:nvPr/>
        </p:nvGrpSpPr>
        <p:grpSpPr>
          <a:xfrm>
            <a:off x="6060600" y="1614600"/>
            <a:ext cx="1803240" cy="564840"/>
            <a:chOff x="6060600" y="1614600"/>
            <a:chExt cx="1803240" cy="564840"/>
          </a:xfrm>
        </p:grpSpPr>
        <p:sp>
          <p:nvSpPr>
            <p:cNvPr id="240" name="AutoShape 6"/>
            <p:cNvSpPr/>
            <p:nvPr/>
          </p:nvSpPr>
          <p:spPr>
            <a:xfrm>
              <a:off x="6165360" y="1614600"/>
              <a:ext cx="164880" cy="564840"/>
            </a:xfrm>
            <a:custGeom>
              <a:avLst/>
              <a:gdLst/>
              <a:ahLst/>
              <a:rect l="l" t="t" r="r" b="b"/>
              <a:pathLst>
                <a:path w="21600" h="73882">
                  <a:moveTo>
                    <a:pt x="75" y="0"/>
                  </a:moveTo>
                  <a:arcTo wR="75" hR="75" stAng="16200000" swAng="-5400000"/>
                  <a:lnTo>
                    <a:pt x="0" y="73807"/>
                  </a:lnTo>
                  <a:arcTo wR="75" hR="75" stAng="10800000" swAng="-5400000"/>
                  <a:lnTo>
                    <a:pt x="21525" y="73882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1" name="AutoShape 7"/>
            <p:cNvSpPr/>
            <p:nvPr/>
          </p:nvSpPr>
          <p:spPr>
            <a:xfrm>
              <a:off x="6060600" y="1614600"/>
              <a:ext cx="1803240" cy="4399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60440"/>
                  <a:tab algn="l" pos="923760"/>
                  <a:tab algn="l" pos="1386000"/>
                  <a:tab algn="l" pos="1847880"/>
                  <a:tab algn="l" pos="2309760"/>
                  <a:tab algn="l" pos="2773440"/>
                  <a:tab algn="l" pos="3233880"/>
                  <a:tab algn="l" pos="3695760"/>
                  <a:tab algn="l" pos="4157640"/>
                  <a:tab algn="l" pos="4621320"/>
                  <a:tab algn="l" pos="5083200"/>
                  <a:tab algn="l" pos="5545080"/>
                  <a:tab algn="l" pos="6006960"/>
                  <a:tab algn="l" pos="6469200"/>
                  <a:tab algn="l" pos="6931080"/>
                  <a:tab algn="l" pos="7392960"/>
                  <a:tab algn="l" pos="7856640"/>
                  <a:tab algn="l" pos="8318520"/>
                  <a:tab algn="l" pos="8778960"/>
                  <a:tab algn="l" pos="9240840"/>
                  <a:tab algn="l" pos="10163160"/>
                </a:tabLst>
              </a:pPr>
              <a:r>
                <a:rPr b="0" lang="en-GB" sz="2500" spc="-1" strike="noStrike">
                  <a:solidFill>
                    <a:srgbClr val="ff0000"/>
                  </a:solidFill>
                  <a:latin typeface="Bitstream Vera Serif"/>
                </a:rPr>
                <a:t>Reference</a:t>
              </a:r>
              <a:endParaRPr b="0" lang="en-US" sz="25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42" name="Line 8"/>
          <p:cNvSpPr/>
          <p:nvPr/>
        </p:nvSpPr>
        <p:spPr>
          <a:xfrm flipH="1">
            <a:off x="6699240" y="2004840"/>
            <a:ext cx="76320" cy="314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3" name="Group 9"/>
          <p:cNvGrpSpPr/>
          <p:nvPr/>
        </p:nvGrpSpPr>
        <p:grpSpPr>
          <a:xfrm>
            <a:off x="6343200" y="2631960"/>
            <a:ext cx="1692000" cy="564840"/>
            <a:chOff x="6343200" y="2631960"/>
            <a:chExt cx="1692000" cy="564840"/>
          </a:xfrm>
        </p:grpSpPr>
        <p:sp>
          <p:nvSpPr>
            <p:cNvPr id="244" name="AutoShape 10"/>
            <p:cNvSpPr/>
            <p:nvPr/>
          </p:nvSpPr>
          <p:spPr>
            <a:xfrm>
              <a:off x="6469200" y="2631960"/>
              <a:ext cx="164880" cy="564840"/>
            </a:xfrm>
            <a:custGeom>
              <a:avLst/>
              <a:gdLst/>
              <a:ahLst/>
              <a:rect l="l" t="t" r="r" b="b"/>
              <a:pathLst>
                <a:path w="21600" h="73882">
                  <a:moveTo>
                    <a:pt x="75" y="0"/>
                  </a:moveTo>
                  <a:arcTo wR="75" hR="75" stAng="16200000" swAng="-5400000"/>
                  <a:lnTo>
                    <a:pt x="0" y="73807"/>
                  </a:lnTo>
                  <a:arcTo wR="75" hR="75" stAng="10800000" swAng="-5400000"/>
                  <a:lnTo>
                    <a:pt x="21525" y="73882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5" name="AutoShape 11"/>
            <p:cNvSpPr/>
            <p:nvPr/>
          </p:nvSpPr>
          <p:spPr>
            <a:xfrm>
              <a:off x="6343200" y="2631960"/>
              <a:ext cx="1692000" cy="43992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60440"/>
                  <a:tab algn="l" pos="923760"/>
                  <a:tab algn="l" pos="1386000"/>
                  <a:tab algn="l" pos="1847880"/>
                  <a:tab algn="l" pos="2309760"/>
                  <a:tab algn="l" pos="2773440"/>
                  <a:tab algn="l" pos="3233880"/>
                  <a:tab algn="l" pos="3695760"/>
                  <a:tab algn="l" pos="4157640"/>
                  <a:tab algn="l" pos="4621320"/>
                  <a:tab algn="l" pos="5083200"/>
                  <a:tab algn="l" pos="5545080"/>
                  <a:tab algn="l" pos="6006960"/>
                  <a:tab algn="l" pos="6469200"/>
                  <a:tab algn="l" pos="6931080"/>
                  <a:tab algn="l" pos="7392960"/>
                  <a:tab algn="l" pos="7856640"/>
                  <a:tab algn="l" pos="8318520"/>
                  <a:tab algn="l" pos="8778960"/>
                  <a:tab algn="l" pos="9240840"/>
                  <a:tab algn="l" pos="10163160"/>
                </a:tabLst>
              </a:pPr>
              <a:r>
                <a:rPr b="0" lang="en-GB" sz="2500" spc="-1" strike="noStrike">
                  <a:solidFill>
                    <a:srgbClr val="00cc00"/>
                  </a:solidFill>
                  <a:latin typeface="Bitstream Vera Serif"/>
                </a:rPr>
                <a:t>Synthetic</a:t>
              </a:r>
              <a:endParaRPr b="0" lang="en-US" sz="25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46" name="Line 12"/>
          <p:cNvSpPr/>
          <p:nvPr/>
        </p:nvSpPr>
        <p:spPr>
          <a:xfrm flipH="1">
            <a:off x="6470640" y="3022560"/>
            <a:ext cx="270000" cy="3286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7" name="Group 20"/>
          <p:cNvGrpSpPr/>
          <p:nvPr/>
        </p:nvGrpSpPr>
        <p:grpSpPr>
          <a:xfrm>
            <a:off x="1543680" y="3733920"/>
            <a:ext cx="6076440" cy="4038120"/>
            <a:chOff x="1543680" y="3733920"/>
            <a:chExt cx="6076440" cy="4038120"/>
          </a:xfrm>
        </p:grpSpPr>
        <p:pic>
          <p:nvPicPr>
            <p:cNvPr id="248" name="Picture 21" descr=""/>
            <p:cNvPicPr/>
            <p:nvPr/>
          </p:nvPicPr>
          <p:blipFill>
            <a:blip r:embed="rId2"/>
            <a:srcRect l="0" t="0" r="0" b="66084"/>
            <a:stretch/>
          </p:blipFill>
          <p:spPr>
            <a:xfrm>
              <a:off x="1676520" y="4260600"/>
              <a:ext cx="5943600" cy="35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Group 22"/>
            <p:cNvGrpSpPr/>
            <p:nvPr/>
          </p:nvGrpSpPr>
          <p:grpSpPr>
            <a:xfrm>
              <a:off x="1543680" y="3733920"/>
              <a:ext cx="2327400" cy="1334880"/>
              <a:chOff x="1543680" y="3733920"/>
              <a:chExt cx="2327400" cy="133488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2685600" y="4503240"/>
                <a:ext cx="164520" cy="565560"/>
              </a:xfrm>
              <a:custGeom>
                <a:avLst/>
                <a:gdLst/>
                <a:ahLst/>
                <a:rect l="l" t="t" r="r" b="b"/>
                <a:pathLst>
                  <a:path w="21600" h="74138">
                    <a:moveTo>
                      <a:pt x="75" y="0"/>
                    </a:moveTo>
                    <a:arcTo wR="75" hR="75" stAng="16200000" swAng="-5400000"/>
                    <a:lnTo>
                      <a:pt x="0" y="74063"/>
                    </a:lnTo>
                    <a:arcTo wR="75" hR="75" stAng="10800000" swAng="-5400000"/>
                    <a:lnTo>
                      <a:pt x="21525" y="74138"/>
                    </a:lnTo>
                    <a:arcTo wR="75" hR="75" stAng="5400000" swAng="-5400000"/>
                    <a:lnTo>
                      <a:pt x="21600" y="75"/>
                    </a:lnTo>
                    <a:arcTo wR="75" hR="7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2480" bIns="4248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grpSp>
            <p:nvGrpSpPr>
              <p:cNvPr id="251" name="Group 24"/>
              <p:cNvGrpSpPr/>
              <p:nvPr/>
            </p:nvGrpSpPr>
            <p:grpSpPr>
              <a:xfrm>
                <a:off x="1543680" y="3733920"/>
                <a:ext cx="2327400" cy="1334520"/>
                <a:chOff x="1543680" y="3733920"/>
                <a:chExt cx="2327400" cy="1334520"/>
              </a:xfrm>
            </p:grpSpPr>
            <p:sp>
              <p:nvSpPr>
                <p:cNvPr id="252" name="AutoShape 25"/>
                <p:cNvSpPr/>
                <p:nvPr/>
              </p:nvSpPr>
              <p:spPr>
                <a:xfrm>
                  <a:off x="2685600" y="4503240"/>
                  <a:ext cx="164520" cy="565200"/>
                </a:xfrm>
                <a:custGeom>
                  <a:avLst/>
                  <a:gdLst/>
                  <a:ahLst/>
                  <a:rect l="l" t="t" r="r" b="b"/>
                  <a:pathLst>
                    <a:path w="21600" h="74091">
                      <a:moveTo>
                        <a:pt x="75" y="0"/>
                      </a:moveTo>
                      <a:arcTo wR="75" hR="75" stAng="16200000" swAng="-5400000"/>
                      <a:lnTo>
                        <a:pt x="0" y="74016"/>
                      </a:lnTo>
                      <a:arcTo wR="75" hR="75" stAng="10800000" swAng="-5400000"/>
                      <a:lnTo>
                        <a:pt x="21525" y="74091"/>
                      </a:lnTo>
                      <a:arcTo wR="75" hR="75" stAng="5400000" swAng="-5400000"/>
                      <a:lnTo>
                        <a:pt x="21600" y="75"/>
                      </a:lnTo>
                      <a:arcTo wR="75" hR="75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1720" rIns="81720" tIns="42480" bIns="42480" anchor="t">
                  <a:sp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253" name="AutoShape 26"/>
                <p:cNvSpPr/>
                <p:nvPr/>
              </p:nvSpPr>
              <p:spPr>
                <a:xfrm>
                  <a:off x="1543680" y="3733920"/>
                  <a:ext cx="2327400" cy="425880"/>
                </a:xfrm>
                <a:prstGeom prst="roundRect">
                  <a:avLst>
                    <a:gd name="adj" fmla="val 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1720" rIns="81720" tIns="42480" bIns="42480" anchor="t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60440"/>
                      <a:tab algn="l" pos="923760"/>
                      <a:tab algn="l" pos="1386000"/>
                      <a:tab algn="l" pos="1847880"/>
                      <a:tab algn="l" pos="2309760"/>
                      <a:tab algn="l" pos="2773440"/>
                      <a:tab algn="l" pos="3233880"/>
                      <a:tab algn="l" pos="3695760"/>
                      <a:tab algn="l" pos="4157640"/>
                      <a:tab algn="l" pos="4621320"/>
                      <a:tab algn="l" pos="5083200"/>
                      <a:tab algn="l" pos="5545080"/>
                      <a:tab algn="l" pos="6006960"/>
                      <a:tab algn="l" pos="6469200"/>
                      <a:tab algn="l" pos="6931080"/>
                      <a:tab algn="l" pos="7392960"/>
                      <a:tab algn="l" pos="7856640"/>
                      <a:tab algn="l" pos="8318520"/>
                      <a:tab algn="l" pos="8778960"/>
                      <a:tab algn="l" pos="9240840"/>
                      <a:tab algn="l" pos="1016316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Bitstream Vera Serif"/>
                    </a:rPr>
                    <a:t>Mean velocity</a:t>
                  </a:r>
                  <a:endParaRPr b="0" lang="en-US" sz="24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</p:grpSp>
        </p:grpSp>
      </p:grpSp>
      <p:grpSp>
        <p:nvGrpSpPr>
          <p:cNvPr id="254" name="Group 27"/>
          <p:cNvGrpSpPr/>
          <p:nvPr/>
        </p:nvGrpSpPr>
        <p:grpSpPr>
          <a:xfrm>
            <a:off x="4273560" y="4875120"/>
            <a:ext cx="2890440" cy="923760"/>
            <a:chOff x="4273560" y="4875120"/>
            <a:chExt cx="2890440" cy="923760"/>
          </a:xfrm>
        </p:grpSpPr>
        <p:sp>
          <p:nvSpPr>
            <p:cNvPr id="255" name="AutoShape 28"/>
            <p:cNvSpPr/>
            <p:nvPr/>
          </p:nvSpPr>
          <p:spPr>
            <a:xfrm>
              <a:off x="6999480" y="5231520"/>
              <a:ext cx="164520" cy="567360"/>
            </a:xfrm>
            <a:custGeom>
              <a:avLst/>
              <a:gdLst/>
              <a:ahLst/>
              <a:rect l="l" t="t" r="r" b="b"/>
              <a:pathLst>
                <a:path w="21600" h="74374">
                  <a:moveTo>
                    <a:pt x="87" y="0"/>
                  </a:moveTo>
                  <a:arcTo wR="87" hR="87" stAng="16200000" swAng="-5400000"/>
                  <a:lnTo>
                    <a:pt x="0" y="74287"/>
                  </a:lnTo>
                  <a:arcTo wR="87" hR="87" stAng="10800000" swAng="-5400000"/>
                  <a:lnTo>
                    <a:pt x="21513" y="74374"/>
                  </a:lnTo>
                  <a:arcTo wR="87" hR="87" stAng="5400000" swAng="-5400000"/>
                  <a:lnTo>
                    <a:pt x="21600" y="87"/>
                  </a:lnTo>
                  <a:arcTo wR="87" hR="8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256" name="Group 29"/>
            <p:cNvGrpSpPr/>
            <p:nvPr/>
          </p:nvGrpSpPr>
          <p:grpSpPr>
            <a:xfrm>
              <a:off x="4273560" y="4875120"/>
              <a:ext cx="2890440" cy="923400"/>
              <a:chOff x="4273560" y="4875120"/>
              <a:chExt cx="2890440" cy="923400"/>
            </a:xfrm>
          </p:grpSpPr>
          <p:sp>
            <p:nvSpPr>
              <p:cNvPr id="257" name="AutoShape 30"/>
              <p:cNvSpPr/>
              <p:nvPr/>
            </p:nvSpPr>
            <p:spPr>
              <a:xfrm>
                <a:off x="6999480" y="5231160"/>
                <a:ext cx="164520" cy="567360"/>
              </a:xfrm>
              <a:custGeom>
                <a:avLst/>
                <a:gdLst/>
                <a:ahLst/>
                <a:rect l="l" t="t" r="r" b="b"/>
                <a:pathLst>
                  <a:path w="21600" h="74374">
                    <a:moveTo>
                      <a:pt x="87" y="0"/>
                    </a:moveTo>
                    <a:arcTo wR="87" hR="87" stAng="16200000" swAng="-5400000"/>
                    <a:lnTo>
                      <a:pt x="0" y="74287"/>
                    </a:lnTo>
                    <a:arcTo wR="87" hR="87" stAng="10800000" swAng="-5400000"/>
                    <a:lnTo>
                      <a:pt x="21513" y="74374"/>
                    </a:lnTo>
                    <a:arcTo wR="87" hR="87" stAng="5400000" swAng="-5400000"/>
                    <a:lnTo>
                      <a:pt x="21600" y="87"/>
                    </a:lnTo>
                    <a:arcTo wR="87" hR="8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2480" bIns="4248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258" name="AutoShape 31"/>
              <p:cNvSpPr/>
              <p:nvPr/>
            </p:nvSpPr>
            <p:spPr>
              <a:xfrm>
                <a:off x="4273560" y="4875120"/>
                <a:ext cx="1670400" cy="4258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720" rIns="81720" tIns="42480" bIns="4248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60440"/>
                    <a:tab algn="l" pos="923760"/>
                    <a:tab algn="l" pos="1386000"/>
                    <a:tab algn="l" pos="1847880"/>
                    <a:tab algn="l" pos="2309760"/>
                    <a:tab algn="l" pos="2773440"/>
                    <a:tab algn="l" pos="3233880"/>
                    <a:tab algn="l" pos="3695760"/>
                    <a:tab algn="l" pos="4157640"/>
                    <a:tab algn="l" pos="4621320"/>
                    <a:tab algn="l" pos="5083200"/>
                    <a:tab algn="l" pos="5545080"/>
                    <a:tab algn="l" pos="6006960"/>
                    <a:tab algn="l" pos="6469200"/>
                    <a:tab algn="l" pos="6931080"/>
                    <a:tab algn="l" pos="7392960"/>
                    <a:tab algn="l" pos="7856640"/>
                    <a:tab algn="l" pos="8318520"/>
                    <a:tab algn="l" pos="8778960"/>
                    <a:tab algn="l" pos="9240840"/>
                    <a:tab algn="l" pos="10163160"/>
                  </a:tabLst>
                </a:pPr>
                <a:r>
                  <a:rPr b="0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x/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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= 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Bitstream Vera Serif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grpSp>
        <p:nvGrpSpPr>
          <p:cNvPr id="259" name="Group 32"/>
          <p:cNvGrpSpPr/>
          <p:nvPr/>
        </p:nvGrpSpPr>
        <p:grpSpPr>
          <a:xfrm>
            <a:off x="6840720" y="4724280"/>
            <a:ext cx="2194920" cy="668160"/>
            <a:chOff x="6840720" y="4724280"/>
            <a:chExt cx="2194920" cy="668160"/>
          </a:xfrm>
        </p:grpSpPr>
        <p:sp>
          <p:nvSpPr>
            <p:cNvPr id="260" name="AutoShape 33"/>
            <p:cNvSpPr/>
            <p:nvPr/>
          </p:nvSpPr>
          <p:spPr>
            <a:xfrm>
              <a:off x="8870760" y="4825800"/>
              <a:ext cx="164880" cy="566640"/>
            </a:xfrm>
            <a:custGeom>
              <a:avLst/>
              <a:gdLst/>
              <a:ahLst/>
              <a:rect l="l" t="t" r="r" b="b"/>
              <a:pathLst>
                <a:path w="21600" h="74118">
                  <a:moveTo>
                    <a:pt x="87" y="0"/>
                  </a:moveTo>
                  <a:arcTo wR="87" hR="87" stAng="16200000" swAng="-5400000"/>
                  <a:lnTo>
                    <a:pt x="0" y="74031"/>
                  </a:lnTo>
                  <a:arcTo wR="87" hR="87" stAng="10800000" swAng="-5400000"/>
                  <a:lnTo>
                    <a:pt x="21513" y="74118"/>
                  </a:lnTo>
                  <a:arcTo wR="87" hR="87" stAng="5400000" swAng="-5400000"/>
                  <a:lnTo>
                    <a:pt x="21600" y="87"/>
                  </a:lnTo>
                  <a:arcTo wR="87" hR="87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261" name="Group 34"/>
            <p:cNvGrpSpPr/>
            <p:nvPr/>
          </p:nvGrpSpPr>
          <p:grpSpPr>
            <a:xfrm>
              <a:off x="6840720" y="4724280"/>
              <a:ext cx="2194920" cy="667800"/>
              <a:chOff x="6840720" y="4724280"/>
              <a:chExt cx="2194920" cy="667800"/>
            </a:xfrm>
          </p:grpSpPr>
          <p:sp>
            <p:nvSpPr>
              <p:cNvPr id="262" name="AutoShape 35"/>
              <p:cNvSpPr/>
              <p:nvPr/>
            </p:nvSpPr>
            <p:spPr>
              <a:xfrm>
                <a:off x="8870760" y="4825440"/>
                <a:ext cx="164880" cy="566640"/>
              </a:xfrm>
              <a:custGeom>
                <a:avLst/>
                <a:gdLst/>
                <a:ahLst/>
                <a:rect l="l" t="t" r="r" b="b"/>
                <a:pathLst>
                  <a:path w="21600" h="74118">
                    <a:moveTo>
                      <a:pt x="87" y="0"/>
                    </a:moveTo>
                    <a:arcTo wR="87" hR="87" stAng="16200000" swAng="-5400000"/>
                    <a:lnTo>
                      <a:pt x="0" y="74031"/>
                    </a:lnTo>
                    <a:arcTo wR="87" hR="87" stAng="10800000" swAng="-5400000"/>
                    <a:lnTo>
                      <a:pt x="21513" y="74118"/>
                    </a:lnTo>
                    <a:arcTo wR="87" hR="87" stAng="5400000" swAng="-5400000"/>
                    <a:lnTo>
                      <a:pt x="21600" y="87"/>
                    </a:lnTo>
                    <a:arcTo wR="87" hR="8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2480" bIns="4248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263" name="AutoShape 36"/>
              <p:cNvSpPr/>
              <p:nvPr/>
            </p:nvSpPr>
            <p:spPr>
              <a:xfrm>
                <a:off x="6840720" y="4724280"/>
                <a:ext cx="1324440" cy="42588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42480" bIns="4248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60440"/>
                    <a:tab algn="l" pos="923760"/>
                    <a:tab algn="l" pos="1386000"/>
                    <a:tab algn="l" pos="1847880"/>
                    <a:tab algn="l" pos="2309760"/>
                    <a:tab algn="l" pos="2773440"/>
                    <a:tab algn="l" pos="3233880"/>
                    <a:tab algn="l" pos="3695760"/>
                    <a:tab algn="l" pos="4157640"/>
                    <a:tab algn="l" pos="4621320"/>
                    <a:tab algn="l" pos="5083200"/>
                    <a:tab algn="l" pos="5545080"/>
                    <a:tab algn="l" pos="6006960"/>
                    <a:tab algn="l" pos="6469200"/>
                    <a:tab algn="l" pos="6931080"/>
                    <a:tab algn="l" pos="7392960"/>
                    <a:tab algn="l" pos="7856640"/>
                    <a:tab algn="l" pos="8318520"/>
                    <a:tab algn="l" pos="8778960"/>
                    <a:tab algn="l" pos="9240840"/>
                    <a:tab algn="l" pos="10163160"/>
                  </a:tabLst>
                </a:pPr>
                <a:r>
                  <a:rPr b="0" i="1" lang="en-GB" sz="2400" spc="-1" strike="noStrike">
                    <a:solidFill>
                      <a:srgbClr val="00cc00"/>
                    </a:solidFill>
                    <a:latin typeface="Times New Roman"/>
                  </a:rPr>
                  <a:t>x/</a:t>
                </a:r>
                <a:r>
                  <a:rPr b="0" lang="en-GB" sz="2400" spc="-1" strike="noStrike">
                    <a:solidFill>
                      <a:srgbClr val="00cc00"/>
                    </a:solidFill>
                    <a:latin typeface="Symbol"/>
                    <a:ea typeface="Symbol"/>
                  </a:rPr>
                  <a:t></a:t>
                </a:r>
                <a:r>
                  <a:rPr b="0" lang="en-GB" sz="2400" spc="-1" strike="noStrike">
                    <a:solidFill>
                      <a:srgbClr val="00cc00"/>
                    </a:solidFill>
                    <a:latin typeface="Times New Roman"/>
                  </a:rPr>
                  <a:t>= </a:t>
                </a:r>
                <a:r>
                  <a:rPr b="0" lang="en-GB" sz="2400" spc="-1" strike="noStrike">
                    <a:solidFill>
                      <a:srgbClr val="00cc00"/>
                    </a:solidFill>
                    <a:latin typeface="Bitstream Vera Serif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grpSp>
        <p:nvGrpSpPr>
          <p:cNvPr id="264" name="Group 37"/>
          <p:cNvGrpSpPr/>
          <p:nvPr/>
        </p:nvGrpSpPr>
        <p:grpSpPr>
          <a:xfrm>
            <a:off x="5925960" y="5943600"/>
            <a:ext cx="1324440" cy="566280"/>
            <a:chOff x="5925960" y="5943600"/>
            <a:chExt cx="1324440" cy="566280"/>
          </a:xfrm>
        </p:grpSpPr>
        <p:sp>
          <p:nvSpPr>
            <p:cNvPr id="265" name="AutoShape 38"/>
            <p:cNvSpPr/>
            <p:nvPr/>
          </p:nvSpPr>
          <p:spPr>
            <a:xfrm>
              <a:off x="6067440" y="5943600"/>
              <a:ext cx="164160" cy="566280"/>
            </a:xfrm>
            <a:custGeom>
              <a:avLst/>
              <a:gdLst/>
              <a:ahLst/>
              <a:rect l="l" t="t" r="r" b="b"/>
              <a:pathLst>
                <a:path w="21600" h="74395">
                  <a:moveTo>
                    <a:pt x="86" y="0"/>
                  </a:moveTo>
                  <a:arcTo wR="86" hR="86" stAng="16200000" swAng="-5400000"/>
                  <a:lnTo>
                    <a:pt x="0" y="74309"/>
                  </a:lnTo>
                  <a:arcTo wR="86" hR="86" stAng="10800000" swAng="-5400000"/>
                  <a:lnTo>
                    <a:pt x="21514" y="74395"/>
                  </a:lnTo>
                  <a:arcTo wR="86" hR="86" stAng="5400000" swAng="-5400000"/>
                  <a:lnTo>
                    <a:pt x="21600" y="86"/>
                  </a:lnTo>
                  <a:arcTo wR="86" hR="8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66" name="AutoShape 39"/>
            <p:cNvSpPr/>
            <p:nvPr/>
          </p:nvSpPr>
          <p:spPr>
            <a:xfrm>
              <a:off x="5925960" y="5943600"/>
              <a:ext cx="1324440" cy="42588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60440"/>
                  <a:tab algn="l" pos="923760"/>
                  <a:tab algn="l" pos="1386000"/>
                  <a:tab algn="l" pos="1847880"/>
                  <a:tab algn="l" pos="2309760"/>
                  <a:tab algn="l" pos="2773440"/>
                  <a:tab algn="l" pos="3233880"/>
                  <a:tab algn="l" pos="3695760"/>
                  <a:tab algn="l" pos="4157640"/>
                  <a:tab algn="l" pos="4621320"/>
                  <a:tab algn="l" pos="5083200"/>
                  <a:tab algn="l" pos="5545080"/>
                  <a:tab algn="l" pos="6006960"/>
                  <a:tab algn="l" pos="6469200"/>
                  <a:tab algn="l" pos="6931080"/>
                  <a:tab algn="l" pos="7392960"/>
                  <a:tab algn="l" pos="7856640"/>
                  <a:tab algn="l" pos="8318520"/>
                  <a:tab algn="l" pos="8778960"/>
                  <a:tab algn="l" pos="9240840"/>
                  <a:tab algn="l" pos="1016316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x/</a:t>
              </a:r>
              <a:r>
                <a:rPr b="0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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0" lang="en-GB" sz="2400" spc="-1" strike="noStrike">
                  <a:solidFill>
                    <a:srgbClr val="3333cc"/>
                  </a:solidFill>
                  <a:latin typeface="Bitstream Vera Serif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684840"/>
            <a:ext cx="6939000" cy="10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786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itstream Vera Sans"/>
              </a:rPr>
              <a:t>Simulation methodologies</a:t>
            </a:r>
            <a:endParaRPr b="1" i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01600" y="5068800"/>
            <a:ext cx="9754920" cy="2675880"/>
            <a:chOff x="201600" y="5068800"/>
            <a:chExt cx="9754920" cy="2675880"/>
          </a:xfrm>
        </p:grpSpPr>
        <p:pic>
          <p:nvPicPr>
            <p:cNvPr id="48" name="Picture 5" descr=""/>
            <p:cNvPicPr/>
            <p:nvPr/>
          </p:nvPicPr>
          <p:blipFill>
            <a:blip r:embed="rId1"/>
            <a:stretch/>
          </p:blipFill>
          <p:spPr>
            <a:xfrm>
              <a:off x="1755720" y="5244840"/>
              <a:ext cx="820080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>
              <a:off x="201600" y="6487560"/>
              <a:ext cx="140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0" name="Line 7"/>
            <p:cNvSpPr/>
            <p:nvPr/>
          </p:nvSpPr>
          <p:spPr>
            <a:xfrm>
              <a:off x="201600" y="6073920"/>
              <a:ext cx="1206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407160" y="6901200"/>
              <a:ext cx="7052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>
              <a:off x="251640" y="5068800"/>
              <a:ext cx="110592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0" lang="en-US" sz="2600" spc="-1" strike="noStrike">
                  <a:solidFill>
                    <a:srgbClr val="000099"/>
                  </a:solidFill>
                  <a:latin typeface="Arial"/>
                </a:rPr>
                <a:t>High</a:t>
              </a:r>
              <a:endParaRPr b="0" lang="en-US" sz="2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0" lang="en-US" sz="2600" spc="-1" strike="noStrike">
                  <a:solidFill>
                    <a:srgbClr val="000099"/>
                  </a:solidFill>
                  <a:latin typeface="Arial"/>
                </a:rPr>
                <a:t>speed</a:t>
              </a:r>
              <a:endParaRPr b="0" lang="en-US" sz="2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3" name="Text Box 10"/>
            <p:cNvSpPr/>
            <p:nvPr/>
          </p:nvSpPr>
          <p:spPr>
            <a:xfrm>
              <a:off x="206640" y="7005600"/>
              <a:ext cx="1105920" cy="73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0" lang="en-US" sz="2600" spc="-1" strike="noStrike">
                  <a:solidFill>
                    <a:srgbClr val="cc0000"/>
                  </a:solidFill>
                  <a:latin typeface="Arial"/>
                </a:rPr>
                <a:t>Low</a:t>
              </a:r>
              <a:endParaRPr b="0" lang="en-US" sz="2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0" lang="en-US" sz="2600" spc="-1" strike="noStrike">
                  <a:solidFill>
                    <a:srgbClr val="cc0000"/>
                  </a:solidFill>
                  <a:latin typeface="Arial"/>
                </a:rPr>
                <a:t>speed</a:t>
              </a:r>
              <a:endParaRPr b="0" lang="en-US" sz="2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Turbulent transport is due to the vortical motions (eddie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9880" y="7596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itstream Vera Sans"/>
              </a:rPr>
              <a:t>Current status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28600" y="1066680"/>
            <a:ext cx="9677520" cy="71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TURBINS: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Suitable for low Reynolds number flows.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Can treat complex topography using immersed boundary method.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Linear solvers use PETSc’s library. Can handle non-uniform mesh in any direction. 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DNS/LES code under development: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Suitable for high Reynolds number flows.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Can treat only flat terrain. 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For performance reasons, it uses FFT based in-house direct linear solvers. However, it can treat non-uniform mesh along wall-normal direction only.  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erif"/>
              </a:rPr>
              <a:t>Development underway to add immersed boundary to treat complex topography, in-house iterative solvers to treat non-uniform mesh along any direction.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6996240"/>
            <a:ext cx="281628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Turbulent transport is due to the vortical motions (eddie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Solution methodologies: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ull description of all eddies</a:t>
            </a:r>
            <a:br>
              <a:rPr sz="2000"/>
            </a:br>
            <a:r>
              <a:rPr b="0" lang="en-US" sz="2000" spc="-1" strike="noStrike">
                <a:solidFill>
                  <a:srgbClr val="587467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Direct Numerical Simulation (DN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754280" y="5245200"/>
            <a:ext cx="8202600" cy="250020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201600" y="6488280"/>
            <a:ext cx="140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Line 7"/>
          <p:cNvSpPr/>
          <p:nvPr/>
        </p:nvSpPr>
        <p:spPr>
          <a:xfrm>
            <a:off x="201600" y="6073920"/>
            <a:ext cx="120492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07880" y="6900840"/>
            <a:ext cx="7048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50560" y="5068800"/>
            <a:ext cx="1105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07360" y="7005600"/>
            <a:ext cx="1105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Low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3" name="Picture 11" descr=""/>
          <p:cNvPicPr/>
          <p:nvPr/>
        </p:nvPicPr>
        <p:blipFill>
          <a:blip r:embed="rId2"/>
          <a:srcRect l="77888" t="33452" r="20287" b="60399"/>
          <a:stretch/>
        </p:blipFill>
        <p:spPr>
          <a:xfrm>
            <a:off x="7040520" y="2227320"/>
            <a:ext cx="3017880" cy="31003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2"/>
          <p:cNvGrpSpPr/>
          <p:nvPr/>
        </p:nvGrpSpPr>
        <p:grpSpPr>
          <a:xfrm>
            <a:off x="7543800" y="3886200"/>
            <a:ext cx="1107720" cy="1123560"/>
            <a:chOff x="7543800" y="3886200"/>
            <a:chExt cx="1107720" cy="1123560"/>
          </a:xfrm>
        </p:grpSpPr>
        <p:grpSp>
          <p:nvGrpSpPr>
            <p:cNvPr id="65" name="Group 13"/>
            <p:cNvGrpSpPr/>
            <p:nvPr/>
          </p:nvGrpSpPr>
          <p:grpSpPr>
            <a:xfrm>
              <a:off x="7666560" y="3886200"/>
              <a:ext cx="862200" cy="1123560"/>
              <a:chOff x="7666560" y="3886200"/>
              <a:chExt cx="862200" cy="1123560"/>
            </a:xfrm>
          </p:grpSpPr>
          <p:grpSp>
            <p:nvGrpSpPr>
              <p:cNvPr id="66" name="Group 14"/>
              <p:cNvGrpSpPr/>
              <p:nvPr/>
            </p:nvGrpSpPr>
            <p:grpSpPr>
              <a:xfrm>
                <a:off x="7666560" y="3886200"/>
                <a:ext cx="369000" cy="1123560"/>
                <a:chOff x="7666560" y="3886200"/>
                <a:chExt cx="369000" cy="1123560"/>
              </a:xfrm>
            </p:grpSpPr>
            <p:sp>
              <p:nvSpPr>
                <p:cNvPr id="67" name="Line 15"/>
                <p:cNvSpPr/>
                <p:nvPr/>
              </p:nvSpPr>
              <p:spPr>
                <a:xfrm>
                  <a:off x="7666560" y="3886200"/>
                  <a:ext cx="0" cy="11232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68" name="Line 16"/>
                <p:cNvSpPr/>
                <p:nvPr/>
              </p:nvSpPr>
              <p:spPr>
                <a:xfrm>
                  <a:off x="7789320" y="3886200"/>
                  <a:ext cx="0" cy="11232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69" name="Line 17"/>
                <p:cNvSpPr/>
                <p:nvPr/>
              </p:nvSpPr>
              <p:spPr>
                <a:xfrm>
                  <a:off x="7912440" y="3886560"/>
                  <a:ext cx="0" cy="11232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70" name="Line 18"/>
                <p:cNvSpPr/>
                <p:nvPr/>
              </p:nvSpPr>
              <p:spPr>
                <a:xfrm>
                  <a:off x="8035560" y="3886560"/>
                  <a:ext cx="0" cy="11232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</p:grpSp>
          <p:grpSp>
            <p:nvGrpSpPr>
              <p:cNvPr id="71" name="Group 19"/>
              <p:cNvGrpSpPr/>
              <p:nvPr/>
            </p:nvGrpSpPr>
            <p:grpSpPr>
              <a:xfrm>
                <a:off x="8159760" y="3886200"/>
                <a:ext cx="369000" cy="1123560"/>
                <a:chOff x="8159760" y="3886200"/>
                <a:chExt cx="369000" cy="1123560"/>
              </a:xfrm>
            </p:grpSpPr>
            <p:sp>
              <p:nvSpPr>
                <p:cNvPr id="72" name="Line 20"/>
                <p:cNvSpPr/>
                <p:nvPr/>
              </p:nvSpPr>
              <p:spPr>
                <a:xfrm>
                  <a:off x="8159760" y="3886200"/>
                  <a:ext cx="0" cy="11232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73" name="Line 21"/>
                <p:cNvSpPr/>
                <p:nvPr/>
              </p:nvSpPr>
              <p:spPr>
                <a:xfrm>
                  <a:off x="8282520" y="3886200"/>
                  <a:ext cx="0" cy="11232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74" name="Line 22"/>
                <p:cNvSpPr/>
                <p:nvPr/>
              </p:nvSpPr>
              <p:spPr>
                <a:xfrm>
                  <a:off x="8405640" y="3886560"/>
                  <a:ext cx="0" cy="11232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75" name="Line 23"/>
                <p:cNvSpPr/>
                <p:nvPr/>
              </p:nvSpPr>
              <p:spPr>
                <a:xfrm>
                  <a:off x="8528760" y="3886560"/>
                  <a:ext cx="0" cy="11232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</p:grpSp>
        </p:grpSp>
        <p:grpSp>
          <p:nvGrpSpPr>
            <p:cNvPr id="76" name="Group 24"/>
            <p:cNvGrpSpPr/>
            <p:nvPr/>
          </p:nvGrpSpPr>
          <p:grpSpPr>
            <a:xfrm>
              <a:off x="7543800" y="4566240"/>
              <a:ext cx="1107720" cy="332640"/>
              <a:chOff x="7543800" y="4566240"/>
              <a:chExt cx="1107720" cy="332640"/>
            </a:xfrm>
          </p:grpSpPr>
          <p:sp>
            <p:nvSpPr>
              <p:cNvPr id="77" name="Line 25"/>
              <p:cNvSpPr/>
              <p:nvPr/>
            </p:nvSpPr>
            <p:spPr>
              <a:xfrm>
                <a:off x="7543800" y="4898880"/>
                <a:ext cx="110736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78" name="Line 26"/>
              <p:cNvSpPr/>
              <p:nvPr/>
            </p:nvSpPr>
            <p:spPr>
              <a:xfrm>
                <a:off x="7543800" y="4788000"/>
                <a:ext cx="110736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79" name="Line 27"/>
              <p:cNvSpPr/>
              <p:nvPr/>
            </p:nvSpPr>
            <p:spPr>
              <a:xfrm>
                <a:off x="7544160" y="4677120"/>
                <a:ext cx="110736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80" name="Line 28"/>
              <p:cNvSpPr/>
              <p:nvPr/>
            </p:nvSpPr>
            <p:spPr>
              <a:xfrm>
                <a:off x="7544160" y="4566240"/>
                <a:ext cx="110736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grpSp>
          <p:nvGrpSpPr>
            <p:cNvPr id="81" name="Group 29"/>
            <p:cNvGrpSpPr/>
            <p:nvPr/>
          </p:nvGrpSpPr>
          <p:grpSpPr>
            <a:xfrm>
              <a:off x="7543800" y="4076280"/>
              <a:ext cx="1107720" cy="332640"/>
              <a:chOff x="7543800" y="4076280"/>
              <a:chExt cx="1107720" cy="332640"/>
            </a:xfrm>
          </p:grpSpPr>
          <p:sp>
            <p:nvSpPr>
              <p:cNvPr id="82" name="Line 30"/>
              <p:cNvSpPr/>
              <p:nvPr/>
            </p:nvSpPr>
            <p:spPr>
              <a:xfrm>
                <a:off x="7543800" y="4408920"/>
                <a:ext cx="110736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83" name="Line 31"/>
              <p:cNvSpPr/>
              <p:nvPr/>
            </p:nvSpPr>
            <p:spPr>
              <a:xfrm>
                <a:off x="7543800" y="4298040"/>
                <a:ext cx="110736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84" name="Line 32"/>
              <p:cNvSpPr/>
              <p:nvPr/>
            </p:nvSpPr>
            <p:spPr>
              <a:xfrm>
                <a:off x="7544160" y="4187160"/>
                <a:ext cx="110736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85" name="Line 33"/>
              <p:cNvSpPr/>
              <p:nvPr/>
            </p:nvSpPr>
            <p:spPr>
              <a:xfrm>
                <a:off x="7544160" y="4076280"/>
                <a:ext cx="110736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sp>
        <p:nvSpPr>
          <p:cNvPr id="86" name="Rectangle 34"/>
          <p:cNvSpPr/>
          <p:nvPr/>
        </p:nvSpPr>
        <p:spPr>
          <a:xfrm>
            <a:off x="7845480" y="6269040"/>
            <a:ext cx="401760" cy="41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Rectangle 35"/>
          <p:cNvSpPr/>
          <p:nvPr/>
        </p:nvSpPr>
        <p:spPr>
          <a:xfrm>
            <a:off x="7040520" y="2227320"/>
            <a:ext cx="3017880" cy="31096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Line 36"/>
          <p:cNvSpPr/>
          <p:nvPr/>
        </p:nvSpPr>
        <p:spPr>
          <a:xfrm flipV="1">
            <a:off x="8047080" y="5336640"/>
            <a:ext cx="804960" cy="9320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786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itstream Vera Sans"/>
              </a:rPr>
              <a:t>Simulation methodologies</a:t>
            </a:r>
            <a:endParaRPr b="1" i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6996240"/>
            <a:ext cx="281628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Turbulent transport is due to the vortical motions (eddie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Solution methodologies: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ull description of all eddies 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(DN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tatistical description of all eddies</a:t>
            </a:r>
            <a:r>
              <a:rPr b="0" lang="en-US" sz="2000" spc="-1" strike="noStrike">
                <a:solidFill>
                  <a:srgbClr val="000099"/>
                </a:solidFill>
                <a:latin typeface="Bitstream Vera San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587467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Reynolds (time or ensemble) averaged solution of the Navier-Stokes </a:t>
            </a:r>
            <a:br>
              <a:rPr sz="2000"/>
            </a:b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(RANS)  equ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Limited Accura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54280" y="5245200"/>
            <a:ext cx="8202600" cy="250020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>
            <a:off x="201600" y="6488280"/>
            <a:ext cx="140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01600" y="6073920"/>
            <a:ext cx="120492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07880" y="6900840"/>
            <a:ext cx="7048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0560" y="5068800"/>
            <a:ext cx="1105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07360" y="7005600"/>
            <a:ext cx="1105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Low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714760" y="6062760"/>
            <a:ext cx="6536880" cy="814320"/>
            <a:chOff x="2714760" y="6062760"/>
            <a:chExt cx="6536880" cy="814320"/>
          </a:xfrm>
        </p:grpSpPr>
        <p:grpSp>
          <p:nvGrpSpPr>
            <p:cNvPr id="99" name="Group 12"/>
            <p:cNvGrpSpPr/>
            <p:nvPr/>
          </p:nvGrpSpPr>
          <p:grpSpPr>
            <a:xfrm>
              <a:off x="3439440" y="6062760"/>
              <a:ext cx="5085360" cy="814320"/>
              <a:chOff x="3439440" y="6062760"/>
              <a:chExt cx="5085360" cy="814320"/>
            </a:xfrm>
          </p:grpSpPr>
          <p:grpSp>
            <p:nvGrpSpPr>
              <p:cNvPr id="100" name="Group 13"/>
              <p:cNvGrpSpPr/>
              <p:nvPr/>
            </p:nvGrpSpPr>
            <p:grpSpPr>
              <a:xfrm>
                <a:off x="3439440" y="6062760"/>
                <a:ext cx="2175840" cy="814320"/>
                <a:chOff x="3439440" y="6062760"/>
                <a:chExt cx="2175840" cy="814320"/>
              </a:xfrm>
            </p:grpSpPr>
            <p:sp>
              <p:nvSpPr>
                <p:cNvPr id="101" name="Line 14"/>
                <p:cNvSpPr/>
                <p:nvPr/>
              </p:nvSpPr>
              <p:spPr>
                <a:xfrm>
                  <a:off x="3439440" y="6062760"/>
                  <a:ext cx="0" cy="81396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02" name="Line 15"/>
                <p:cNvSpPr/>
                <p:nvPr/>
              </p:nvSpPr>
              <p:spPr>
                <a:xfrm>
                  <a:off x="4164480" y="6062760"/>
                  <a:ext cx="0" cy="81396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03" name="Line 16"/>
                <p:cNvSpPr/>
                <p:nvPr/>
              </p:nvSpPr>
              <p:spPr>
                <a:xfrm>
                  <a:off x="4889880" y="6063120"/>
                  <a:ext cx="0" cy="81396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04" name="Line 17"/>
                <p:cNvSpPr/>
                <p:nvPr/>
              </p:nvSpPr>
              <p:spPr>
                <a:xfrm>
                  <a:off x="5615280" y="6063120"/>
                  <a:ext cx="0" cy="81396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</p:grpSp>
          <p:grpSp>
            <p:nvGrpSpPr>
              <p:cNvPr id="105" name="Group 18"/>
              <p:cNvGrpSpPr/>
              <p:nvPr/>
            </p:nvGrpSpPr>
            <p:grpSpPr>
              <a:xfrm>
                <a:off x="6348960" y="6062760"/>
                <a:ext cx="2175840" cy="814320"/>
                <a:chOff x="6348960" y="6062760"/>
                <a:chExt cx="2175840" cy="814320"/>
              </a:xfrm>
            </p:grpSpPr>
            <p:sp>
              <p:nvSpPr>
                <p:cNvPr id="106" name="Line 19"/>
                <p:cNvSpPr/>
                <p:nvPr/>
              </p:nvSpPr>
              <p:spPr>
                <a:xfrm>
                  <a:off x="6348960" y="6062760"/>
                  <a:ext cx="0" cy="81396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07" name="Line 20"/>
                <p:cNvSpPr/>
                <p:nvPr/>
              </p:nvSpPr>
              <p:spPr>
                <a:xfrm>
                  <a:off x="7074000" y="6062760"/>
                  <a:ext cx="0" cy="81396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08" name="Line 21"/>
                <p:cNvSpPr/>
                <p:nvPr/>
              </p:nvSpPr>
              <p:spPr>
                <a:xfrm>
                  <a:off x="7799400" y="6063120"/>
                  <a:ext cx="0" cy="81396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09" name="Line 22"/>
                <p:cNvSpPr/>
                <p:nvPr/>
              </p:nvSpPr>
              <p:spPr>
                <a:xfrm>
                  <a:off x="8524800" y="6063120"/>
                  <a:ext cx="0" cy="813960"/>
                </a:xfrm>
                <a:prstGeom prst="line">
                  <a:avLst/>
                </a:prstGeom>
                <a:ln w="190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</p:grpSp>
        </p:grpSp>
        <p:grpSp>
          <p:nvGrpSpPr>
            <p:cNvPr id="110" name="Group 23"/>
            <p:cNvGrpSpPr/>
            <p:nvPr/>
          </p:nvGrpSpPr>
          <p:grpSpPr>
            <a:xfrm>
              <a:off x="2714760" y="6555600"/>
              <a:ext cx="6536880" cy="241200"/>
              <a:chOff x="2714760" y="6555600"/>
              <a:chExt cx="6536880" cy="241200"/>
            </a:xfrm>
          </p:grpSpPr>
          <p:sp>
            <p:nvSpPr>
              <p:cNvPr id="111" name="Line 24"/>
              <p:cNvSpPr/>
              <p:nvPr/>
            </p:nvSpPr>
            <p:spPr>
              <a:xfrm>
                <a:off x="2714760" y="6796800"/>
                <a:ext cx="65336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12" name="Line 25"/>
              <p:cNvSpPr/>
              <p:nvPr/>
            </p:nvSpPr>
            <p:spPr>
              <a:xfrm>
                <a:off x="2714760" y="6716520"/>
                <a:ext cx="65336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13" name="Line 26"/>
              <p:cNvSpPr/>
              <p:nvPr/>
            </p:nvSpPr>
            <p:spPr>
              <a:xfrm>
                <a:off x="2718000" y="6635880"/>
                <a:ext cx="65336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14" name="Line 27"/>
              <p:cNvSpPr/>
              <p:nvPr/>
            </p:nvSpPr>
            <p:spPr>
              <a:xfrm>
                <a:off x="2718000" y="6555600"/>
                <a:ext cx="65336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grpSp>
          <p:nvGrpSpPr>
            <p:cNvPr id="115" name="Group 28"/>
            <p:cNvGrpSpPr/>
            <p:nvPr/>
          </p:nvGrpSpPr>
          <p:grpSpPr>
            <a:xfrm>
              <a:off x="2714760" y="6200280"/>
              <a:ext cx="6536880" cy="241200"/>
              <a:chOff x="2714760" y="6200280"/>
              <a:chExt cx="6536880" cy="241200"/>
            </a:xfrm>
          </p:grpSpPr>
          <p:sp>
            <p:nvSpPr>
              <p:cNvPr id="116" name="Line 29"/>
              <p:cNvSpPr/>
              <p:nvPr/>
            </p:nvSpPr>
            <p:spPr>
              <a:xfrm>
                <a:off x="2714760" y="6441480"/>
                <a:ext cx="65336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17" name="Line 30"/>
              <p:cNvSpPr/>
              <p:nvPr/>
            </p:nvSpPr>
            <p:spPr>
              <a:xfrm>
                <a:off x="2714760" y="6361200"/>
                <a:ext cx="65336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18" name="Line 31"/>
              <p:cNvSpPr/>
              <p:nvPr/>
            </p:nvSpPr>
            <p:spPr>
              <a:xfrm>
                <a:off x="2718000" y="6280560"/>
                <a:ext cx="65336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>
                <a:off x="2718000" y="6200280"/>
                <a:ext cx="653364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786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itstream Vera Sans"/>
              </a:rPr>
              <a:t>Simulation methodologies</a:t>
            </a:r>
            <a:endParaRPr b="1" i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6996240"/>
            <a:ext cx="281628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Turbulent transport is due to the vortical motions (eddie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Vera Sans"/>
              </a:rPr>
              <a:t>Solution methodologies: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ull description of all eddies 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(DN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tatistical description of all eddies 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(RAN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artial description of the eddies </a:t>
            </a:r>
            <a:br>
              <a:rPr sz="2000"/>
            </a:br>
            <a:r>
              <a:rPr b="0" lang="en-US" sz="2000" spc="-1" strike="noStrike">
                <a:solidFill>
                  <a:srgbClr val="587467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	</a:t>
            </a:r>
            <a:r>
              <a:rPr b="0" lang="en-US" sz="2000" spc="-1" strike="noStrike">
                <a:solidFill>
                  <a:srgbClr val="587467"/>
                </a:solidFill>
                <a:latin typeface="Bitstream Vera Sans"/>
              </a:rPr>
              <a:t>Large-Eddy Simulation (LES)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754280" y="5245200"/>
            <a:ext cx="82026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Line 6"/>
          <p:cNvSpPr/>
          <p:nvPr/>
        </p:nvSpPr>
        <p:spPr>
          <a:xfrm>
            <a:off x="201600" y="6488280"/>
            <a:ext cx="140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01600" y="6073920"/>
            <a:ext cx="120492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407880" y="6900840"/>
            <a:ext cx="7048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50560" y="5068800"/>
            <a:ext cx="1105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207360" y="7005600"/>
            <a:ext cx="1105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Low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7645320" y="6165720"/>
            <a:ext cx="703440" cy="606240"/>
            <a:chOff x="7645320" y="6165720"/>
            <a:chExt cx="703440" cy="606240"/>
          </a:xfrm>
        </p:grpSpPr>
        <p:grpSp>
          <p:nvGrpSpPr>
            <p:cNvPr id="130" name="Group 12"/>
            <p:cNvGrpSpPr/>
            <p:nvPr/>
          </p:nvGrpSpPr>
          <p:grpSpPr>
            <a:xfrm>
              <a:off x="7723080" y="6165720"/>
              <a:ext cx="547560" cy="606240"/>
              <a:chOff x="7723080" y="6165720"/>
              <a:chExt cx="547560" cy="606240"/>
            </a:xfrm>
          </p:grpSpPr>
          <p:grpSp>
            <p:nvGrpSpPr>
              <p:cNvPr id="131" name="Group 13"/>
              <p:cNvGrpSpPr/>
              <p:nvPr/>
            </p:nvGrpSpPr>
            <p:grpSpPr>
              <a:xfrm>
                <a:off x="7723080" y="6165720"/>
                <a:ext cx="234360" cy="606240"/>
                <a:chOff x="7723080" y="6165720"/>
                <a:chExt cx="234360" cy="606240"/>
              </a:xfrm>
            </p:grpSpPr>
            <p:sp>
              <p:nvSpPr>
                <p:cNvPr id="132" name="Line 14"/>
                <p:cNvSpPr/>
                <p:nvPr/>
              </p:nvSpPr>
              <p:spPr>
                <a:xfrm>
                  <a:off x="7723080" y="6165720"/>
                  <a:ext cx="0" cy="60624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33" name="Line 15"/>
                <p:cNvSpPr/>
                <p:nvPr/>
              </p:nvSpPr>
              <p:spPr>
                <a:xfrm>
                  <a:off x="7801200" y="6165720"/>
                  <a:ext cx="0" cy="60624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34" name="Line 16"/>
                <p:cNvSpPr/>
                <p:nvPr/>
              </p:nvSpPr>
              <p:spPr>
                <a:xfrm>
                  <a:off x="7879320" y="6165720"/>
                  <a:ext cx="0" cy="60624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35" name="Line 17"/>
                <p:cNvSpPr/>
                <p:nvPr/>
              </p:nvSpPr>
              <p:spPr>
                <a:xfrm>
                  <a:off x="7957440" y="6165720"/>
                  <a:ext cx="0" cy="60624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</p:grpSp>
          <p:grpSp>
            <p:nvGrpSpPr>
              <p:cNvPr id="136" name="Group 18"/>
              <p:cNvGrpSpPr/>
              <p:nvPr/>
            </p:nvGrpSpPr>
            <p:grpSpPr>
              <a:xfrm>
                <a:off x="8036280" y="6165720"/>
                <a:ext cx="234360" cy="606240"/>
                <a:chOff x="8036280" y="6165720"/>
                <a:chExt cx="234360" cy="606240"/>
              </a:xfrm>
            </p:grpSpPr>
            <p:sp>
              <p:nvSpPr>
                <p:cNvPr id="137" name="Line 19"/>
                <p:cNvSpPr/>
                <p:nvPr/>
              </p:nvSpPr>
              <p:spPr>
                <a:xfrm>
                  <a:off x="8036280" y="6165720"/>
                  <a:ext cx="0" cy="60624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38" name="Line 20"/>
                <p:cNvSpPr/>
                <p:nvPr/>
              </p:nvSpPr>
              <p:spPr>
                <a:xfrm>
                  <a:off x="8114400" y="6165720"/>
                  <a:ext cx="0" cy="60624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39" name="Line 21"/>
                <p:cNvSpPr/>
                <p:nvPr/>
              </p:nvSpPr>
              <p:spPr>
                <a:xfrm>
                  <a:off x="8192520" y="6165720"/>
                  <a:ext cx="0" cy="60624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40" name="Line 22"/>
                <p:cNvSpPr/>
                <p:nvPr/>
              </p:nvSpPr>
              <p:spPr>
                <a:xfrm>
                  <a:off x="8270640" y="6165720"/>
                  <a:ext cx="0" cy="60624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</p:grpSp>
        </p:grpSp>
        <p:grpSp>
          <p:nvGrpSpPr>
            <p:cNvPr id="141" name="Group 23"/>
            <p:cNvGrpSpPr/>
            <p:nvPr/>
          </p:nvGrpSpPr>
          <p:grpSpPr>
            <a:xfrm>
              <a:off x="7645320" y="6532560"/>
              <a:ext cx="703440" cy="179640"/>
              <a:chOff x="7645320" y="6532560"/>
              <a:chExt cx="703440" cy="179640"/>
            </a:xfrm>
          </p:grpSpPr>
          <p:sp>
            <p:nvSpPr>
              <p:cNvPr id="142" name="Line 24"/>
              <p:cNvSpPr/>
              <p:nvPr/>
            </p:nvSpPr>
            <p:spPr>
              <a:xfrm>
                <a:off x="7645320" y="6712200"/>
                <a:ext cx="7030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>
                <a:off x="7645320" y="6652440"/>
                <a:ext cx="7030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>
                <a:off x="7645680" y="6592320"/>
                <a:ext cx="7030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>
                <a:off x="7645680" y="6532560"/>
                <a:ext cx="7030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grpSp>
          <p:nvGrpSpPr>
            <p:cNvPr id="146" name="Group 28"/>
            <p:cNvGrpSpPr/>
            <p:nvPr/>
          </p:nvGrpSpPr>
          <p:grpSpPr>
            <a:xfrm>
              <a:off x="7645320" y="6267960"/>
              <a:ext cx="703440" cy="179640"/>
              <a:chOff x="7645320" y="6267960"/>
              <a:chExt cx="703440" cy="179640"/>
            </a:xfrm>
          </p:grpSpPr>
          <p:sp>
            <p:nvSpPr>
              <p:cNvPr id="147" name="Line 29"/>
              <p:cNvSpPr/>
              <p:nvPr/>
            </p:nvSpPr>
            <p:spPr>
              <a:xfrm>
                <a:off x="7645320" y="6447600"/>
                <a:ext cx="7030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>
                <a:off x="7645320" y="6387840"/>
                <a:ext cx="7030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>
                <a:off x="7645680" y="6327720"/>
                <a:ext cx="7030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>
                <a:off x="7645680" y="6267960"/>
                <a:ext cx="7030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sp>
        <p:nvSpPr>
          <p:cNvPr id="151" name="Rectangle 33"/>
          <p:cNvSpPr/>
          <p:nvPr/>
        </p:nvSpPr>
        <p:spPr>
          <a:xfrm>
            <a:off x="7845480" y="6269040"/>
            <a:ext cx="401760" cy="41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Line 34"/>
          <p:cNvSpPr/>
          <p:nvPr/>
        </p:nvSpPr>
        <p:spPr>
          <a:xfrm flipV="1">
            <a:off x="8047080" y="5336640"/>
            <a:ext cx="804960" cy="9320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3" name="Picture 35" descr=""/>
          <p:cNvPicPr/>
          <p:nvPr/>
        </p:nvPicPr>
        <p:blipFill>
          <a:blip r:embed="rId2"/>
          <a:srcRect l="77888" t="33452" r="20287" b="60399"/>
          <a:stretch/>
        </p:blipFill>
        <p:spPr>
          <a:xfrm>
            <a:off x="7040520" y="2227320"/>
            <a:ext cx="3017880" cy="3100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6"/>
          <p:cNvSpPr/>
          <p:nvPr/>
        </p:nvSpPr>
        <p:spPr>
          <a:xfrm>
            <a:off x="7040520" y="2224080"/>
            <a:ext cx="3017880" cy="31100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55" name="Group 37"/>
          <p:cNvGrpSpPr/>
          <p:nvPr/>
        </p:nvGrpSpPr>
        <p:grpSpPr>
          <a:xfrm>
            <a:off x="7543800" y="2430360"/>
            <a:ext cx="2012760" cy="2695320"/>
            <a:chOff x="7543800" y="2430360"/>
            <a:chExt cx="2012760" cy="2695320"/>
          </a:xfrm>
        </p:grpSpPr>
        <p:sp>
          <p:nvSpPr>
            <p:cNvPr id="156" name="Line 38"/>
            <p:cNvSpPr/>
            <p:nvPr/>
          </p:nvSpPr>
          <p:spPr>
            <a:xfrm>
              <a:off x="7543800" y="2430360"/>
              <a:ext cx="0" cy="26953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550000" y="2430360"/>
              <a:ext cx="0" cy="26953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9556560" y="2430360"/>
              <a:ext cx="0" cy="26953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59" name="Group 41"/>
          <p:cNvGrpSpPr/>
          <p:nvPr/>
        </p:nvGrpSpPr>
        <p:grpSpPr>
          <a:xfrm>
            <a:off x="7242120" y="2743200"/>
            <a:ext cx="2614320" cy="2071440"/>
            <a:chOff x="7242120" y="2743200"/>
            <a:chExt cx="2614320" cy="2071440"/>
          </a:xfrm>
        </p:grpSpPr>
        <p:sp>
          <p:nvSpPr>
            <p:cNvPr id="160" name="Line 42"/>
            <p:cNvSpPr/>
            <p:nvPr/>
          </p:nvSpPr>
          <p:spPr>
            <a:xfrm>
              <a:off x="7242120" y="4814640"/>
              <a:ext cx="26143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61" name="Line 43"/>
            <p:cNvSpPr/>
            <p:nvPr/>
          </p:nvSpPr>
          <p:spPr>
            <a:xfrm>
              <a:off x="7242120" y="3778920"/>
              <a:ext cx="26143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62" name="Line 44"/>
            <p:cNvSpPr/>
            <p:nvPr/>
          </p:nvSpPr>
          <p:spPr>
            <a:xfrm>
              <a:off x="7242120" y="2743200"/>
              <a:ext cx="26143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42640" y="75960"/>
            <a:ext cx="79786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itstream Vera Sans"/>
              </a:rPr>
              <a:t>Simulation methodologies</a:t>
            </a:r>
            <a:endParaRPr b="1" i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1392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itstream Vera Sans"/>
              </a:rPr>
              <a:t>Resolution requirements for LES</a:t>
            </a:r>
            <a:endParaRPr b="1" i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Velocity decomposed into large-scale (resolved) and subgrid-scale (unresolved) part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large scales (integral scale), which depend on the boundary conditions (i.e., are flow dependent) are comput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he small scales, which are more universal (less dependent on boundary conditions) are modelled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rge scales contribute most of the Reynolds stress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141560" y="5246640"/>
            <a:ext cx="7770600" cy="1055520"/>
            <a:chOff x="1141560" y="5246640"/>
            <a:chExt cx="7770600" cy="1055520"/>
          </a:xfrm>
        </p:grpSpPr>
        <p:grpSp>
          <p:nvGrpSpPr>
            <p:cNvPr id="167" name="Group 5"/>
            <p:cNvGrpSpPr/>
            <p:nvPr/>
          </p:nvGrpSpPr>
          <p:grpSpPr>
            <a:xfrm>
              <a:off x="1224000" y="5319720"/>
              <a:ext cx="7604640" cy="887400"/>
              <a:chOff x="1224000" y="5319720"/>
              <a:chExt cx="7604640" cy="887400"/>
            </a:xfrm>
          </p:grpSpPr>
          <p:sp>
            <p:nvSpPr>
              <p:cNvPr id="168" name="Text Box 6"/>
              <p:cNvSpPr/>
              <p:nvPr/>
            </p:nvSpPr>
            <p:spPr>
              <a:xfrm>
                <a:off x="1832400" y="5319720"/>
                <a:ext cx="6996240" cy="8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The grid size must be a fraction (1/20-1/40) of the integral scale</a:t>
                </a:r>
                <a:endParaRPr b="0" lang="en-US" sz="2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69" name="Text Box 7"/>
              <p:cNvSpPr/>
              <p:nvPr/>
            </p:nvSpPr>
            <p:spPr>
              <a:xfrm>
                <a:off x="1224000" y="5523480"/>
                <a:ext cx="57960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8640" indent="-458640">
                  <a:lnSpc>
                    <a:spcPct val="93000"/>
                  </a:lnSpc>
                  <a:tabLst>
                    <a:tab algn="l" pos="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</a:t>
                </a:r>
                <a:endParaRPr b="0" lang="en-US" sz="2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sp>
          <p:nvSpPr>
            <p:cNvPr id="170" name="Rectangle 8"/>
            <p:cNvSpPr/>
            <p:nvPr/>
          </p:nvSpPr>
          <p:spPr>
            <a:xfrm>
              <a:off x="1141560" y="5246640"/>
              <a:ext cx="7770600" cy="1055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9786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itstream Vera Sans"/>
              </a:rPr>
              <a:t>Cost: LES of wall-bounded flows</a:t>
            </a:r>
            <a:r>
              <a:rPr b="1" i="1" lang="en-GB" sz="3200" spc="-1" strike="noStrike">
                <a:solidFill>
                  <a:srgbClr val="587467"/>
                </a:solidFill>
                <a:latin typeface="BlairMdITC TT-Medium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Outer layer: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ed 20-40 points in each direction to resolve an integral scal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Outer layer: only scales of order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must be resolved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587467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587467"/>
                </a:solidFill>
                <a:latin typeface="Bitstream Vera Sans"/>
              </a:rPr>
              <a:t> Cost - </a:t>
            </a:r>
            <a:r>
              <a:rPr b="0" i="1" lang="en-GB" sz="2200" spc="-1" strike="noStrike">
                <a:solidFill>
                  <a:srgbClr val="587467"/>
                </a:solidFill>
                <a:latin typeface="Times New Roman"/>
              </a:rPr>
              <a:t>Re</a:t>
            </a:r>
            <a:r>
              <a:rPr b="0" lang="en-GB" sz="2200" spc="-1" strike="noStrike" baseline="30000">
                <a:solidFill>
                  <a:srgbClr val="587467"/>
                </a:solidFill>
                <a:latin typeface="Bitstream Vera Sans"/>
              </a:rPr>
              <a:t> 0.6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330200" y="3233880"/>
            <a:ext cx="6442200" cy="4081320"/>
          </a:xfrm>
          <a:prstGeom prst="rect">
            <a:avLst/>
          </a:prstGeom>
          <a:ln w="0">
            <a:noFill/>
          </a:ln>
        </p:spPr>
      </p:pic>
      <p:sp>
        <p:nvSpPr>
          <p:cNvPr id="174" name="Oval 5"/>
          <p:cNvSpPr/>
          <p:nvPr/>
        </p:nvSpPr>
        <p:spPr>
          <a:xfrm>
            <a:off x="3124080" y="3889440"/>
            <a:ext cx="2890800" cy="27399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8040" y="3378240"/>
            <a:ext cx="2437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gral sca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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138680" y="4653000"/>
            <a:ext cx="2513880" cy="54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0000"/>
                </a:solidFill>
                <a:latin typeface="Times New Roman"/>
              </a:rPr>
              <a:t>Re</a:t>
            </a:r>
            <a:r>
              <a:rPr b="0" i="1" lang="en-GB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45000" y="3211560"/>
            <a:ext cx="5351400" cy="33894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nner layer: near-wall eddies must be resolved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Grid must scale i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all uni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itstream Vera Sans"/>
              </a:rPr>
              <a:t> 1.8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30720" y="6095880"/>
            <a:ext cx="3215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ar-wall eddi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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79786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itstream Vera Sans"/>
              </a:rPr>
              <a:t>Cost: LES of wall-bounded flows</a:t>
            </a:r>
            <a:r>
              <a:rPr b="1" i="1" lang="en-GB" sz="3200" spc="-1" strike="noStrike">
                <a:solidFill>
                  <a:srgbClr val="587467"/>
                </a:solidFill>
                <a:latin typeface="BlairMdITC TT-Medium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979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itstream Vera Sans"/>
              </a:rPr>
              <a:t>Wall-layer modeled LES (WMLES)</a:t>
            </a:r>
            <a:endParaRPr b="1" i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937116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Bitstream Vera Sans"/>
              </a:rPr>
              <a:t>Alternative for high-</a:t>
            </a:r>
            <a:r>
              <a:rPr b="0" i="1" lang="en-GB" sz="21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GB" sz="2100" spc="-1" strike="noStrike">
                <a:solidFill>
                  <a:srgbClr val="000000"/>
                </a:solidFill>
                <a:latin typeface="Bitstream Vera Sans"/>
              </a:rPr>
              <a:t> applications:</a:t>
            </a:r>
            <a:endParaRPr b="0" lang="en-US" sz="21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Bypass the wall layer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Model its effects in an </a:t>
            </a:r>
            <a:r>
              <a:rPr b="0" lang="en-GB" sz="1800" spc="-1" strike="noStrike">
                <a:solidFill>
                  <a:srgbClr val="ff0000"/>
                </a:solidFill>
                <a:latin typeface="Bitstream Vera Sans"/>
              </a:rPr>
              <a:t>average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 sens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887480" y="4203720"/>
            <a:ext cx="62643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ckart</dc:creator>
  <dc:description/>
  <dc:language>en-US</dc:language>
  <cp:lastModifiedBy>Eckart</cp:lastModifiedBy>
  <dcterms:modified xsi:type="dcterms:W3CDTF">2013-04-01T22:11:45Z</dcterms:modified>
  <cp:revision>327</cp:revision>
  <dc:subject/>
  <dc:title>Slide 1</dc:title>
</cp:coreProperties>
</file>