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95E-AECC-4D1B-AB95-9E80883D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63A-EC2B-4F4E-B34B-4A85C2AE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EDC-71B9-4BBD-ABA9-1A1624E3E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5C0-CF99-4520-91B0-B693E14F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4DE-0774-4855-8FF4-8CFF6534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E4F-74B6-4907-82D6-B7D5CC6E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A89D-BFBC-431F-AA71-22CD28C7F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E0F-6A3F-414D-80CA-C521A11CA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9A2C-CCF2-447F-9771-AB540EFD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C1F0-C82C-4FD7-B6B5-BE47AB86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C92-A5E8-4F4E-BF88-002B204E7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D546-42CB-4E6E-95C4-AD7AD1F7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0D8F-93E8-48BA-AA8B-FB6B47F7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472-49E0-4652-9F81-852D682B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14D-281A-422F-AA94-7202692A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0C3-CC49-48E2-A1AE-E8F3C589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7311-A668-438C-9379-5A8A3363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18C-7BE1-4214-A2A3-712052507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B449-1FC9-415C-9DAE-F1527BE96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2F8-EE42-4284-82BB-959D90CEF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5E6-2BF5-455C-A211-D46D17541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C1D-FA96-47F0-9616-CB7FE61FA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6828-D65B-4E5E-8D62-C2D8B511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936A-8532-4FFF-BF4E-06722F3F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AFD-E269-491A-8259-F10BD92F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C71-0AF0-4E5E-9F36-06EFE7F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A78-2DDF-40E1-88E1-86FF7A8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A6F-0668-4367-9F0E-3F4A27D5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589-69FC-425C-B0F0-AAEF076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E7A-8E8E-4EAB-87A2-54E784A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52A-517D-48F7-9A76-9883097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8CE-D278-48B7-A7B3-FC45FD8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399-883E-4DBA-B2F4-AA471EE3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FA2-6D61-4A0A-AC77-E4A7979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3FD-239C-47EB-9CFE-67D9760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077-22C2-4580-AD0C-66B59A1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DD6-5C78-449F-A506-D61E2A352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NS Modeling and Up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kart Mei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 Santa Bar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584360" y="415620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2133720" y="297180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verning equations for Direct Numerical Simulations (D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dimensionles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computational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ed for turbulence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Reynolds-averaged Navier-Stokes (RANS)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Large-eddy simulations (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aspects of upsca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mmary and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7" descr="UCSBWave"/>
          <p:cNvPicPr/>
          <p:nvPr/>
        </p:nvPicPr>
        <p:blipFill>
          <a:blip r:embed="rId1"/>
          <a:stretch/>
        </p:blipFill>
        <p:spPr>
          <a:xfrm>
            <a:off x="228600" y="5943600"/>
            <a:ext cx="17827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NS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57200" y="990720"/>
            <a:ext cx="8153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ccurately reproduc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vide very detail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quire a minimum of empirical modeling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mputationally ver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imited to small Reynolds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Why can we not do a DNS simulation at Re=10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990720"/>
            <a:ext cx="8153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 is a measure of the ratio of the largest (“integral”)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 L of the flow to the smallest (“Kolmogorov”)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η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, at which kinetic energy is dissipated into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urbulence theory show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NS, which resolves all scales, needs to have grid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~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 η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, and computational domain size ~ L  →  nu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rid points in each direction N~Re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3/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For 3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~ Re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9/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Time step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 ~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Computational effort E ~ N</a:t>
            </a:r>
            <a:r>
              <a:rPr b="1" i="1" lang="en-US" sz="2400" spc="-1" strike="noStrike" baseline="-25000">
                <a:solidFill>
                  <a:srgbClr val="00206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 baseline="30000">
                <a:solidFill>
                  <a:srgbClr val="00206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N</a:t>
            </a:r>
            <a:r>
              <a:rPr b="1" i="1" lang="en-US" sz="2400" spc="-1" strike="noStrike" baseline="-25000">
                <a:solidFill>
                  <a:srgbClr val="00206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 baseline="30000">
                <a:solidFill>
                  <a:srgbClr val="00206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N</a:t>
            </a:r>
            <a:r>
              <a:rPr b="1" i="1" lang="en-US" sz="2400" spc="-1" strike="noStrike" baseline="-25000">
                <a:solidFill>
                  <a:srgbClr val="00206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 baseline="30000">
                <a:solidFill>
                  <a:srgbClr val="002060"/>
                </a:solidFill>
                <a:latin typeface="Times New Roman"/>
              </a:rPr>
              <a:t>.</a:t>
            </a:r>
            <a:r>
              <a:rPr b="1" i="1" lang="el-GR" sz="2400" spc="-1" strike="noStrike">
                <a:solidFill>
                  <a:srgbClr val="002060"/>
                </a:solidFill>
                <a:latin typeface="Times New Roman"/>
              </a:rPr>
              <a:t> Δ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 </a:t>
            </a:r>
            <a:r>
              <a:rPr b="1" i="1" lang="en-US" sz="2400" spc="-1" strike="noStrike" baseline="30000">
                <a:solidFill>
                  <a:srgbClr val="002060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~ Re</a:t>
            </a:r>
            <a:r>
              <a:rPr b="1" i="1" lang="en-US" sz="2400" spc="-1" strike="noStrike" baseline="30000">
                <a:solidFill>
                  <a:srgbClr val="00206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ield scale simulation would require 1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imes effort of lab scale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11430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ow can we perform simulations at field sc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990720"/>
            <a:ext cx="8153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ey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hile the large scale flow features are unique for every flo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e smallest scale flow features are similar for all turbu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lows → we may not have to resolve them, but instead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e able to model their main effect (energy extraction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arge scales) by means of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urbulenc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wo different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 temporal averaging of governing equations 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ynolds-averaged Navier-Stokes (RANS)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 spatial averaging of governing equations 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arge-eddy simulations (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ynolds-averaged Navier-Stokes (RANS)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9907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plit all variables (velocity, pressure, sediment concentration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o time-averaged value and flu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888240" cy="594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3048120" y="259092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time-averaged value,             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can still depend 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276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ake time average of the govern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5640120" cy="620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57200" y="45720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blem: nonlinea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62611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838080" y="57913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annot be calculated from time-averaged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closure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762120" y="5791320"/>
            <a:ext cx="14936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→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eed for RANS turbulence mode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" y="990720"/>
            <a:ext cx="81532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ny such models have been developed, e.g. mixing length models, k,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</a:rPr>
              <a:t>ε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models, Reynolds stress model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ach model involves several empirical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ese constants depend on flow geometry, flow physic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specially difficult to determine these empirical constant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mplex multiphase flows, e.g. sediment-laden flow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rosion and de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→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arge amount of uncertainty associated with RA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imulations of complex multiphase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lternative approach: Large-eddy simulations (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7200" y="9907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mploy spatial filtering, resolve only the large scales,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e effects of the small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00200" y="3200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iltered                   filter kernel, has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elocity                  scale </a:t>
            </a:r>
            <a:r>
              <a:rPr b="0" i="1" lang="el-GR" sz="2000" spc="-1" strike="noStrike">
                <a:solidFill>
                  <a:srgbClr val="ff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associated wit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" y="41148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blem: nonlinear terms still lead to closur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571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→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ave to model ‘subgrid scale’ stresses and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73440" cy="1154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276720" y="4876920"/>
            <a:ext cx="16462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→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eed for LES turbulence mode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veral models have been developed, e.g. Smagorinsk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ach model involves several empirical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ynamic’ models have been developed that determine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nstants automatically during the simulation by applying tw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ilters of different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ES generally more accurate than RANS, but also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pensive comput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ill, there is some uncertainty associated with thes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complex  multiphase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→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ore research needed on turbulenc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ES example: Lock-exchange gravity currents (with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S. Radhakrishn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7101000" cy="441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28600" y="1752480"/>
            <a:ext cx="16002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=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(D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=2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(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6520" y="5943600"/>
            <a:ext cx="74674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igh-Re LES shows much more fine-scale structure than low-Re 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ES example: Lock-exchange gravity current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7086600" cy="44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28600" y="1752480"/>
            <a:ext cx="16002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=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(D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=2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(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Other aspects of upscaling (with Z. Bor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938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133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914400"/>
            <a:ext cx="86104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mploy particle-based, microscopic approach to develop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croscopic continuum mode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.g., erosion models to date are mainly phenomenological,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ased on first principles → research at the microsc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evel is needed to develop improved macroscopic eros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3520" y="6400800"/>
            <a:ext cx="8305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oal: Development of more accurate continuum erosion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rode_avi.avi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322800" cy="300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5562720" y="57913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orden an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iburg (20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astal margi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58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rosion, resuspension of particle bed by turbidity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938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133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videot3.avi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6505560" cy="1333440"/>
          </a:xfrm>
          <a:prstGeom prst="rect">
            <a:avLst/>
          </a:prstGeom>
          <a:ln w="0">
            <a:noFill/>
          </a:ln>
        </p:spPr>
      </p:pic>
      <p:pic>
        <p:nvPicPr>
          <p:cNvPr id="144" name="videot4.avi" descr=""/>
          <p:cNvPicPr/>
          <p:nvPr/>
        </p:nvPicPr>
        <p:blipFill>
          <a:blip r:embed="rId2"/>
          <a:stretch/>
        </p:blipFill>
        <p:spPr>
          <a:xfrm>
            <a:off x="2133720" y="4800600"/>
            <a:ext cx="6505560" cy="133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xp_fig"/>
          <p:cNvPicPr/>
          <p:nvPr/>
        </p:nvPicPr>
        <p:blipFill>
          <a:blip r:embed="rId3"/>
          <a:stretch/>
        </p:blipFill>
        <p:spPr>
          <a:xfrm>
            <a:off x="304920" y="2743200"/>
            <a:ext cx="1731960" cy="19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txp_fig"/>
          <p:cNvPicPr/>
          <p:nvPr/>
        </p:nvPicPr>
        <p:blipFill>
          <a:blip r:embed="rId4"/>
          <a:stretch/>
        </p:blipFill>
        <p:spPr>
          <a:xfrm>
            <a:off x="304920" y="4800600"/>
            <a:ext cx="1731960" cy="193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286000" y="411480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eposition outweighs erosion: decaying turbidity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286000" y="632448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rosion outweighs deposition: growing turbidity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2" descr="txp_fig"/>
          <p:cNvPicPr/>
          <p:nvPr/>
        </p:nvPicPr>
        <p:blipFill>
          <a:blip r:embed="rId5"/>
          <a:stretch/>
        </p:blipFill>
        <p:spPr>
          <a:xfrm>
            <a:off x="317520" y="984240"/>
            <a:ext cx="4267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4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143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85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ultiple, polydisperse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eedback of deposit on subsequent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mation of ripples, dun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938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133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movie_gn_flow_40.avi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2860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rosion, resuspension of particle bed by turbidity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1938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133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860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pscaling: Embedding high-resolution simulation wit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arser resolution model  (w. Arango, Harris, Syvits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2"/>
          <p:cNvGrpSpPr/>
          <p:nvPr/>
        </p:nvGrpSpPr>
        <p:grpSpPr>
          <a:xfrm>
            <a:off x="990720" y="1295280"/>
            <a:ext cx="5368680" cy="4667400"/>
            <a:chOff x="990720" y="1295280"/>
            <a:chExt cx="5368680" cy="4667400"/>
          </a:xfrm>
        </p:grpSpPr>
        <p:pic>
          <p:nvPicPr>
            <p:cNvPr id="159" name="Picture 3" descr="bathy"/>
            <p:cNvPicPr/>
            <p:nvPr/>
          </p:nvPicPr>
          <p:blipFill>
            <a:blip r:embed="rId1"/>
            <a:stretch/>
          </p:blipFill>
          <p:spPr>
            <a:xfrm>
              <a:off x="990720" y="1295280"/>
              <a:ext cx="5368680" cy="462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5"/>
            <p:cNvSpPr/>
            <p:nvPr/>
          </p:nvSpPr>
          <p:spPr>
            <a:xfrm>
              <a:off x="1106640" y="5573520"/>
              <a:ext cx="291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2445120" y="4547160"/>
              <a:ext cx="291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011480" y="3387600"/>
              <a:ext cx="291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007520" y="1398240"/>
              <a:ext cx="6915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sw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2434320" y="2538360"/>
              <a:ext cx="6584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sw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1114920" y="3571200"/>
              <a:ext cx="676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sw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457200" y="137160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sted gri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124080" y="5181480"/>
            <a:ext cx="5715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urrent project in Gulf of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ponsored by B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mputational effort for DNS ~ Re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→  for high-Re flows at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cales we can’t perform DNS simulations that resolve all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ed turbulence models that capture the effects of the small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wo main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 RANS simulations: based on temporal aver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 LES simulations: based on spatial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oth of these approaches require closure models inv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mpirical constants  →  difficult to determine  →  uncertain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pscaling from microscopic, particle models to continuu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urbidity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95920" y="52574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urbidity cur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http://www.clas.ufl.ed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880" y="928800"/>
            <a:ext cx="39625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Gravity-driven sediment f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own the continental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mportant element of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edimen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Often triggered by storm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arthqu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n transport many k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ed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istances ~ O(1,000)km or mo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ront velocity ~ O(10m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ront height ~ O(1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turbidity_current1"/>
          <p:cNvPicPr/>
          <p:nvPr/>
        </p:nvPicPr>
        <p:blipFill>
          <a:blip r:embed="rId1"/>
          <a:stretch/>
        </p:blipFill>
        <p:spPr>
          <a:xfrm>
            <a:off x="4508640" y="1981080"/>
            <a:ext cx="4406760" cy="29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igh-resolution modeling framework: Dilut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fraction of grains &lt; O(1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- 1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-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rain radius « grain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mall grains with negligible 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ynam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ffects of grains on fluid continuity equation neg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upling of fluid and grain motion primarily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omentum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diment loading modifies effective flui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diment follows fluid motion, with superimposed settling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derately dilute flows: Two-way coupling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733920" y="4038480"/>
            <a:ext cx="1981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tt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elo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txp_fig"/>
          <p:cNvPicPr/>
          <p:nvPr/>
        </p:nvPicPr>
        <p:blipFill>
          <a:blip r:embed="rId1"/>
          <a:stretch/>
        </p:blipFill>
        <p:spPr>
          <a:xfrm>
            <a:off x="2362320" y="1447920"/>
            <a:ext cx="6251400" cy="255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txp_fig"/>
          <p:cNvPicPr/>
          <p:nvPr/>
        </p:nvPicPr>
        <p:blipFill>
          <a:blip r:embed="rId2"/>
          <a:stretch/>
        </p:blipFill>
        <p:spPr>
          <a:xfrm>
            <a:off x="3429000" y="4800600"/>
            <a:ext cx="5573880" cy="73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7924680" y="2743200"/>
            <a:ext cx="1219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ff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0" y="990720"/>
            <a:ext cx="426708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nserv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oment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d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mensionless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8707680" cy="412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0" y="5638680"/>
            <a:ext cx="6934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ield scale turbidity curr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del problem for DNS simulation (with M. Nasr-Azada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3657600" cy="24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38862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 exchang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14400" y="3505320"/>
            <a:ext cx="388620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nse front propa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long bottom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ight front propa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long top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5607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umerical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708660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9907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cond order central differencing for viscous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ird order ENO scheme for convectiv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ird order TVD Runge-Kutta time ste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jection method to enforce incompre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omain decomposition, 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mploy PETSc (developed by Argonne Nat’l Labs)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on-uniform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mmersed boundary method for complex bottom top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xample: 3D turbidity current over bottom top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24120" y="335268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sr-Azadani, Callies an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iburg (20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" y="838080"/>
            <a:ext cx="8153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rect Numerical Simulation (DNS):  all scales are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3886200"/>
            <a:ext cx="8153640" cy="16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turbidity current develops lobe-and-cleft instability of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urrent dynamics and depositional behavior are strongly affe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y bottom top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eonie's movie.avi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261040" cy="188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838080" y="5562720"/>
            <a:ext cx="6681960" cy="420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80880" y="5943600"/>
            <a:ext cx="81536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→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imulation corresponds to a laboratory scale current, not field sca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urbidity current/sediment bed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838080"/>
            <a:ext cx="81532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low stripping’ in channel turns: lateral over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C:\Users\Eckart\Documents\POWERPOINT\GRAV CUR\flow_stripping (peakall 2000).jpg"/>
          <p:cNvPicPr/>
          <p:nvPr/>
        </p:nvPicPr>
        <p:blipFill>
          <a:blip r:embed="rId1"/>
          <a:stretch/>
        </p:blipFill>
        <p:spPr>
          <a:xfrm>
            <a:off x="914400" y="1905120"/>
            <a:ext cx="2471760" cy="3378240"/>
          </a:xfrm>
          <a:prstGeom prst="rect">
            <a:avLst/>
          </a:prstGeom>
          <a:ln w="0">
            <a:noFill/>
          </a:ln>
        </p:spPr>
      </p:pic>
      <p:pic>
        <p:nvPicPr>
          <p:cNvPr id="89" name="animation2.avi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5600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3:08:29Z</dcterms:created>
  <dc:creator>Eckart Meiburg</dc:creator>
  <dc:description/>
  <dc:language>en-US</dc:language>
  <cp:lastModifiedBy>Eckart</cp:lastModifiedBy>
  <dcterms:modified xsi:type="dcterms:W3CDTF">2011-10-30T14:12:14Z</dcterms:modified>
  <cp:revision>307</cp:revision>
  <dc:subject/>
  <dc:title>Numerical Simulations of Dilute,  Particle Laden Flows </dc:title>
</cp:coreProperties>
</file>