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05141-83EE-49ED-A5A5-9E14F1D3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388-3023-4403-9205-05058FD69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F3D9-E1D1-4321-96B1-C62BFC9BB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3D91-5952-419B-AA52-B6EC08750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9079B-3E65-4B23-838A-4F82897D8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51CF-3C6F-44BA-B5A3-7C8E0623F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A206F-CFAB-4AEA-BF89-4EB3779C8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1689-1BA1-4357-B023-65A2BA627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9E4F-3749-417F-BB0E-D2F8AAB4D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D46B7-F7AD-4710-A1D2-BC21A09FB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F29-4568-43C9-87AA-3FCE21C0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0AFA7-06FC-4571-AFFA-650220B70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58B19-ED56-4883-82EB-D0F93E8573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hosphere Flexure and Surface Processes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as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dimentary Basin Filling: SEDFLU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cean loading of continental margins via sea level chan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rrestri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ng-wavelength features (&gt;50 to 100 k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tonic loading (e.g., a thrust she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acial loading (e.g., coupling of gc2D with other model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rosional unlo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166160" y="6400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y Wick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Lithosphere Flexure and Surface Processes</a:t>
            </a: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3ebf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fic Numerical Solu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ic 2-dimensional uniform infinite plate with vertical loading (shown next slid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oken plate (to simulate fault zones), including end loads if necessar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6160" y="6400800"/>
            <a:ext cx="197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dy Wicker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Macintosh HD:Users:awickert:Documents:Glacial_Isostatic:2Dmodel:TEST.avi" descr=""/>
          <p:cNvPicPr/>
          <p:nvPr/>
        </p:nvPicPr>
        <p:blipFill>
          <a:blip r:embed="rId1"/>
          <a:stretch/>
        </p:blipFill>
        <p:spPr>
          <a:xfrm>
            <a:off x="-825480" y="-380880"/>
            <a:ext cx="10794960" cy="761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6:07:22Z</dcterms:created>
  <dc:creator>Andrew Wickert</dc:creator>
  <dc:description/>
  <dc:language>en-US</dc:language>
  <cp:lastModifiedBy>Andrew Wickert</cp:lastModifiedBy>
  <dcterms:modified xsi:type="dcterms:W3CDTF">2009-10-26T16:37:02Z</dcterms:modified>
  <cp:revision>3</cp:revision>
  <dc:subject/>
  <dc:title>Lithosphere Flexure and Surface Processes </dc:title>
</cp:coreProperties>
</file>