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D33-CB59-4B17-B5AB-62331F8B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79C-47CF-4833-B5A5-3C1DB19A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CD9-8D06-4B8E-9946-5F5BF90C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476-790E-4F43-9C0E-EC60B4A6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8B2-E106-498F-A957-2E7E82E3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348-8E6B-47F2-977F-C609E8F6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FD8-19E5-4560-B79B-FFCFBE1C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841-682E-4F75-8F0C-8CD1931E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7BE-8612-4AA0-ABC2-FE8E2C7C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98F-81A0-42B7-8B60-F2705C48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57F-9AE5-4EAA-9ECD-F894887D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3C8-5750-4CE1-9BB6-C98BB6D5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6004A-7D48-4A6A-B544-8A6F46C9B2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901D8-5655-42A8-846C-415A86D42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hropogenic controls on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mation of the Ebro Del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59984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rew Ashton, Liviu Giosan, Albert Ket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2"/>
          <p:cNvGrpSpPr/>
          <p:nvPr/>
        </p:nvGrpSpPr>
        <p:grpSpPr>
          <a:xfrm>
            <a:off x="1440" y="1604880"/>
            <a:ext cx="4314960" cy="5257800"/>
            <a:chOff x="1440" y="1604880"/>
            <a:chExt cx="4314960" cy="5257800"/>
          </a:xfrm>
        </p:grpSpPr>
        <p:sp>
          <p:nvSpPr>
            <p:cNvPr id="44" name="AutoShape 3"/>
            <p:cNvSpPr/>
            <p:nvPr/>
          </p:nvSpPr>
          <p:spPr>
            <a:xfrm>
              <a:off x="914400" y="1604880"/>
              <a:ext cx="3402000" cy="52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" descr="ebrolocator2"/>
            <p:cNvPicPr/>
            <p:nvPr/>
          </p:nvPicPr>
          <p:blipFill>
            <a:blip r:embed="rId1"/>
            <a:srcRect l="0" t="0" r="0" b="34854"/>
            <a:stretch/>
          </p:blipFill>
          <p:spPr>
            <a:xfrm>
              <a:off x="1440" y="2443680"/>
              <a:ext cx="4314960" cy="368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4" descr="ebrolocator2"/>
          <p:cNvPicPr/>
          <p:nvPr/>
        </p:nvPicPr>
        <p:blipFill>
          <a:blip r:embed="rId2"/>
          <a:srcRect l="0" t="66649" r="51278" b="0"/>
          <a:stretch/>
        </p:blipFill>
        <p:spPr>
          <a:xfrm>
            <a:off x="4848120" y="2444760"/>
            <a:ext cx="42958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Macintosh HD:Users:ashton:Desktop:deltastalks:spita7h2.avi" descr="/Users/ashton/Desktop/deltastalks/spita7h2.avi"/>
          <p:cNvPicPr/>
          <p:nvPr/>
        </p:nvPicPr>
        <p:blipFill>
          <a:blip r:embed="rId1"/>
          <a:stretch/>
        </p:blipFill>
        <p:spPr>
          <a:xfrm>
            <a:off x="1432080" y="3297240"/>
            <a:ext cx="6497640" cy="340848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2"/>
          <p:cNvGrpSpPr/>
          <p:nvPr/>
        </p:nvGrpSpPr>
        <p:grpSpPr>
          <a:xfrm>
            <a:off x="284040" y="177840"/>
            <a:ext cx="8859960" cy="5315040"/>
            <a:chOff x="284040" y="177840"/>
            <a:chExt cx="8859960" cy="5315040"/>
          </a:xfrm>
        </p:grpSpPr>
        <p:sp>
          <p:nvSpPr>
            <p:cNvPr id="50" name="AutoShape 3"/>
            <p:cNvSpPr/>
            <p:nvPr/>
          </p:nvSpPr>
          <p:spPr>
            <a:xfrm>
              <a:off x="284040" y="177840"/>
              <a:ext cx="8859960" cy="53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84040" y="354960"/>
              <a:ext cx="4604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284040" y="2835360"/>
              <a:ext cx="4604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7"/>
            <p:cNvSpPr/>
            <p:nvPr/>
          </p:nvSpPr>
          <p:spPr>
            <a:xfrm>
              <a:off x="5068440" y="3189600"/>
              <a:ext cx="3614760" cy="21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8" descr="Untitled-1"/>
            <p:cNvPicPr/>
            <p:nvPr/>
          </p:nvPicPr>
          <p:blipFill>
            <a:blip r:embed="rId2"/>
            <a:stretch/>
          </p:blipFill>
          <p:spPr>
            <a:xfrm>
              <a:off x="638280" y="177840"/>
              <a:ext cx="8080200" cy="2904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933480" y="971640"/>
            <a:ext cx="4118040" cy="49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newdeltamodel.png"/>
          <p:cNvPicPr/>
          <p:nvPr/>
        </p:nvPicPr>
        <p:blipFill>
          <a:blip r:embed="rId1"/>
          <a:stretch/>
        </p:blipFill>
        <p:spPr>
          <a:xfrm>
            <a:off x="449280" y="192240"/>
            <a:ext cx="614844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760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ta avulsion and shoreline ev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85800" y="1085760"/>
            <a:ext cx="80722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5834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95280" y="274680"/>
            <a:ext cx="820584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4:54:22Z</dcterms:created>
  <dc:creator>Andrew Ashton</dc:creator>
  <dc:description/>
  <dc:language>en-US</dc:language>
  <cp:lastModifiedBy>Andrew Ashton</cp:lastModifiedBy>
  <dcterms:modified xsi:type="dcterms:W3CDTF">2009-10-26T16:30:40Z</dcterms:modified>
  <cp:revision>4</cp:revision>
  <dc:subject/>
  <dc:title>Slide 1</dc:title>
</cp:coreProperties>
</file>