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F16-9A06-4CC6-893D-AF40E05D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E35-C0E4-4D63-A23D-EBC8D994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AD3-44CB-4109-A662-3ACD1DBB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2DF-2789-4431-A32A-95ECAA9F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AA6-88FC-4F85-86E5-C3FC8010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3AB-9DDA-40A5-9DC1-1D86FD02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339-0A1A-47DB-81CA-56098E6D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753-90E8-48F5-9CF2-86FF3854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299-BA99-40AB-BB36-D12AAEE2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50A-B0F3-4A5A-9A0C-2DED6566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DB0-05EF-4954-BCC8-00DDCD54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F5D-E4B6-4D0C-8DB9-0826FC1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CB0E-3926-4749-A00C-DB489F3A8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 to Create Components from 1 Million Lines of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sm to the resc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a Fortran (or C/C++) sourc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 xml description of the component (or 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.sidl, _Impl.F90, and _Mod.F90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334120"/>
            <a:ext cx="9144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Mod.F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380988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f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9640" y="380988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p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1080" y="380988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endCxn id="45" idx="1"/>
          </p:cNvCxnSpPr>
          <p:nvPr/>
        </p:nvCxnSpPr>
        <p:spPr>
          <a:xfrm>
            <a:off x="2041560" y="4114440"/>
            <a:ext cx="83844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046240" y="38098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for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3080" y="41148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dump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endCxn id="46" idx="1"/>
          </p:cNvCxnSpPr>
          <p:nvPr/>
        </p:nvCxnSpPr>
        <p:spPr>
          <a:xfrm>
            <a:off x="3794040" y="4114440"/>
            <a:ext cx="10674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3822120" y="38098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fortran2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3733920"/>
            <a:ext cx="9144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i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449568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Impl.F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61080" y="5029200"/>
            <a:ext cx="914400" cy="60948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.de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0640" y="5105520"/>
            <a:ext cx="71568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>
            <a:off x="3794040" y="53337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004080" y="3870360"/>
            <a:ext cx="47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to Chasm-Assisted Componen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unctions_LinearFunction.impl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xml description of sour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fortran -fdump-parse-tree LinearFunction.f90 &gt; LinearFunction.p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fortran2xml &lt; LinearFunction.ptd &gt; LinearFunction.x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.sidl, _Impl.F90, and _Mod.F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lan –o functions_LinearFunctin.sidl functions_LinearFunction.impl.xml cca-f90-comp.sidl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lan –o functions_LinearFunction_Impl.F90 functions_LinearFunction.impl.xml cca-f90.impl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lan –o functions_LinearFunction_Mod.F90 functions_LinearFunction.impl.xml cca-f90.mod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Babe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34240" y="249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Created XM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Description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mponentImplementation name="LinearFunc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age="function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language name=“F90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roperty name="impl-scope" value="LinearFuncti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roperty name="impl-xm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=”/home/cca/LinearFunction.xm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or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rovides name="FunctionPort" package="function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&lt;MethodsBlock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&lt;Method name="evaluate" impl="evaluate_lf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&lt;/MethodsBloc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rovid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or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languag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componentImplementation&gt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m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hasm-interop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omplete set of tutorial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sm/example/cca-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0:36:15Z</dcterms:created>
  <dc:creator>Chris Rickett</dc:creator>
  <dc:description/>
  <dc:language>en-US</dc:language>
  <cp:lastModifiedBy>Craig Rasmussen</cp:lastModifiedBy>
  <cp:lastPrinted>2005-07-22T21:50:06Z</cp:lastPrinted>
  <dcterms:modified xsi:type="dcterms:W3CDTF">2005-07-22T23:14:53Z</dcterms:modified>
  <cp:revision>18</cp:revision>
  <dc:subject/>
  <dc:title>Slide 1</dc:title>
</cp:coreProperties>
</file>