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29880" y="4406760"/>
            <a:ext cx="5132520" cy="4175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63960" y="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396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881532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3029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32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71523A88-0B65-41F9-96CE-C55895A99F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69800" y="907920"/>
            <a:ext cx="8077320" cy="152640"/>
            <a:chOff x="469800" y="907920"/>
            <a:chExt cx="8077320" cy="152640"/>
          </a:xfrm>
        </p:grpSpPr>
        <p:sp>
          <p:nvSpPr>
            <p:cNvPr id="48" name=""/>
            <p:cNvSpPr/>
            <p:nvPr/>
          </p:nvSpPr>
          <p:spPr>
            <a:xfrm>
              <a:off x="469800" y="907920"/>
              <a:ext cx="8077320" cy="7488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9800" y="102240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69800" y="2660760"/>
            <a:ext cx="8077320" cy="152280"/>
            <a:chOff x="469800" y="2660760"/>
            <a:chExt cx="8077320" cy="152280"/>
          </a:xfrm>
        </p:grpSpPr>
        <p:sp>
          <p:nvSpPr>
            <p:cNvPr id="51" name=""/>
            <p:cNvSpPr/>
            <p:nvPr/>
          </p:nvSpPr>
          <p:spPr>
            <a:xfrm>
              <a:off x="469800" y="266076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9800" y="277488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orcing Language Dependencies from a Scientific Softwar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29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ary Kumfe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cott Koh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Jeff Pai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&amp;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al Ribbe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726080" y="5334120"/>
            <a:ext cx="2225880" cy="459720"/>
            <a:chOff x="4726080" y="5334120"/>
            <a:chExt cx="2225880" cy="459720"/>
          </a:xfrm>
        </p:grpSpPr>
        <p:sp>
          <p:nvSpPr>
            <p:cNvPr id="58" name=""/>
            <p:cNvSpPr/>
            <p:nvPr/>
          </p:nvSpPr>
          <p:spPr>
            <a:xfrm>
              <a:off x="4726080" y="5334120"/>
              <a:ext cx="957960" cy="459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LN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89080" y="5334120"/>
              <a:ext cx="126288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aTe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visione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124080"/>
            <a:ext cx="6705720" cy="190512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029200"/>
            <a:ext cx="3429000" cy="685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3352680" cy="83808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(ANSI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hypre_logo_orig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3009960" cy="11192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4724280" y="1676520"/>
            <a:ext cx="3353040" cy="1447560"/>
            <a:chOff x="4724280" y="1676520"/>
            <a:chExt cx="3353040" cy="1447560"/>
          </a:xfrm>
        </p:grpSpPr>
        <p:sp>
          <p:nvSpPr>
            <p:cNvPr id="143" name=""/>
            <p:cNvSpPr/>
            <p:nvPr/>
          </p:nvSpPr>
          <p:spPr>
            <a:xfrm>
              <a:off x="4724280" y="2286000"/>
              <a:ext cx="3353040" cy="8380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24280" y="1676520"/>
              <a:ext cx="8384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62940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678168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476400" y="19810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babel_dropshadow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54864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minimal working subset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Sol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SIDL descrip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base classes to create hei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 generated code to exist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Creating wrong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has 3 types of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- no implementations (pure abstrac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- partia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 - ful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were crea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wh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eant to cre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276720"/>
            <a:ext cx="4800600" cy="3298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Fix The Gramm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issues error if a method is undefined and class is not declared abstr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mplements-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s al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d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s user ty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implements-a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Managing all the Fi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creates many source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269600" y="2286000"/>
            <a:ext cx="1145520" cy="1069200"/>
            <a:chOff x="4269600" y="2286000"/>
            <a:chExt cx="1145520" cy="1069200"/>
          </a:xfrm>
        </p:grpSpPr>
        <p:sp>
          <p:nvSpPr>
            <p:cNvPr id="164" name=""/>
            <p:cNvSpPr/>
            <p:nvPr/>
          </p:nvSpPr>
          <p:spPr>
            <a:xfrm rot="10800000">
              <a:off x="4574880" y="2286000"/>
              <a:ext cx="533160" cy="685440"/>
            </a:xfrm>
            <a:prstGeom prst="foldedCorner">
              <a:avLst>
                <a:gd name="adj" fmla="val 2708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9600" y="289548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o.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9840" y="3352680"/>
            <a:ext cx="8759520" cy="2973960"/>
            <a:chOff x="249840" y="3352680"/>
            <a:chExt cx="8759520" cy="2973960"/>
          </a:xfrm>
        </p:grpSpPr>
        <p:grpSp>
          <p:nvGrpSpPr>
            <p:cNvPr id="167" name=""/>
            <p:cNvGrpSpPr/>
            <p:nvPr/>
          </p:nvGrpSpPr>
          <p:grpSpPr>
            <a:xfrm>
              <a:off x="249840" y="3962520"/>
              <a:ext cx="775080" cy="1069200"/>
              <a:chOff x="249840" y="3962520"/>
              <a:chExt cx="775080" cy="1069200"/>
            </a:xfrm>
          </p:grpSpPr>
          <p:sp>
            <p:nvSpPr>
              <p:cNvPr id="168" name=""/>
              <p:cNvSpPr/>
              <p:nvPr/>
            </p:nvSpPr>
            <p:spPr>
              <a:xfrm rot="10800000">
                <a:off x="371160" y="3962520"/>
                <a:ext cx="533160" cy="685440"/>
              </a:xfrm>
              <a:prstGeom prst="foldedCorner">
                <a:avLst>
                  <a:gd name="adj" fmla="val 27083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9840" y="4572000"/>
                <a:ext cx="77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oo.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420360" y="3962520"/>
              <a:ext cx="1366560" cy="2364120"/>
              <a:chOff x="3420360" y="3962520"/>
              <a:chExt cx="1366560" cy="23641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3429360" y="5257440"/>
                <a:ext cx="1349640" cy="1069200"/>
                <a:chOff x="3429360" y="5257440"/>
                <a:chExt cx="1349640" cy="1069200"/>
              </a:xfrm>
            </p:grpSpPr>
            <p:sp>
              <p:nvSpPr>
                <p:cNvPr id="172" name=""/>
                <p:cNvSpPr/>
                <p:nvPr/>
              </p:nvSpPr>
              <p:spPr>
                <a:xfrm rot="10800000">
                  <a:off x="383652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29360" y="5866920"/>
                  <a:ext cx="134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20360" y="3962520"/>
                <a:ext cx="1366560" cy="1069200"/>
                <a:chOff x="3420360" y="3962520"/>
                <a:chExt cx="1366560" cy="1069200"/>
              </a:xfrm>
            </p:grpSpPr>
            <p:sp>
              <p:nvSpPr>
                <p:cNvPr id="175" name=""/>
                <p:cNvSpPr/>
                <p:nvPr/>
              </p:nvSpPr>
              <p:spPr>
                <a:xfrm rot="10800000">
                  <a:off x="38350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20360" y="4572000"/>
                  <a:ext cx="1366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5184000" y="3962520"/>
              <a:ext cx="1704600" cy="2364120"/>
              <a:chOff x="5184000" y="3962520"/>
              <a:chExt cx="1704600" cy="23641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250600" y="3962520"/>
                <a:ext cx="1569240" cy="1069200"/>
                <a:chOff x="5250600" y="3962520"/>
                <a:chExt cx="1569240" cy="1069200"/>
              </a:xfrm>
            </p:grpSpPr>
            <p:sp>
              <p:nvSpPr>
                <p:cNvPr id="179" name=""/>
                <p:cNvSpPr/>
                <p:nvPr/>
              </p:nvSpPr>
              <p:spPr>
                <a:xfrm rot="10800000">
                  <a:off x="57668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250600" y="4572000"/>
                  <a:ext cx="156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184000" y="5257440"/>
                <a:ext cx="1704600" cy="1069200"/>
                <a:chOff x="5184000" y="5257440"/>
                <a:chExt cx="1704600" cy="1069200"/>
              </a:xfrm>
            </p:grpSpPr>
            <p:sp>
              <p:nvSpPr>
                <p:cNvPr id="182" name=""/>
                <p:cNvSpPr/>
                <p:nvPr/>
              </p:nvSpPr>
              <p:spPr>
                <a:xfrm rot="10800000">
                  <a:off x="57686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184000" y="5866920"/>
                  <a:ext cx="170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7287840" y="3962520"/>
              <a:ext cx="1721520" cy="2364120"/>
              <a:chOff x="7287840" y="3962520"/>
              <a:chExt cx="1721520" cy="23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7356600" y="3962520"/>
                <a:ext cx="1585800" cy="1069200"/>
                <a:chOff x="7356600" y="3962520"/>
                <a:chExt cx="1585800" cy="1069200"/>
              </a:xfrm>
            </p:grpSpPr>
            <p:sp>
              <p:nvSpPr>
                <p:cNvPr id="186" name=""/>
                <p:cNvSpPr/>
                <p:nvPr/>
              </p:nvSpPr>
              <p:spPr>
                <a:xfrm rot="10800000">
                  <a:off x="78800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56600" y="4572000"/>
                  <a:ext cx="15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287840" y="5257440"/>
                <a:ext cx="1721520" cy="1069200"/>
                <a:chOff x="7287840" y="5257440"/>
                <a:chExt cx="1721520" cy="1069200"/>
              </a:xfrm>
            </p:grpSpPr>
            <p:sp>
              <p:nvSpPr>
                <p:cNvPr id="189" name=""/>
                <p:cNvSpPr/>
                <p:nvPr/>
              </p:nvSpPr>
              <p:spPr>
                <a:xfrm rot="10800000">
                  <a:off x="78800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287840" y="5866920"/>
                  <a:ext cx="1721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1419480" y="3962520"/>
              <a:ext cx="1604160" cy="2364120"/>
              <a:chOff x="1419480" y="3962520"/>
              <a:chExt cx="1604160" cy="23641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427040" y="5257440"/>
                <a:ext cx="1587240" cy="1069200"/>
                <a:chOff x="1427040" y="5257440"/>
                <a:chExt cx="1587240" cy="1069200"/>
              </a:xfrm>
            </p:grpSpPr>
            <p:sp>
              <p:nvSpPr>
                <p:cNvPr id="193" name=""/>
                <p:cNvSpPr/>
                <p:nvPr/>
              </p:nvSpPr>
              <p:spPr>
                <a:xfrm rot="10800000">
                  <a:off x="195228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427040" y="5866920"/>
                  <a:ext cx="1587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419480" y="3962520"/>
                <a:ext cx="1604160" cy="1069200"/>
                <a:chOff x="1419480" y="3962520"/>
                <a:chExt cx="1604160" cy="1069200"/>
              </a:xfrm>
            </p:grpSpPr>
            <p:sp>
              <p:nvSpPr>
                <p:cNvPr id="196" name=""/>
                <p:cNvSpPr/>
                <p:nvPr/>
              </p:nvSpPr>
              <p:spPr>
                <a:xfrm rot="10800000">
                  <a:off x="19522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19480" y="4572000"/>
                  <a:ext cx="160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 flipH="1">
              <a:off x="1142640" y="3352680"/>
              <a:ext cx="33526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666880" y="3352680"/>
              <a:ext cx="19814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343400" y="3352680"/>
              <a:ext cx="5335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29200" y="3352680"/>
              <a:ext cx="685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57800" y="3352680"/>
              <a:ext cx="24382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362320" y="2286000"/>
            <a:ext cx="6346080" cy="1371600"/>
            <a:chOff x="2362320" y="2286000"/>
            <a:chExt cx="6346080" cy="1371600"/>
          </a:xfrm>
        </p:grpSpPr>
        <p:sp>
          <p:nvSpPr>
            <p:cNvPr id="204" name=""/>
            <p:cNvSpPr/>
            <p:nvPr/>
          </p:nvSpPr>
          <p:spPr>
            <a:xfrm>
              <a:off x="2362320" y="3276720"/>
              <a:ext cx="4572000" cy="380880"/>
            </a:xfrm>
            <a:custGeom>
              <a:avLst/>
              <a:gdLst/>
              <a:ahLst/>
              <a:rect l="l" t="t" r="r" b="b"/>
              <a:pathLst>
                <a:path w="2880" h="240">
                  <a:moveTo>
                    <a:pt x="0" y="0"/>
                  </a:moveTo>
                  <a:cubicBezTo>
                    <a:pt x="552" y="120"/>
                    <a:pt x="1104" y="240"/>
                    <a:pt x="1584" y="240"/>
                  </a:cubicBezTo>
                  <a:cubicBezTo>
                    <a:pt x="2064" y="240"/>
                    <a:pt x="2472" y="120"/>
                    <a:pt x="2880" y="0"/>
                  </a:cubicBezTo>
                </a:path>
              </a:pathLst>
            </a:custGeom>
            <a:noFill/>
            <a:ln w="7632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04520" y="2286000"/>
              <a:ext cx="2603880" cy="8254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ne set for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ss &amp;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Babel Generat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file Macr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“babel.make” file is gene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s include it into their own make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control the build r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provide the file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09680"/>
            <a:ext cx="3962520" cy="201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SRCS = foo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HDRS = foo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Developer would do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SIDL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Babel to generate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edit “Impl” files to call their library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return 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this was done for 20 classes, each with 20 metho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a class needed a 21s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would regenerate all files and wipe out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Code Spli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reservation of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Splicer works line-by-li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s old code into new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s for begin-end pairs embedded in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200400"/>
            <a:ext cx="7848720" cy="33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Foo_doThis ) 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Foo_doThi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C, F77, or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SPARC Solaris  or  DEC/OS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ore languages &amp; platforms com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interference with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 overhead within runtime no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971800" y="152280"/>
            <a:ext cx="3276720" cy="1200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496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T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pecify “interfaces” in our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generate glue code between application and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of a Component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OOP in non-OOP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safe Dynamic Casting and QueryInterfac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21" name=""/>
            <p:cNvSpPr/>
            <p:nvPr/>
          </p:nvSpPr>
          <p:spPr>
            <a:xfrm>
              <a:off x="1371600" y="3124080"/>
              <a:ext cx="6705720" cy="190512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5029200"/>
              <a:ext cx="342900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2286000"/>
              <a:ext cx="3352680" cy="83808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yp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 (ANSI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hypre_logo_orig" descr=""/>
            <p:cNvPicPr/>
            <p:nvPr/>
          </p:nvPicPr>
          <p:blipFill>
            <a:blip r:embed="rId1"/>
            <a:stretch/>
          </p:blipFill>
          <p:spPr>
            <a:xfrm>
              <a:off x="3352680" y="358128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"/>
            <p:cNvGrpSpPr/>
            <p:nvPr/>
          </p:nvGrpSpPr>
          <p:grpSpPr>
            <a:xfrm>
              <a:off x="4724280" y="1676520"/>
              <a:ext cx="3353040" cy="1447560"/>
              <a:chOff x="4724280" y="1676520"/>
              <a:chExt cx="3353040" cy="1447560"/>
            </a:xfrm>
          </p:grpSpPr>
          <p:sp>
            <p:nvSpPr>
              <p:cNvPr id="226" name=""/>
              <p:cNvSpPr/>
              <p:nvPr/>
            </p:nvSpPr>
            <p:spPr>
              <a:xfrm>
                <a:off x="4724280" y="2286000"/>
                <a:ext cx="3353040" cy="8380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24280" y="1676520"/>
                <a:ext cx="83844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7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34320" y="1676520"/>
                <a:ext cx="114300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yth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62720" y="1676520"/>
                <a:ext cx="83808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+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62940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678168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6476400" y="1981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3" name="babel_dropshadow" descr=""/>
              <p:cNvPicPr/>
              <p:nvPr/>
            </p:nvPicPr>
            <p:blipFill>
              <a:blip r:embed="rId2">
                <a:lum bright="-12000"/>
              </a:blip>
              <a:stretch/>
            </p:blipFill>
            <p:spPr>
              <a:xfrm>
                <a:off x="5486400" y="2362320"/>
                <a:ext cx="190512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st Result:  Change of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36" name=""/>
            <p:cNvSpPr/>
            <p:nvPr/>
          </p:nvSpPr>
          <p:spPr>
            <a:xfrm>
              <a:off x="1371600" y="2286000"/>
              <a:ext cx="6705720" cy="34290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1600" y="5029200"/>
              <a:ext cx="312444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1600" y="3124440"/>
              <a:ext cx="5943600" cy="190476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hypre_logo_orig" descr=""/>
            <p:cNvPicPr/>
            <p:nvPr/>
          </p:nvPicPr>
          <p:blipFill>
            <a:blip r:embed="rId3"/>
            <a:stretch/>
          </p:blipFill>
          <p:spPr>
            <a:xfrm>
              <a:off x="3048120" y="358164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72464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662940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6781320" y="1980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47712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babel_dropshadow" descr=""/>
            <p:cNvPicPr/>
            <p:nvPr/>
          </p:nvPicPr>
          <p:blipFill>
            <a:blip r:embed="rId4">
              <a:lum bright="-12000"/>
            </a:blip>
            <a:stretch/>
          </p:blipFill>
          <p:spPr>
            <a:xfrm>
              <a:off x="38862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371600" y="1676520"/>
              <a:ext cx="33530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SI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3520" y="5181840"/>
              <a:ext cx="21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 Run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15200" y="50292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93080" y="2514600"/>
              <a:ext cx="12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7160" y="25146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sons for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using the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and F77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at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d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discussing designs in S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for e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ssible to mix implementation &amp;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inced of Babel’s longe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enforces regularity i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automatic reference count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lent compromise betwe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polymorphism and OO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all ANSI C for maximum por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&amp; Future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:  C, C++, F77, Python (Cli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ing: Python(Server), Java, F90, Matla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es RMI / Distributed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Data Redistributio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ization efforts in LLN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RA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124080" y="5181480"/>
            <a:ext cx="502920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ublic Beta Releas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te Summer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d3a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Websi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exandria (Component Repositor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orum (Online Vot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Parallel Re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hyp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banner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360" y="650880"/>
            <a:ext cx="467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0349 Rev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to Babel’s Interoperabilit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265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560" y="2362320"/>
            <a:ext cx="2841480" cy="1407960"/>
            <a:chOff x="5335560" y="2362320"/>
            <a:chExt cx="2841480" cy="1407960"/>
          </a:xfrm>
        </p:grpSpPr>
        <p:sp>
          <p:nvSpPr>
            <p:cNvPr id="268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560" y="2944800"/>
              <a:ext cx="284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mediate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272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273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42960" y="1302840"/>
            <a:ext cx="7443000" cy="5209200"/>
            <a:chOff x="642960" y="1302840"/>
            <a:chExt cx="7443000" cy="5209200"/>
          </a:xfrm>
        </p:grpSpPr>
        <p:sp>
          <p:nvSpPr>
            <p:cNvPr id="278" name=""/>
            <p:cNvSpPr/>
            <p:nvPr/>
          </p:nvSpPr>
          <p:spPr>
            <a:xfrm rot="20190000">
              <a:off x="618840" y="1968480"/>
              <a:ext cx="278676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uman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190000">
              <a:off x="4509360" y="5586480"/>
              <a:ext cx="243180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b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190000">
              <a:off x="5096520" y="1886040"/>
              <a:ext cx="302292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r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1562040"/>
            <a:ext cx="43434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ge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-Process Optimiz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Microsoft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s on sophisticated development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peci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ly highest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 Ab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mplex Intrinsic Data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Fortran77/90/95 bind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cept of SPMD 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62840" y="15228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7200" y="838080"/>
            <a:ext cx="2133720" cy="152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990360"/>
            <a:ext cx="76320" cy="152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990720"/>
            <a:ext cx="15228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2680" y="298440"/>
            <a:ext cx="8712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 mean b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Language Interoperability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0120" y="289548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8960" y="40384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2920" y="49528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75960" y="167652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85280" y="289548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6" idx="2"/>
            <a:endCxn id="63" idx="0"/>
          </p:cNvCxnSpPr>
          <p:nvPr/>
        </p:nvCxnSpPr>
        <p:spPr>
          <a:xfrm flipH="1">
            <a:off x="2232720" y="2435040"/>
            <a:ext cx="248868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66" idx="2"/>
            <a:endCxn id="67" idx="0"/>
          </p:cNvCxnSpPr>
          <p:nvPr/>
        </p:nvCxnSpPr>
        <p:spPr>
          <a:xfrm>
            <a:off x="4721400" y="2435040"/>
            <a:ext cx="252000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3" idx="2"/>
            <a:endCxn id="65" idx="0"/>
          </p:cNvCxnSpPr>
          <p:nvPr/>
        </p:nvCxnSpPr>
        <p:spPr>
          <a:xfrm flipH="1">
            <a:off x="1607400" y="3654360"/>
            <a:ext cx="626040" cy="1280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3" idx="2"/>
            <a:endCxn id="64" idx="0"/>
          </p:cNvCxnSpPr>
          <p:nvPr/>
        </p:nvCxnSpPr>
        <p:spPr>
          <a:xfrm>
            <a:off x="2233440" y="3654360"/>
            <a:ext cx="2542320" cy="36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4" idx="1"/>
            <a:endCxn id="65" idx="3"/>
          </p:cNvCxnSpPr>
          <p:nvPr/>
        </p:nvCxnSpPr>
        <p:spPr>
          <a:xfrm flipH="1">
            <a:off x="2930040" y="4408560"/>
            <a:ext cx="86112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 Code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0"/>
            <a:endCxn id="75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6" idx="2"/>
            <a:endCxn id="80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6" idx="3"/>
            <a:endCxn id="79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5" idx="0"/>
            <a:endCxn id="77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78" idx="0"/>
            <a:endCxn id="77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80" idx="0"/>
            <a:endCxn id="75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9" idx="1"/>
            <a:endCxn id="75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76" idx="0"/>
            <a:endCxn id="77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86200" y="3505320"/>
            <a:ext cx="121932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s, Virtual Functions, RMI &amp; Reference Counting: all from Ba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77920" y="316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39960" y="43480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33520" y="2214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9280" y="31669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2920" y="43480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73320" y="55040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53800" y="38401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Arial"/>
              </a:rPr>
              <a:t>B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505320"/>
            <a:ext cx="144756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743200"/>
            <a:ext cx="0" cy="8380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52880" y="3505320"/>
            <a:ext cx="144792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356000"/>
            <a:ext cx="99072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19520" y="4355640"/>
            <a:ext cx="121896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724280"/>
            <a:ext cx="0" cy="83844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generates glue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23760" y="3048120"/>
            <a:ext cx="1752840" cy="1295280"/>
          </a:xfrm>
          <a:prstGeom prst="flowChartMultidocumen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8000" y="344808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SIDL interface</a:t>
            </a:r>
            <a:br>
              <a:rPr sz="1600"/>
            </a:b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436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57920" y="35272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b61"/>
                </a:solidFill>
                <a:latin typeface="Arial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4024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8760" y="35272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468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9960" y="352728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0c0"/>
                </a:solidFill>
                <a:latin typeface="Arial"/>
              </a:rPr>
              <a:t>back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79360" y="2819520"/>
            <a:ext cx="473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1720" y="3284640"/>
            <a:ext cx="3268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82800" y="4216320"/>
            <a:ext cx="866520" cy="337320"/>
          </a:xfrm>
          <a:prstGeom prst="rect">
            <a:avLst/>
          </a:prstGeom>
          <a:noFill/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yth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2560" y="3749760"/>
            <a:ext cx="5648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10280" y="312372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010280" y="3504960"/>
            <a:ext cx="3812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3809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9625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3240" y="1523880"/>
            <a:ext cx="1371600" cy="106704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2480" y="1752480"/>
            <a:ext cx="147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machine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configuration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66688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13640" y="51814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XML repository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interface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952880"/>
            <a:ext cx="1981440" cy="1219320"/>
          </a:xfrm>
          <a:prstGeom prst="flowChartMultidocument">
            <a:avLst/>
          </a:prstGeom>
          <a:noFill/>
          <a:ln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00400" y="419076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tific Interface Definition Language (SID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a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to be “divorced” from its language depend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able parallel linear solvers and preconditioners (LLN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ed in ANSI C using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Based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ypre_logo_orig" descr=""/>
          <p:cNvPicPr/>
          <p:nvPr/>
        </p:nvPicPr>
        <p:blipFill>
          <a:blip r:embed="rId1"/>
          <a:stretch/>
        </p:blipFill>
        <p:spPr>
          <a:xfrm>
            <a:off x="2743200" y="0"/>
            <a:ext cx="34671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on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e Babel technolog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from library develop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re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ally create Fortran bin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new desig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-Orient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-B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 other softwa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 or F7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kumfert</cp:lastModifiedBy>
  <cp:lastPrinted>2001-03-09T22:09:57Z</cp:lastPrinted>
  <dcterms:modified xsi:type="dcterms:W3CDTF">2001-03-09T23:21:45Z</dcterms:modified>
  <cp:revision>35</cp:revision>
  <dc:subject/>
  <dc:title> Name Center for Applied Scientific Computing  month day, 1998</dc:title>
</cp:coreProperties>
</file>