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2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3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2960" y="4346280"/>
            <a:ext cx="503064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136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404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1868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136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404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07480" y="6512040"/>
            <a:ext cx="66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KK </a:t>
            </a:r>
            <a:fld id="{4DE1C6C1-BCD3-43CD-93DB-41AF4D583EA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98520" y="6591240"/>
            <a:ext cx="70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6089"/>
                </a:solidFill>
                <a:latin typeface="Arial"/>
              </a:rPr>
              <a:t>CA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5" name="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" name="babel_dropshadow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3886200" y="6383160"/>
            <a:ext cx="1295280" cy="47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9040" y="3504960"/>
            <a:ext cx="8305920" cy="283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ary Kumfert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ith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ill Bosl, Tammy Dahlgren,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m Epperly, Scott Kohn, &amp;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teve Smit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5786280"/>
            <a:ext cx="2543040" cy="91944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457200" y="228600"/>
            <a:ext cx="8077320" cy="151920"/>
            <a:chOff x="457200" y="228600"/>
            <a:chExt cx="8077320" cy="151920"/>
          </a:xfrm>
        </p:grpSpPr>
        <p:sp>
          <p:nvSpPr>
            <p:cNvPr id="50" name=""/>
            <p:cNvSpPr/>
            <p:nvPr/>
          </p:nvSpPr>
          <p:spPr>
            <a:xfrm>
              <a:off x="457200" y="228600"/>
              <a:ext cx="8077320" cy="7452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7200" y="342720"/>
              <a:ext cx="8077320" cy="3780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533520" y="3352680"/>
            <a:ext cx="8076960" cy="152280"/>
            <a:chOff x="533520" y="3352680"/>
            <a:chExt cx="8076960" cy="152280"/>
          </a:xfrm>
        </p:grpSpPr>
        <p:sp>
          <p:nvSpPr>
            <p:cNvPr id="53" name=""/>
            <p:cNvSpPr/>
            <p:nvPr/>
          </p:nvSpPr>
          <p:spPr>
            <a:xfrm>
              <a:off x="533520" y="3352680"/>
              <a:ext cx="8076960" cy="7452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3520" y="3466800"/>
              <a:ext cx="807696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09480" y="1219320"/>
            <a:ext cx="79250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229600" y="6019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28600" y="304920"/>
            <a:ext cx="68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chieving Languag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nteroperability wit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babel_dropshadow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2552760" y="1954080"/>
            <a:ext cx="4038480" cy="14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99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DL (Scientific Interface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finition Language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0827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ilds on Industry IDL technolog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B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ed for  Scientific Ap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x typ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ynamic multidimensional arr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43400" y="1752480"/>
            <a:ext cx="4495680" cy="3141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ersion Hello 1.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ackage Hello {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lass World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 getMsg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04920" y="-76320"/>
            <a:ext cx="9296280" cy="693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457200" y="685800"/>
            <a:ext cx="960120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-457200" y="1447920"/>
            <a:ext cx="9601200" cy="5410080"/>
            <a:chOff x="-457200" y="1447920"/>
            <a:chExt cx="9601200" cy="5410080"/>
          </a:xfrm>
        </p:grpSpPr>
        <p:sp>
          <p:nvSpPr>
            <p:cNvPr id="154" name=""/>
            <p:cNvSpPr/>
            <p:nvPr/>
          </p:nvSpPr>
          <p:spPr>
            <a:xfrm>
              <a:off x="-457200" y="1447920"/>
              <a:ext cx="9601200" cy="457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1523880"/>
              <a:ext cx="685800" cy="5334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-457200" y="1828800"/>
            <a:ext cx="960120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-457200" y="2209680"/>
            <a:ext cx="9601200" cy="1524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-457200" y="3657600"/>
            <a:ext cx="9601200" cy="1219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-457200" y="4800600"/>
            <a:ext cx="9601200" cy="1600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-457200" y="0"/>
            <a:ext cx="960120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0"/>
            <a:ext cx="876312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ersion MySolverLib 0.1.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ESI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ckage MySolverLib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rface MatrixGenerator { ...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OptionDatabas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getOption( in string name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ut string va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Vector implements-all ESI.Vector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setOptions( in OptionDatabase db );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Bizarre implements MatrixGenerator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setData( in array&lt;dcomplex,2&gt; a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280360" cy="90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ny forms of language interoperable interfa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225800" y="2362320"/>
            <a:ext cx="2887200" cy="1407960"/>
            <a:chOff x="1225800" y="2362320"/>
            <a:chExt cx="2887200" cy="1407960"/>
          </a:xfrm>
        </p:grpSpPr>
        <p:sp>
          <p:nvSpPr>
            <p:cNvPr id="164" name=""/>
            <p:cNvSpPr/>
            <p:nvPr/>
          </p:nvSpPr>
          <p:spPr>
            <a:xfrm>
              <a:off x="2057400" y="2362320"/>
              <a:ext cx="122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SID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25800" y="2944800"/>
              <a:ext cx="2887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cientific 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finition Langu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3640" y="2362320"/>
            <a:ext cx="2245680" cy="1407960"/>
            <a:chOff x="5633640" y="2362320"/>
            <a:chExt cx="2245680" cy="1407960"/>
          </a:xfrm>
        </p:grpSpPr>
        <p:sp>
          <p:nvSpPr>
            <p:cNvPr id="167" name=""/>
            <p:cNvSpPr/>
            <p:nvPr/>
          </p:nvSpPr>
          <p:spPr>
            <a:xfrm>
              <a:off x="6258600" y="2362320"/>
              <a:ext cx="992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IO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33640" y="2944800"/>
              <a:ext cx="224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nal Obj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pres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4114800" y="30481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743920" y="3981600"/>
            <a:ext cx="3809520" cy="1869840"/>
            <a:chOff x="2743920" y="3981600"/>
            <a:chExt cx="3809520" cy="1869840"/>
          </a:xfrm>
        </p:grpSpPr>
        <p:grpSp>
          <p:nvGrpSpPr>
            <p:cNvPr id="171" name=""/>
            <p:cNvGrpSpPr/>
            <p:nvPr/>
          </p:nvGrpSpPr>
          <p:grpSpPr>
            <a:xfrm>
              <a:off x="3356640" y="4419720"/>
              <a:ext cx="2702880" cy="1431720"/>
              <a:chOff x="3356640" y="4419720"/>
              <a:chExt cx="2702880" cy="1431720"/>
            </a:xfrm>
          </p:grpSpPr>
          <p:sp>
            <p:nvSpPr>
              <p:cNvPr id="172" name=""/>
              <p:cNvSpPr/>
              <p:nvPr/>
            </p:nvSpPr>
            <p:spPr>
              <a:xfrm>
                <a:off x="4135320" y="4419720"/>
                <a:ext cx="114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XML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356640" y="5025960"/>
                <a:ext cx="27028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eXtensible Marku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Languag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2743920" y="3981600"/>
              <a:ext cx="988920" cy="573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562720" y="3983040"/>
              <a:ext cx="990720" cy="569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 rot="20190000">
            <a:off x="618840" y="1968480"/>
            <a:ext cx="2786760" cy="45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Compat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20190000">
            <a:off x="4509360" y="5586480"/>
            <a:ext cx="2431800" cy="45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Compat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20190000">
            <a:off x="5096520" y="1886040"/>
            <a:ext cx="3022920" cy="45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r Compat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ML enables..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799880" y="1371600"/>
            <a:ext cx="4345560" cy="2352600"/>
            <a:chOff x="4799880" y="1371600"/>
            <a:chExt cx="4345560" cy="2352600"/>
          </a:xfrm>
        </p:grpSpPr>
        <p:cxnSp>
          <p:nvCxnSpPr>
            <p:cNvPr id="181" name=""/>
            <p:cNvCxnSpPr>
              <a:stCxn id="182" idx="2"/>
              <a:endCxn id="183" idx="2"/>
            </p:cNvCxnSpPr>
            <p:nvPr/>
          </p:nvCxnSpPr>
          <p:spPr>
            <a:xfrm rot="5400000">
              <a:off x="5284080" y="1953720"/>
              <a:ext cx="1243800" cy="2212200"/>
            </a:xfrm>
            <a:prstGeom prst="curvedConnector5">
              <a:avLst>
                <a:gd name="adj1" fmla="val 49015"/>
                <a:gd name="adj2" fmla="val 50000"/>
                <a:gd name="adj3" fmla="val 49015"/>
              </a:avLst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</p:cxnSp>
        <p:sp>
          <p:nvSpPr>
            <p:cNvPr id="182" name=""/>
            <p:cNvSpPr/>
            <p:nvPr/>
          </p:nvSpPr>
          <p:spPr>
            <a:xfrm>
              <a:off x="4878720" y="1371600"/>
              <a:ext cx="4266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...automated cre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via higher-level tool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6248520" y="2438280"/>
              <a:ext cx="1876320" cy="1285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CCAScript</a:t>
              </a:r>
              <a:endPara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27160" y="1600200"/>
            <a:ext cx="5182920" cy="4571640"/>
            <a:chOff x="227160" y="1600200"/>
            <a:chExt cx="5182920" cy="4571640"/>
          </a:xfrm>
        </p:grpSpPr>
        <p:cxnSp>
          <p:nvCxnSpPr>
            <p:cNvPr id="186" name=""/>
            <p:cNvCxnSpPr>
              <a:stCxn id="187" idx="6"/>
              <a:endCxn id="183" idx="0"/>
            </p:cNvCxnSpPr>
            <p:nvPr/>
          </p:nvCxnSpPr>
          <p:spPr>
            <a:xfrm>
              <a:off x="1600200" y="3124080"/>
              <a:ext cx="3201120" cy="558000"/>
            </a:xfrm>
            <a:prstGeom prst="curvedConnector2">
              <a:avLst/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</p:cxnSp>
        <p:sp>
          <p:nvSpPr>
            <p:cNvPr id="183" name=""/>
            <p:cNvSpPr/>
            <p:nvPr/>
          </p:nvSpPr>
          <p:spPr>
            <a:xfrm>
              <a:off x="4191120" y="3657600"/>
              <a:ext cx="1218960" cy="914400"/>
            </a:xfrm>
            <a:prstGeom prst="cloudCallout">
              <a:avLst>
                <a:gd name="adj1" fmla="val -17708"/>
                <a:gd name="adj2" fmla="val 214930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4114800" y="4876920"/>
              <a:ext cx="1142640" cy="1294920"/>
              <a:chOff x="4114800" y="4876920"/>
              <a:chExt cx="1142640" cy="1294920"/>
            </a:xfrm>
          </p:grpSpPr>
          <p:sp>
            <p:nvSpPr>
              <p:cNvPr id="189" name=""/>
              <p:cNvSpPr/>
              <p:nvPr/>
            </p:nvSpPr>
            <p:spPr>
              <a:xfrm>
                <a:off x="4114800" y="4876920"/>
                <a:ext cx="1142640" cy="1294920"/>
              </a:xfrm>
              <a:prstGeom prst="flowChartMagneticDisk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114800" y="4876920"/>
                <a:ext cx="1142640" cy="43164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2286000" y="2666880"/>
              <a:ext cx="1599840" cy="1295280"/>
              <a:chOff x="2286000" y="2666880"/>
              <a:chExt cx="1599840" cy="1295280"/>
            </a:xfrm>
          </p:grpSpPr>
          <p:sp>
            <p:nvSpPr>
              <p:cNvPr id="192" name=""/>
              <p:cNvSpPr/>
              <p:nvPr/>
            </p:nvSpPr>
            <p:spPr>
              <a:xfrm>
                <a:off x="2286000" y="3626640"/>
                <a:ext cx="1109160" cy="335520"/>
              </a:xfrm>
              <a:prstGeom prst="cube">
                <a:avLst>
                  <a:gd name="adj" fmla="val 61310"/>
                </a:avLst>
              </a:prstGeom>
              <a:solidFill>
                <a:srgbClr val="ebe49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794320" y="2763000"/>
                <a:ext cx="735840" cy="764640"/>
              </a:xfrm>
              <a:prstGeom prst="cube">
                <a:avLst>
                  <a:gd name="adj" fmla="val 25000"/>
                </a:avLst>
              </a:prstGeom>
              <a:solidFill>
                <a:srgbClr val="ebe49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286000" y="2666880"/>
                <a:ext cx="1155240" cy="1007640"/>
              </a:xfrm>
              <a:prstGeom prst="cube">
                <a:avLst>
                  <a:gd name="adj" fmla="val 10120"/>
                </a:avLst>
              </a:prstGeom>
              <a:solidFill>
                <a:srgbClr val="ebe49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87880" y="2796120"/>
                <a:ext cx="597960" cy="1161720"/>
              </a:xfrm>
              <a:prstGeom prst="cube">
                <a:avLst>
                  <a:gd name="adj" fmla="val 44967"/>
                </a:avLst>
              </a:prstGeom>
              <a:solidFill>
                <a:srgbClr val="ebe49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378520" y="2858400"/>
                <a:ext cx="877320" cy="71964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331440" y="3184920"/>
                <a:ext cx="21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331440" y="3271320"/>
                <a:ext cx="21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685800" y="2666880"/>
              <a:ext cx="914400" cy="914400"/>
            </a:xfrm>
            <a:prstGeom prst="smileyFace">
              <a:avLst>
                <a:gd name="adj" fmla="val 9282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27160" y="1600200"/>
              <a:ext cx="4741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...Type Descriptio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n Shared Repositori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724280" y="4495680"/>
              <a:ext cx="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04560" y="4113720"/>
            <a:ext cx="3861000" cy="2363040"/>
            <a:chOff x="304560" y="4113720"/>
            <a:chExt cx="3861000" cy="2363040"/>
          </a:xfrm>
        </p:grpSpPr>
        <p:grpSp>
          <p:nvGrpSpPr>
            <p:cNvPr id="202" name=""/>
            <p:cNvGrpSpPr/>
            <p:nvPr/>
          </p:nvGrpSpPr>
          <p:grpSpPr>
            <a:xfrm>
              <a:off x="2514600" y="5029200"/>
              <a:ext cx="1371600" cy="1447560"/>
              <a:chOff x="2514600" y="5029200"/>
              <a:chExt cx="1371600" cy="1447560"/>
            </a:xfrm>
          </p:grpSpPr>
          <p:pic>
            <p:nvPicPr>
              <p:cNvPr id="203" name="hp_icon_netscapelogo" descr=""/>
              <p:cNvPicPr/>
              <p:nvPr/>
            </p:nvPicPr>
            <p:blipFill>
              <a:blip r:embed="rId1"/>
              <a:stretch/>
            </p:blipFill>
            <p:spPr>
              <a:xfrm>
                <a:off x="2574000" y="5089320"/>
                <a:ext cx="1306800" cy="137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"/>
              <p:cNvSpPr/>
              <p:nvPr/>
            </p:nvSpPr>
            <p:spPr>
              <a:xfrm>
                <a:off x="2514600" y="5994360"/>
                <a:ext cx="1371600" cy="482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647880" y="5029200"/>
                <a:ext cx="238320" cy="96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574000" y="5029200"/>
                <a:ext cx="238320" cy="96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812680" y="5089320"/>
                <a:ext cx="834840" cy="6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685800" y="5334120"/>
              <a:ext cx="914400" cy="914400"/>
            </a:xfrm>
            <a:prstGeom prst="smileyFace">
              <a:avLst>
                <a:gd name="adj" fmla="val 9282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4560" y="4191120"/>
              <a:ext cx="23724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...Brows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for Typ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0" name=""/>
            <p:cNvCxnSpPr>
              <a:stCxn id="183" idx="1"/>
              <a:endCxn id="208" idx="6"/>
            </p:cNvCxnSpPr>
            <p:nvPr/>
          </p:nvCxnSpPr>
          <p:spPr>
            <a:xfrm flipV="1" rot="10800000">
              <a:off x="1599480" y="4113720"/>
              <a:ext cx="2566080" cy="1677240"/>
            </a:xfrm>
            <a:prstGeom prst="curvedConnector5">
              <a:avLst>
                <a:gd name="adj1" fmla="val 49501"/>
                <a:gd name="adj2" fmla="val 50000"/>
                <a:gd name="adj3" fmla="val 49501"/>
              </a:avLst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</p:cxnSp>
      </p:grpSp>
      <p:grpSp>
        <p:nvGrpSpPr>
          <p:cNvPr id="211" name=""/>
          <p:cNvGrpSpPr/>
          <p:nvPr/>
        </p:nvGrpSpPr>
        <p:grpSpPr>
          <a:xfrm>
            <a:off x="5436720" y="3657600"/>
            <a:ext cx="3707280" cy="2666880"/>
            <a:chOff x="5436720" y="3657600"/>
            <a:chExt cx="3707280" cy="2666880"/>
          </a:xfrm>
        </p:grpSpPr>
        <p:sp>
          <p:nvSpPr>
            <p:cNvPr id="212" name=""/>
            <p:cNvSpPr/>
            <p:nvPr/>
          </p:nvSpPr>
          <p:spPr>
            <a:xfrm>
              <a:off x="5943600" y="3657600"/>
              <a:ext cx="320040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...automated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search &amp; discovery by advanced builder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5638680" y="5181480"/>
              <a:ext cx="1371600" cy="1143000"/>
              <a:chOff x="5638680" y="5181480"/>
              <a:chExt cx="1371600" cy="1143000"/>
            </a:xfrm>
          </p:grpSpPr>
          <p:sp>
            <p:nvSpPr>
              <p:cNvPr id="214" name=""/>
              <p:cNvSpPr/>
              <p:nvPr/>
            </p:nvSpPr>
            <p:spPr>
              <a:xfrm>
                <a:off x="5638680" y="5181480"/>
                <a:ext cx="1371600" cy="11430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53753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867280" y="5410080"/>
                <a:ext cx="1066680" cy="838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019560" y="5562360"/>
                <a:ext cx="228600" cy="22860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248160" y="571464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553080" y="5562360"/>
                <a:ext cx="228600" cy="22860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095880" y="6019560"/>
                <a:ext cx="152280" cy="15228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095880" y="5790960"/>
                <a:ext cx="763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638680" y="5181480"/>
                <a:ext cx="1371600" cy="75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638680" y="5333760"/>
                <a:ext cx="1371600" cy="76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638680" y="5486040"/>
                <a:ext cx="228600" cy="838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24" name=""/>
            <p:cNvCxnSpPr>
              <a:stCxn id="183" idx="3"/>
              <a:endCxn id="221" idx="0"/>
            </p:cNvCxnSpPr>
            <p:nvPr/>
          </p:nvCxnSpPr>
          <p:spPr>
            <a:xfrm>
              <a:off x="5436720" y="4114440"/>
              <a:ext cx="888120" cy="1067400"/>
            </a:xfrm>
            <a:prstGeom prst="curvedConnector2">
              <a:avLst/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nguage Interoperability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Babel Makes it Work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1600200"/>
            <a:ext cx="1828800" cy="914400"/>
          </a:xfrm>
          <a:prstGeom prst="downArrowCallout">
            <a:avLst>
              <a:gd name="adj1" fmla="val 30910"/>
              <a:gd name="adj2" fmla="val 42009"/>
              <a:gd name="adj3" fmla="val 20468"/>
              <a:gd name="adj4" fmla="val 66667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5105520"/>
            <a:ext cx="1828800" cy="838080"/>
          </a:xfrm>
          <a:prstGeom prst="upArrowCallout">
            <a:avLst>
              <a:gd name="adj1" fmla="val 45849"/>
              <a:gd name="adj2" fmla="val 42804"/>
              <a:gd name="adj3" fmla="val 22222"/>
              <a:gd name="adj4" fmla="val 73856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971800" y="1587600"/>
            <a:ext cx="57657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: user’s LOP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Language Of Preferen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: developers LOP (Can be wrappers to legacy cod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965400" y="2666880"/>
            <a:ext cx="4569120" cy="1828800"/>
            <a:chOff x="3965400" y="2666880"/>
            <a:chExt cx="4569120" cy="1828800"/>
          </a:xfrm>
        </p:grpSpPr>
        <p:sp>
          <p:nvSpPr>
            <p:cNvPr id="230" name=""/>
            <p:cNvSpPr/>
            <p:nvPr/>
          </p:nvSpPr>
          <p:spPr>
            <a:xfrm>
              <a:off x="7772400" y="3657600"/>
              <a:ext cx="76212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65400" y="2666880"/>
              <a:ext cx="4550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If developer used Babel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they also have a SIDL fil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267080" y="3886200"/>
            <a:ext cx="3504960" cy="860400"/>
            <a:chOff x="4267080" y="3886200"/>
            <a:chExt cx="3504960" cy="860400"/>
          </a:xfrm>
        </p:grpSpPr>
        <p:pic>
          <p:nvPicPr>
            <p:cNvPr id="233" name="babel_dropshadow" descr=""/>
            <p:cNvPicPr/>
            <p:nvPr/>
          </p:nvPicPr>
          <p:blipFill>
            <a:blip r:embed="rId1">
              <a:lum bright="-12000"/>
            </a:blip>
            <a:stretch/>
          </p:blipFill>
          <p:spPr>
            <a:xfrm flipH="1" rot="10800000">
              <a:off x="4267080" y="3886200"/>
              <a:ext cx="2362320" cy="8604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34" name=""/>
            <p:cNvCxnSpPr>
              <a:stCxn id="230" idx="1"/>
              <a:endCxn id="233" idx="3"/>
            </p:cNvCxnSpPr>
            <p:nvPr/>
          </p:nvCxnSpPr>
          <p:spPr>
            <a:xfrm flipV="1" rot="10800000">
              <a:off x="6627240" y="4076280"/>
              <a:ext cx="1145160" cy="240480"/>
            </a:xfrm>
            <a:prstGeom prst="curvedConnector5">
              <a:avLst>
                <a:gd name="adj1" fmla="val 49905"/>
                <a:gd name="adj2" fmla="val 49925"/>
                <a:gd name="adj3" fmla="val 49905"/>
              </a:avLst>
            </a:prstGeom>
            <a:ln w="57240">
              <a:solidFill>
                <a:srgbClr val="800080"/>
              </a:solidFill>
              <a:miter/>
              <a:tailEnd len="med" type="triangle" w="med"/>
            </a:ln>
          </p:spPr>
        </p:cxnSp>
      </p:grpSp>
      <p:grpSp>
        <p:nvGrpSpPr>
          <p:cNvPr id="235" name=""/>
          <p:cNvGrpSpPr/>
          <p:nvPr/>
        </p:nvGrpSpPr>
        <p:grpSpPr>
          <a:xfrm>
            <a:off x="838080" y="2590920"/>
            <a:ext cx="3429000" cy="3089520"/>
            <a:chOff x="838080" y="2590920"/>
            <a:chExt cx="3429000" cy="3089520"/>
          </a:xfrm>
        </p:grpSpPr>
        <p:grpSp>
          <p:nvGrpSpPr>
            <p:cNvPr id="236" name=""/>
            <p:cNvGrpSpPr/>
            <p:nvPr/>
          </p:nvGrpSpPr>
          <p:grpSpPr>
            <a:xfrm>
              <a:off x="838080" y="2590920"/>
              <a:ext cx="1828800" cy="2361960"/>
              <a:chOff x="838080" y="2590920"/>
              <a:chExt cx="1828800" cy="2361960"/>
            </a:xfrm>
          </p:grpSpPr>
          <p:sp>
            <p:nvSpPr>
              <p:cNvPr id="237" name=""/>
              <p:cNvSpPr/>
              <p:nvPr/>
            </p:nvSpPr>
            <p:spPr>
              <a:xfrm>
                <a:off x="838080" y="2590920"/>
                <a:ext cx="1828800" cy="838080"/>
              </a:xfrm>
              <a:prstGeom prst="downArrowCallout">
                <a:avLst>
                  <a:gd name="adj1" fmla="val 33725"/>
                  <a:gd name="adj2" fmla="val 45835"/>
                  <a:gd name="adj3" fmla="val 20468"/>
                  <a:gd name="adj4" fmla="val 66667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tub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38080" y="4114800"/>
                <a:ext cx="1828800" cy="838080"/>
              </a:xfrm>
              <a:prstGeom prst="upArrowCallout">
                <a:avLst>
                  <a:gd name="adj1" fmla="val 45849"/>
                  <a:gd name="adj2" fmla="val 42804"/>
                  <a:gd name="adj3" fmla="val 22222"/>
                  <a:gd name="adj4" fmla="val 73856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kel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38080" y="3543480"/>
                <a:ext cx="1828800" cy="4597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IO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40" name=""/>
            <p:cNvCxnSpPr>
              <a:stCxn id="233" idx="1"/>
              <a:endCxn id="237" idx="0"/>
            </p:cNvCxnSpPr>
            <p:nvPr/>
          </p:nvCxnSpPr>
          <p:spPr>
            <a:xfrm rot="10800000">
              <a:off x="2685240" y="2869560"/>
              <a:ext cx="1581840" cy="1446840"/>
            </a:xfrm>
            <a:prstGeom prst="curvedConnector5">
              <a:avLst>
                <a:gd name="adj1" fmla="val 50580"/>
                <a:gd name="adj2" fmla="val 50000"/>
                <a:gd name="adj3" fmla="val 50580"/>
              </a:avLst>
            </a:prstGeom>
            <a:ln w="57240">
              <a:solidFill>
                <a:srgbClr val="800080"/>
              </a:solidFill>
              <a:miter/>
              <a:tailEnd len="med" type="triangle" w="med"/>
            </a:ln>
          </p:spPr>
        </p:cxnSp>
        <p:cxnSp>
          <p:nvCxnSpPr>
            <p:cNvPr id="241" name=""/>
            <p:cNvCxnSpPr>
              <a:stCxn id="233" idx="1"/>
              <a:endCxn id="227" idx="0"/>
            </p:cNvCxnSpPr>
            <p:nvPr/>
          </p:nvCxnSpPr>
          <p:spPr>
            <a:xfrm flipV="1" rot="10800000">
              <a:off x="2685240" y="4316040"/>
              <a:ext cx="1581840" cy="1364400"/>
            </a:xfrm>
            <a:prstGeom prst="curvedConnector5">
              <a:avLst>
                <a:gd name="adj1" fmla="val 50580"/>
                <a:gd name="adj2" fmla="val 49986"/>
                <a:gd name="adj3" fmla="val 50580"/>
              </a:avLst>
            </a:prstGeom>
            <a:ln w="57240">
              <a:solidFill>
                <a:srgbClr val="800080"/>
              </a:solidFill>
              <a:miter/>
              <a:tailEnd len="med" type="triangle" w="med"/>
            </a:ln>
          </p:spPr>
        </p:cxnSp>
        <p:cxnSp>
          <p:nvCxnSpPr>
            <p:cNvPr id="242" name=""/>
            <p:cNvCxnSpPr>
              <a:stCxn id="233" idx="1"/>
              <a:endCxn id="239" idx="3"/>
            </p:cNvCxnSpPr>
            <p:nvPr/>
          </p:nvCxnSpPr>
          <p:spPr>
            <a:xfrm rot="10800000">
              <a:off x="2685240" y="3790080"/>
              <a:ext cx="1581840" cy="526320"/>
            </a:xfrm>
            <a:prstGeom prst="curvedConnector5">
              <a:avLst>
                <a:gd name="adj1" fmla="val 50580"/>
                <a:gd name="adj2" fmla="val 49965"/>
                <a:gd name="adj3" fmla="val 50580"/>
              </a:avLst>
            </a:prstGeom>
            <a:ln w="57240">
              <a:solidFill>
                <a:srgbClr val="800080"/>
              </a:solidFill>
              <a:miter/>
              <a:tailEnd len="med" type="triangle" w="med"/>
            </a:ln>
          </p:spPr>
        </p:cxnSp>
        <p:cxnSp>
          <p:nvCxnSpPr>
            <p:cNvPr id="243" name=""/>
            <p:cNvCxnSpPr>
              <a:stCxn id="233" idx="1"/>
              <a:endCxn id="238" idx="0"/>
            </p:cNvCxnSpPr>
            <p:nvPr/>
          </p:nvCxnSpPr>
          <p:spPr>
            <a:xfrm flipV="1" rot="10800000">
              <a:off x="2685240" y="4316040"/>
              <a:ext cx="1581840" cy="373680"/>
            </a:xfrm>
            <a:prstGeom prst="curvedConnector5">
              <a:avLst>
                <a:gd name="adj1" fmla="val 50580"/>
                <a:gd name="adj2" fmla="val 49951"/>
                <a:gd name="adj3" fmla="val 50580"/>
              </a:avLst>
            </a:prstGeom>
            <a:ln w="57240">
              <a:solidFill>
                <a:srgbClr val="80008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nguage Interoperability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Babel Makes it Work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1600200"/>
            <a:ext cx="1828800" cy="914400"/>
          </a:xfrm>
          <a:prstGeom prst="downArrowCallout">
            <a:avLst>
              <a:gd name="adj1" fmla="val 30910"/>
              <a:gd name="adj2" fmla="val 42009"/>
              <a:gd name="adj3" fmla="val 20468"/>
              <a:gd name="adj4" fmla="val 66667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838080" y="2590920"/>
            <a:ext cx="1828800" cy="2361960"/>
            <a:chOff x="838080" y="2590920"/>
            <a:chExt cx="1828800" cy="2361960"/>
          </a:xfrm>
        </p:grpSpPr>
        <p:sp>
          <p:nvSpPr>
            <p:cNvPr id="247" name=""/>
            <p:cNvSpPr/>
            <p:nvPr/>
          </p:nvSpPr>
          <p:spPr>
            <a:xfrm>
              <a:off x="838080" y="2590920"/>
              <a:ext cx="1828800" cy="838080"/>
            </a:xfrm>
            <a:prstGeom prst="downArrowCallout">
              <a:avLst>
                <a:gd name="adj1" fmla="val 33725"/>
                <a:gd name="adj2" fmla="val 45835"/>
                <a:gd name="adj3" fmla="val 20468"/>
                <a:gd name="adj4" fmla="val 6666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ub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38080" y="4114800"/>
              <a:ext cx="1828800" cy="838080"/>
            </a:xfrm>
            <a:prstGeom prst="upArrowCallout">
              <a:avLst>
                <a:gd name="adj1" fmla="val 45849"/>
                <a:gd name="adj2" fmla="val 42804"/>
                <a:gd name="adj3" fmla="val 22222"/>
                <a:gd name="adj4" fmla="val 73856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k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38080" y="3543480"/>
              <a:ext cx="18288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838080" y="5105520"/>
            <a:ext cx="1828800" cy="838080"/>
          </a:xfrm>
          <a:prstGeom prst="upArrowCallout">
            <a:avLst>
              <a:gd name="adj1" fmla="val 45849"/>
              <a:gd name="adj2" fmla="val 42804"/>
              <a:gd name="adj3" fmla="val 22222"/>
              <a:gd name="adj4" fmla="val 73856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971800" y="1587600"/>
            <a:ext cx="57657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: user’s LOP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Language Of Preferen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: developers LOP (Can be wrappers to legacy cod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71800" y="2590920"/>
            <a:ext cx="5765760" cy="29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 Side Stubs: user’s LOP to 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l Object Representation (IOR):  Always in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Side Skeletons:  translates IOR (in C) to developer’s L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04920" y="1600200"/>
            <a:ext cx="2895480" cy="495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c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a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19520" y="2286000"/>
            <a:ext cx="4800600" cy="457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ded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um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rays of basic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rays of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arrays are multidimensional, no arrays of array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1523880"/>
            <a:ext cx="2286000" cy="312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-228600" y="1447920"/>
            <a:ext cx="9677520" cy="5715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920" y="2743200"/>
            <a:ext cx="5181480" cy="297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O Method Disp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91120" y="3352680"/>
            <a:ext cx="464796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4038480"/>
            <a:ext cx="7848720" cy="281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All Combinations of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+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7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2362320" y="4876920"/>
            <a:ext cx="2819160" cy="1371600"/>
            <a:chOff x="2362320" y="4876920"/>
            <a:chExt cx="2819160" cy="1371600"/>
          </a:xfrm>
        </p:grpSpPr>
        <p:sp>
          <p:nvSpPr>
            <p:cNvPr id="261" name=""/>
            <p:cNvSpPr/>
            <p:nvPr/>
          </p:nvSpPr>
          <p:spPr>
            <a:xfrm>
              <a:off x="2362320" y="487692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62320" y="533412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362320" y="579132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2819520" y="5791320"/>
              <a:ext cx="22860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362320" y="4876920"/>
              <a:ext cx="274320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62320" y="4876920"/>
              <a:ext cx="274320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2362320" y="4952520"/>
              <a:ext cx="27432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62320" y="5334120"/>
              <a:ext cx="26668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2362320" y="5028840"/>
              <a:ext cx="2743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2362320" y="5409720"/>
              <a:ext cx="27432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2895480" y="5028840"/>
              <a:ext cx="228600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895480" y="5257800"/>
              <a:ext cx="22860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Much Language Interoperability Have We Achieved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-228600" y="2590920"/>
            <a:ext cx="9677520" cy="5410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4952880"/>
            <a:ext cx="480060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431 test case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and count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we foresee, based on experience with our tests..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28600" y="1905120"/>
            <a:ext cx="4103640" cy="5410080"/>
            <a:chOff x="228600" y="1905120"/>
            <a:chExt cx="4103640" cy="5410080"/>
          </a:xfrm>
        </p:grpSpPr>
        <p:grpSp>
          <p:nvGrpSpPr>
            <p:cNvPr id="278" name=""/>
            <p:cNvGrpSpPr/>
            <p:nvPr/>
          </p:nvGrpSpPr>
          <p:grpSpPr>
            <a:xfrm>
              <a:off x="228600" y="3475080"/>
              <a:ext cx="4103640" cy="3840120"/>
              <a:chOff x="228600" y="3475080"/>
              <a:chExt cx="4103640" cy="3840120"/>
            </a:xfrm>
          </p:grpSpPr>
          <p:sp>
            <p:nvSpPr>
              <p:cNvPr id="279" name=""/>
              <p:cNvSpPr/>
              <p:nvPr/>
            </p:nvSpPr>
            <p:spPr>
              <a:xfrm>
                <a:off x="735120" y="3735360"/>
                <a:ext cx="3597120" cy="35798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74800" y="3813120"/>
                <a:ext cx="3319200" cy="700200"/>
              </a:xfrm>
              <a:prstGeom prst="ellipse">
                <a:avLst/>
              </a:prstGeom>
              <a:solidFill>
                <a:srgbClr val="4d4d4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74800" y="3890880"/>
                <a:ext cx="3319200" cy="700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395440" y="5369040"/>
                <a:ext cx="276480" cy="312480"/>
              </a:xfrm>
              <a:prstGeom prst="ellipse">
                <a:avLst/>
              </a:prstGeom>
              <a:solidFill>
                <a:srgbClr val="4d4d4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5526000"/>
                <a:ext cx="2305080" cy="933480"/>
              </a:xfrm>
              <a:custGeom>
                <a:avLst/>
                <a:gdLst/>
                <a:ahLst/>
                <a:rect l="l" t="t" r="r" b="b"/>
                <a:pathLst>
                  <a:path w="1600" h="576">
                    <a:moveTo>
                      <a:pt x="1600" y="0"/>
                    </a:moveTo>
                    <a:cubicBezTo>
                      <a:pt x="1008" y="288"/>
                      <a:pt x="416" y="576"/>
                      <a:pt x="208" y="576"/>
                    </a:cubicBezTo>
                    <a:cubicBezTo>
                      <a:pt x="0" y="576"/>
                      <a:pt x="176" y="288"/>
                      <a:pt x="352" y="0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4" name=""/>
              <p:cNvGrpSpPr/>
              <p:nvPr/>
            </p:nvGrpSpPr>
            <p:grpSpPr>
              <a:xfrm>
                <a:off x="771840" y="3475080"/>
                <a:ext cx="3385080" cy="1143000"/>
                <a:chOff x="771840" y="3475080"/>
                <a:chExt cx="3385080" cy="1143000"/>
              </a:xfrm>
            </p:grpSpPr>
            <p:sp>
              <p:nvSpPr>
                <p:cNvPr id="285" name=""/>
                <p:cNvSpPr/>
                <p:nvPr/>
              </p:nvSpPr>
              <p:spPr>
                <a:xfrm rot="21216000">
                  <a:off x="804600" y="3657600"/>
                  <a:ext cx="3319200" cy="777600"/>
                </a:xfrm>
                <a:prstGeom prst="ellipse">
                  <a:avLst/>
                </a:prstGeom>
                <a:solidFill>
                  <a:srgbClr val="4d4d4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21216000">
                  <a:off x="800280" y="3657960"/>
                  <a:ext cx="3319200" cy="69984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21216000">
                  <a:off x="938520" y="3735360"/>
                  <a:ext cx="3042360" cy="54396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288" name=""/>
            <p:cNvCxnSpPr>
              <a:stCxn id="289" idx="4"/>
              <a:endCxn id="286" idx="2"/>
            </p:cNvCxnSpPr>
            <p:nvPr/>
          </p:nvCxnSpPr>
          <p:spPr>
            <a:xfrm flipH="1" rot="16200000">
              <a:off x="-605520" y="2777040"/>
              <a:ext cx="2288160" cy="543600"/>
            </a:xfrm>
            <a:prstGeom prst="curvedConnector2">
              <a:avLst/>
            </a:prstGeom>
            <a:ln w="76320">
              <a:solidFill>
                <a:srgbClr val="00c0c0"/>
              </a:solidFill>
              <a:miter/>
              <a:tailEnd len="med" type="triangle" w="med"/>
            </a:ln>
          </p:spPr>
        </p:cxnSp>
      </p:grpSp>
      <p:grpSp>
        <p:nvGrpSpPr>
          <p:cNvPr id="290" name=""/>
          <p:cNvGrpSpPr/>
          <p:nvPr/>
        </p:nvGrpSpPr>
        <p:grpSpPr>
          <a:xfrm>
            <a:off x="152280" y="1523880"/>
            <a:ext cx="5373360" cy="581400"/>
            <a:chOff x="152280" y="1523880"/>
            <a:chExt cx="5373360" cy="581400"/>
          </a:xfrm>
        </p:grpSpPr>
        <p:sp>
          <p:nvSpPr>
            <p:cNvPr id="291" name=""/>
            <p:cNvSpPr/>
            <p:nvPr/>
          </p:nvSpPr>
          <p:spPr>
            <a:xfrm>
              <a:off x="378360" y="1523880"/>
              <a:ext cx="514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Language Interoperabilit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2280" y="1676520"/>
              <a:ext cx="228600" cy="228600"/>
            </a:xfrm>
            <a:prstGeom prst="ellipse">
              <a:avLst/>
            </a:prstGeom>
            <a:solidFill>
              <a:srgbClr val="0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3506040" y="2286000"/>
            <a:ext cx="5639400" cy="2043720"/>
            <a:chOff x="3506040" y="2286000"/>
            <a:chExt cx="5639400" cy="2043720"/>
          </a:xfrm>
        </p:grpSpPr>
        <p:sp>
          <p:nvSpPr>
            <p:cNvPr id="293" name=""/>
            <p:cNvSpPr/>
            <p:nvPr/>
          </p:nvSpPr>
          <p:spPr>
            <a:xfrm>
              <a:off x="4877280" y="2286000"/>
              <a:ext cx="42681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eveloper Concerns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onfiguration,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ackaging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&amp; Deploy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48320" y="2514600"/>
              <a:ext cx="228600" cy="228600"/>
            </a:xfrm>
            <a:prstGeom prst="ellipse">
              <a:avLst/>
            </a:prstGeom>
            <a:solidFill>
              <a:srgbClr val="0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4" idx="2"/>
              <a:endCxn id="287" idx="7"/>
            </p:cNvCxnSpPr>
            <p:nvPr/>
          </p:nvCxnSpPr>
          <p:spPr>
            <a:xfrm flipV="1" rot="10800000">
              <a:off x="3506040" y="2628000"/>
              <a:ext cx="1142280" cy="1067400"/>
            </a:xfrm>
            <a:prstGeom prst="curvedConnector2">
              <a:avLst/>
            </a:prstGeom>
            <a:ln w="76320">
              <a:solidFill>
                <a:srgbClr val="00c0c0"/>
              </a:solidFill>
              <a:miter/>
              <a:tailEnd len="med" type="triangle" w="med"/>
            </a:ln>
          </p:spPr>
        </p:cxnSp>
      </p:grpSp>
      <p:grpSp>
        <p:nvGrpSpPr>
          <p:cNvPr id="296" name=""/>
          <p:cNvGrpSpPr/>
          <p:nvPr/>
        </p:nvGrpSpPr>
        <p:grpSpPr>
          <a:xfrm>
            <a:off x="3548880" y="4077720"/>
            <a:ext cx="5100120" cy="2202840"/>
            <a:chOff x="3548880" y="4077720"/>
            <a:chExt cx="5100120" cy="2202840"/>
          </a:xfrm>
        </p:grpSpPr>
        <p:sp>
          <p:nvSpPr>
            <p:cNvPr id="297" name=""/>
            <p:cNvSpPr/>
            <p:nvPr/>
          </p:nvSpPr>
          <p:spPr>
            <a:xfrm>
              <a:off x="5409720" y="4724280"/>
              <a:ext cx="32392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User Concerns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nstall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Trus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181480" y="4876920"/>
              <a:ext cx="228600" cy="228600"/>
            </a:xfrm>
            <a:prstGeom prst="ellipse">
              <a:avLst/>
            </a:prstGeom>
            <a:solidFill>
              <a:srgbClr val="0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9" name=""/>
            <p:cNvCxnSpPr>
              <a:stCxn id="298" idx="2"/>
              <a:endCxn id="287" idx="5"/>
            </p:cNvCxnSpPr>
            <p:nvPr/>
          </p:nvCxnSpPr>
          <p:spPr>
            <a:xfrm rot="10800000">
              <a:off x="3548880" y="4077720"/>
              <a:ext cx="1632600" cy="913320"/>
            </a:xfrm>
            <a:prstGeom prst="curvedConnector2">
              <a:avLst/>
            </a:prstGeom>
            <a:ln w="76320">
              <a:solidFill>
                <a:srgbClr val="00c0c0"/>
              </a:solidFill>
              <a:miter/>
              <a:tailEnd len="med" type="triangle" w="med"/>
            </a:ln>
          </p:spPr>
        </p:cxnSp>
      </p:grpSp>
      <p:grpSp>
        <p:nvGrpSpPr>
          <p:cNvPr id="300" name=""/>
          <p:cNvGrpSpPr/>
          <p:nvPr/>
        </p:nvGrpSpPr>
        <p:grpSpPr>
          <a:xfrm>
            <a:off x="392400" y="2069280"/>
            <a:ext cx="4087800" cy="2006280"/>
            <a:chOff x="392400" y="2069280"/>
            <a:chExt cx="4087800" cy="2006280"/>
          </a:xfrm>
        </p:grpSpPr>
        <p:sp>
          <p:nvSpPr>
            <p:cNvPr id="301" name=""/>
            <p:cNvSpPr/>
            <p:nvPr/>
          </p:nvSpPr>
          <p:spPr>
            <a:xfrm flipH="1" rot="4316400">
              <a:off x="2551680" y="1056240"/>
              <a:ext cx="406440" cy="3496320"/>
            </a:xfrm>
            <a:custGeom>
              <a:avLst/>
              <a:gdLst>
                <a:gd name="textAreaLeft" fmla="*/ 89280 w 406440"/>
                <a:gd name="textAreaRight" fmla="*/ 317160 w 406440"/>
                <a:gd name="textAreaTop" fmla="*/ 768600 h 3496320"/>
                <a:gd name="textAreaBottom" fmla="*/ 2727720 h 349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20516400">
              <a:off x="548640" y="2612520"/>
              <a:ext cx="388440" cy="106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640" y="2454"/>
                    <a:pt x="13680" y="5080"/>
                    <a:pt x="13680" y="10800"/>
                  </a:cubicBezTo>
                  <a:cubicBezTo>
                    <a:pt x="13680" y="16520"/>
                    <a:pt x="17640" y="191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rot="20516400">
              <a:off x="799920" y="3819240"/>
              <a:ext cx="465840" cy="188640"/>
            </a:xfrm>
            <a:prstGeom prst="roundRect">
              <a:avLst>
                <a:gd name="adj" fmla="val 16667"/>
              </a:avLst>
            </a:prstGeom>
            <a:solidFill>
              <a:srgbClr val="4d4d4d"/>
            </a:solidFill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rot="20516400">
              <a:off x="634680" y="3153240"/>
              <a:ext cx="465840" cy="503280"/>
            </a:xfrm>
            <a:custGeom>
              <a:avLst/>
              <a:gdLst>
                <a:gd name="textAreaLeft" fmla="*/ 22680 w 465840"/>
                <a:gd name="textAreaRight" fmla="*/ 443160 w 465840"/>
                <a:gd name="textAreaTop" fmla="*/ 22680 h 503280"/>
                <a:gd name="textAreaBottom" fmla="*/ 480600 h 503280"/>
              </a:gdLst>
              <a:ahLst/>
              <a:rect l="textAreaLeft" t="textAreaTop" r="textAreaRight" b="textAreaBottom"/>
              <a:pathLst>
                <a:path w="21600" h="23335">
                  <a:moveTo>
                    <a:pt x="3600" y="0"/>
                  </a:moveTo>
                  <a:arcTo wR="3600" hR="3600" stAng="16200000" swAng="-5400000"/>
                  <a:lnTo>
                    <a:pt x="0" y="19735"/>
                  </a:lnTo>
                  <a:arcTo wR="3600" hR="3600" stAng="10800000" swAng="-5400000"/>
                  <a:lnTo>
                    <a:pt x="18000" y="233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rot="20516400">
              <a:off x="819360" y="3639600"/>
              <a:ext cx="310680" cy="1886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6" name=""/>
          <p:cNvGraphicFramePr/>
          <p:nvPr/>
        </p:nvGraphicFramePr>
        <p:xfrm>
          <a:off x="0" y="1143000"/>
          <a:ext cx="3809880" cy="2849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3809880" cy="28494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c0c0c0"/>
                    </a:outerShdw>
                  </a:effectLst>
                </p:spPr>
              </p:pic>
            </p:oleObj>
          </a:graphicData>
        </a:graphic>
      </p:graphicFrame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se aren’t new problems..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t they are on a larger sca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77280" y="2286000"/>
            <a:ext cx="426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er Concer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figuratio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ckag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amp; De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09720" y="4724280"/>
            <a:ext cx="323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r Concer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48320" y="2514600"/>
            <a:ext cx="228600" cy="228600"/>
          </a:xfrm>
          <a:prstGeom prst="ellipse">
            <a:avLst/>
          </a:prstGeom>
          <a:solidFill>
            <a:srgbClr val="0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81480" y="4876920"/>
            <a:ext cx="228600" cy="228600"/>
          </a:xfrm>
          <a:prstGeom prst="ellipse">
            <a:avLst/>
          </a:prstGeom>
          <a:solidFill>
            <a:srgbClr val="0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143000" y="3733920"/>
          <a:ext cx="3809880" cy="285120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733920"/>
                    <a:ext cx="3809880" cy="28512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c0c0c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r Example..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support Python and Java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libraries must be shared (*.so) not statically linked (*.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 shared libraries are problematic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ption support is platform/compiler depend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king issues when interoperating with other langu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create valid shared library with uncatchable exce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99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bel’s Scope &amp; CC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43040" y="1587600"/>
            <a:ext cx="480060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el provides language interoperability, not component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collaborate with CCA to add parallel distributed sup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also provide tools (Quorum &amp; Alexandria) to facilitate component development and 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4572000"/>
            <a:ext cx="3581640" cy="1066680"/>
          </a:xfrm>
          <a:prstGeom prst="rect">
            <a:avLst/>
          </a:prstGeom>
          <a:solidFill>
            <a:srgbClr val="0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ilers &amp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5638680"/>
            <a:ext cx="3581640" cy="533520"/>
          </a:xfrm>
          <a:prstGeom prst="rect">
            <a:avLst/>
          </a:prstGeom>
          <a:solidFill>
            <a:srgbClr val="0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600200"/>
            <a:ext cx="3581640" cy="99072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CA Complian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me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2590920"/>
            <a:ext cx="3581640" cy="99036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100000">
                <a:srgbClr val="fecdfe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an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3581280"/>
            <a:ext cx="358164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babel_dropshadow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143000" y="3657600"/>
            <a:ext cx="25146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bel’s Configuration/Bui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NU Mak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conf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onfigu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mak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uild Make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btoo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hared libra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T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ustom tes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544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’s own build 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’s built-in (broken) mak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per scri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xes to autoconf, automake &amp; libtool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ts of ha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990720"/>
            <a:ext cx="89154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80880" y="685800"/>
          <a:ext cx="8763120" cy="544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85800"/>
                    <a:ext cx="876312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2345760" y="0"/>
            <a:ext cx="377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rc-sun-solaris2.7-g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16200000">
            <a:off x="-639000" y="315036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 Test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76720" y="6019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5029200" y="228600"/>
            <a:ext cx="3962520" cy="5105160"/>
            <a:chOff x="5029200" y="228600"/>
            <a:chExt cx="3962520" cy="5105160"/>
          </a:xfrm>
        </p:grpSpPr>
        <p:sp>
          <p:nvSpPr>
            <p:cNvPr id="327" name=""/>
            <p:cNvSpPr/>
            <p:nvPr/>
          </p:nvSpPr>
          <p:spPr>
            <a:xfrm flipV="1">
              <a:off x="6934320" y="380520"/>
              <a:ext cx="0" cy="495324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934320" y="228600"/>
              <a:ext cx="2057400" cy="762120"/>
            </a:xfrm>
            <a:prstGeom prst="rightArrow">
              <a:avLst>
                <a:gd name="adj1" fmla="val 66963"/>
                <a:gd name="adj2" fmla="val 69214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abel 0.5.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29200" y="762120"/>
              <a:ext cx="1905120" cy="838080"/>
            </a:xfrm>
            <a:prstGeom prst="leftArrow">
              <a:avLst>
                <a:gd name="adj1" fmla="val 57287"/>
                <a:gd name="adj2" fmla="val 58208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abel 0.4.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1523880" y="2763000"/>
            <a:ext cx="541080" cy="2646720"/>
            <a:chOff x="1523880" y="2763000"/>
            <a:chExt cx="541080" cy="2646720"/>
          </a:xfrm>
        </p:grpSpPr>
        <p:sp>
          <p:nvSpPr>
            <p:cNvPr id="331" name=""/>
            <p:cNvSpPr/>
            <p:nvPr/>
          </p:nvSpPr>
          <p:spPr>
            <a:xfrm>
              <a:off x="1523880" y="4965840"/>
              <a:ext cx="460440" cy="147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984320" y="4965840"/>
              <a:ext cx="0" cy="443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23880" y="4965840"/>
              <a:ext cx="0" cy="443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16200000">
              <a:off x="707040" y="3600360"/>
              <a:ext cx="2195280" cy="5205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OR Rewri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378080" y="1219320"/>
            <a:ext cx="6953040" cy="4114800"/>
            <a:chOff x="1378080" y="1219320"/>
            <a:chExt cx="6953040" cy="4114800"/>
          </a:xfrm>
        </p:grpSpPr>
        <p:sp>
          <p:nvSpPr>
            <p:cNvPr id="336" name=""/>
            <p:cNvSpPr/>
            <p:nvPr/>
          </p:nvSpPr>
          <p:spPr>
            <a:xfrm>
              <a:off x="1378080" y="1219320"/>
              <a:ext cx="6775200" cy="1068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Configure/Build/Repository faults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not software failures!!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905120" y="2209680"/>
              <a:ext cx="304560" cy="3048120"/>
            </a:xfrm>
            <a:custGeom>
              <a:avLst/>
              <a:gdLst/>
              <a:ahLst/>
              <a:rect l="l" t="t" r="r" b="b"/>
              <a:pathLst>
                <a:path w="192" h="1920">
                  <a:moveTo>
                    <a:pt x="0" y="0"/>
                  </a:moveTo>
                  <a:cubicBezTo>
                    <a:pt x="8" y="536"/>
                    <a:pt x="16" y="1072"/>
                    <a:pt x="48" y="1392"/>
                  </a:cubicBezTo>
                  <a:cubicBezTo>
                    <a:pt x="80" y="1712"/>
                    <a:pt x="136" y="1816"/>
                    <a:pt x="192" y="192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133720" y="2209680"/>
              <a:ext cx="304560" cy="2971800"/>
            </a:xfrm>
            <a:custGeom>
              <a:avLst/>
              <a:gdLst/>
              <a:ahLst/>
              <a:rect l="l" t="t" r="r" b="b"/>
              <a:pathLst>
                <a:path w="192" h="1872">
                  <a:moveTo>
                    <a:pt x="0" y="0"/>
                  </a:moveTo>
                  <a:cubicBezTo>
                    <a:pt x="32" y="420"/>
                    <a:pt x="64" y="840"/>
                    <a:pt x="96" y="1152"/>
                  </a:cubicBezTo>
                  <a:cubicBezTo>
                    <a:pt x="128" y="1464"/>
                    <a:pt x="160" y="1668"/>
                    <a:pt x="192" y="187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38280" y="2209680"/>
              <a:ext cx="177840" cy="2667240"/>
            </a:xfrm>
            <a:custGeom>
              <a:avLst/>
              <a:gdLst/>
              <a:ahLst/>
              <a:rect l="l" t="t" r="r" b="b"/>
              <a:pathLst>
                <a:path w="112" h="1680">
                  <a:moveTo>
                    <a:pt x="0" y="0"/>
                  </a:moveTo>
                  <a:cubicBezTo>
                    <a:pt x="40" y="364"/>
                    <a:pt x="80" y="728"/>
                    <a:pt x="96" y="1008"/>
                  </a:cubicBezTo>
                  <a:cubicBezTo>
                    <a:pt x="112" y="1288"/>
                    <a:pt x="104" y="1484"/>
                    <a:pt x="96" y="168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43200" y="2209680"/>
              <a:ext cx="228600" cy="2286000"/>
            </a:xfrm>
            <a:custGeom>
              <a:avLst/>
              <a:gdLst/>
              <a:ahLst/>
              <a:rect l="l" t="t" r="r" b="b"/>
              <a:pathLst>
                <a:path w="144" h="1440">
                  <a:moveTo>
                    <a:pt x="0" y="0"/>
                  </a:moveTo>
                  <a:cubicBezTo>
                    <a:pt x="36" y="192"/>
                    <a:pt x="72" y="384"/>
                    <a:pt x="96" y="624"/>
                  </a:cubicBezTo>
                  <a:cubicBezTo>
                    <a:pt x="120" y="864"/>
                    <a:pt x="132" y="1152"/>
                    <a:pt x="144" y="144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048120" y="2286000"/>
              <a:ext cx="164880" cy="1905120"/>
            </a:xfrm>
            <a:custGeom>
              <a:avLst/>
              <a:gdLst/>
              <a:ahLst/>
              <a:rect l="l" t="t" r="r" b="b"/>
              <a:pathLst>
                <a:path w="104" h="1200">
                  <a:moveTo>
                    <a:pt x="0" y="0"/>
                  </a:moveTo>
                  <a:cubicBezTo>
                    <a:pt x="44" y="212"/>
                    <a:pt x="88" y="424"/>
                    <a:pt x="96" y="624"/>
                  </a:cubicBezTo>
                  <a:cubicBezTo>
                    <a:pt x="104" y="824"/>
                    <a:pt x="76" y="1012"/>
                    <a:pt x="48" y="12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33920" y="2286000"/>
              <a:ext cx="152280" cy="2971800"/>
            </a:xfrm>
            <a:custGeom>
              <a:avLst/>
              <a:gdLst/>
              <a:ahLst/>
              <a:rect l="l" t="t" r="r" b="b"/>
              <a:pathLst>
                <a:path w="96" h="1872">
                  <a:moveTo>
                    <a:pt x="0" y="0"/>
                  </a:moveTo>
                  <a:cubicBezTo>
                    <a:pt x="48" y="252"/>
                    <a:pt x="96" y="504"/>
                    <a:pt x="96" y="816"/>
                  </a:cubicBezTo>
                  <a:cubicBezTo>
                    <a:pt x="96" y="1128"/>
                    <a:pt x="48" y="1500"/>
                    <a:pt x="0" y="187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86200" y="2286000"/>
              <a:ext cx="228600" cy="3048120"/>
            </a:xfrm>
            <a:custGeom>
              <a:avLst/>
              <a:gdLst/>
              <a:ahLst/>
              <a:rect l="l" t="t" r="r" b="b"/>
              <a:pathLst>
                <a:path w="144" h="1920">
                  <a:moveTo>
                    <a:pt x="0" y="0"/>
                  </a:moveTo>
                  <a:cubicBezTo>
                    <a:pt x="72" y="320"/>
                    <a:pt x="144" y="640"/>
                    <a:pt x="144" y="960"/>
                  </a:cubicBezTo>
                  <a:cubicBezTo>
                    <a:pt x="144" y="1280"/>
                    <a:pt x="72" y="1600"/>
                    <a:pt x="0" y="192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038480" y="2209680"/>
              <a:ext cx="317520" cy="3048120"/>
            </a:xfrm>
            <a:custGeom>
              <a:avLst/>
              <a:gdLst/>
              <a:ahLst/>
              <a:rect l="l" t="t" r="r" b="b"/>
              <a:pathLst>
                <a:path w="200" h="1920">
                  <a:moveTo>
                    <a:pt x="48" y="0"/>
                  </a:moveTo>
                  <a:cubicBezTo>
                    <a:pt x="124" y="344"/>
                    <a:pt x="200" y="688"/>
                    <a:pt x="192" y="1008"/>
                  </a:cubicBezTo>
                  <a:cubicBezTo>
                    <a:pt x="184" y="1328"/>
                    <a:pt x="92" y="1624"/>
                    <a:pt x="0" y="192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559400" y="2209680"/>
              <a:ext cx="88920" cy="2819520"/>
            </a:xfrm>
            <a:custGeom>
              <a:avLst/>
              <a:gdLst/>
              <a:ahLst/>
              <a:rect l="l" t="t" r="r" b="b"/>
              <a:pathLst>
                <a:path w="56" h="1776">
                  <a:moveTo>
                    <a:pt x="8" y="0"/>
                  </a:moveTo>
                  <a:cubicBezTo>
                    <a:pt x="4" y="356"/>
                    <a:pt x="0" y="712"/>
                    <a:pt x="8" y="1008"/>
                  </a:cubicBezTo>
                  <a:cubicBezTo>
                    <a:pt x="16" y="1304"/>
                    <a:pt x="36" y="1540"/>
                    <a:pt x="56" y="177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00600" y="2286000"/>
              <a:ext cx="165240" cy="2438280"/>
            </a:xfrm>
            <a:custGeom>
              <a:avLst/>
              <a:gdLst/>
              <a:ahLst/>
              <a:rect l="l" t="t" r="r" b="b"/>
              <a:pathLst>
                <a:path w="104" h="1536">
                  <a:moveTo>
                    <a:pt x="0" y="0"/>
                  </a:moveTo>
                  <a:cubicBezTo>
                    <a:pt x="44" y="256"/>
                    <a:pt x="88" y="512"/>
                    <a:pt x="96" y="768"/>
                  </a:cubicBezTo>
                  <a:cubicBezTo>
                    <a:pt x="104" y="1024"/>
                    <a:pt x="76" y="1280"/>
                    <a:pt x="48" y="15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391520" y="2133720"/>
              <a:ext cx="177840" cy="2438280"/>
            </a:xfrm>
            <a:custGeom>
              <a:avLst/>
              <a:gdLst/>
              <a:ahLst/>
              <a:rect l="l" t="t" r="r" b="b"/>
              <a:pathLst>
                <a:path w="112" h="1536">
                  <a:moveTo>
                    <a:pt x="0" y="0"/>
                  </a:moveTo>
                  <a:cubicBezTo>
                    <a:pt x="40" y="88"/>
                    <a:pt x="80" y="176"/>
                    <a:pt x="96" y="432"/>
                  </a:cubicBezTo>
                  <a:cubicBezTo>
                    <a:pt x="112" y="688"/>
                    <a:pt x="104" y="1112"/>
                    <a:pt x="96" y="15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620120" y="2209680"/>
              <a:ext cx="164880" cy="2590920"/>
            </a:xfrm>
            <a:custGeom>
              <a:avLst/>
              <a:gdLst/>
              <a:ahLst/>
              <a:rect l="l" t="t" r="r" b="b"/>
              <a:pathLst>
                <a:path w="104" h="1632">
                  <a:moveTo>
                    <a:pt x="0" y="0"/>
                  </a:moveTo>
                  <a:cubicBezTo>
                    <a:pt x="44" y="104"/>
                    <a:pt x="88" y="208"/>
                    <a:pt x="96" y="480"/>
                  </a:cubicBezTo>
                  <a:cubicBezTo>
                    <a:pt x="104" y="752"/>
                    <a:pt x="76" y="1192"/>
                    <a:pt x="48" y="163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620120" y="2133720"/>
              <a:ext cx="266760" cy="2743200"/>
            </a:xfrm>
            <a:custGeom>
              <a:avLst/>
              <a:gdLst/>
              <a:ahLst/>
              <a:rect l="l" t="t" r="r" b="b"/>
              <a:pathLst>
                <a:path w="168" h="1728">
                  <a:moveTo>
                    <a:pt x="0" y="0"/>
                  </a:moveTo>
                  <a:cubicBezTo>
                    <a:pt x="60" y="288"/>
                    <a:pt x="120" y="576"/>
                    <a:pt x="144" y="864"/>
                  </a:cubicBezTo>
                  <a:cubicBezTo>
                    <a:pt x="168" y="1152"/>
                    <a:pt x="156" y="1440"/>
                    <a:pt x="144" y="172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696080" y="2209680"/>
              <a:ext cx="355680" cy="2895840"/>
            </a:xfrm>
            <a:custGeom>
              <a:avLst/>
              <a:gdLst/>
              <a:ahLst/>
              <a:rect l="l" t="t" r="r" b="b"/>
              <a:pathLst>
                <a:path w="224" h="1824">
                  <a:moveTo>
                    <a:pt x="0" y="0"/>
                  </a:moveTo>
                  <a:cubicBezTo>
                    <a:pt x="80" y="256"/>
                    <a:pt x="160" y="512"/>
                    <a:pt x="192" y="816"/>
                  </a:cubicBezTo>
                  <a:cubicBezTo>
                    <a:pt x="224" y="1120"/>
                    <a:pt x="208" y="1472"/>
                    <a:pt x="192" y="182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543800" y="1981080"/>
              <a:ext cx="622440" cy="3200400"/>
            </a:xfrm>
            <a:custGeom>
              <a:avLst/>
              <a:gdLst/>
              <a:ahLst/>
              <a:rect l="l" t="t" r="r" b="b"/>
              <a:pathLst>
                <a:path w="392" h="2016">
                  <a:moveTo>
                    <a:pt x="0" y="0"/>
                  </a:moveTo>
                  <a:cubicBezTo>
                    <a:pt x="140" y="192"/>
                    <a:pt x="280" y="384"/>
                    <a:pt x="336" y="720"/>
                  </a:cubicBezTo>
                  <a:cubicBezTo>
                    <a:pt x="392" y="1056"/>
                    <a:pt x="364" y="1536"/>
                    <a:pt x="336" y="201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620120" y="1968480"/>
              <a:ext cx="711000" cy="3289320"/>
            </a:xfrm>
            <a:custGeom>
              <a:avLst/>
              <a:gdLst/>
              <a:ahLst/>
              <a:rect l="l" t="t" r="r" b="b"/>
              <a:pathLst>
                <a:path w="448" h="2072">
                  <a:moveTo>
                    <a:pt x="0" y="8"/>
                  </a:moveTo>
                  <a:cubicBezTo>
                    <a:pt x="160" y="4"/>
                    <a:pt x="320" y="0"/>
                    <a:pt x="384" y="344"/>
                  </a:cubicBezTo>
                  <a:cubicBezTo>
                    <a:pt x="448" y="688"/>
                    <a:pt x="416" y="1380"/>
                    <a:pt x="384" y="207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blems affect the User too..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18680" y="1447920"/>
            <a:ext cx="8318520" cy="520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es a user get and install “language interoperable” software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nary: if supplied by develop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rc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ume “configure; make install”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to link into application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any C++ code, must use C++ link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ch C++ to use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 has no std binary interf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rux of the proble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’re building 21st century technology..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.. using 30 year old tool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324480" y="5181480"/>
            <a:ext cx="152424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2120" y="5791320"/>
            <a:ext cx="800100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urne sh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957560" y="4572000"/>
            <a:ext cx="291312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conf (M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63680" y="3962520"/>
            <a:ext cx="327456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make (per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23160" y="3352680"/>
            <a:ext cx="311580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btool (perl/s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275360" y="2133720"/>
            <a:ext cx="4587840" cy="581400"/>
            <a:chOff x="4275360" y="2133720"/>
            <a:chExt cx="4587840" cy="581400"/>
          </a:xfrm>
        </p:grpSpPr>
        <p:sp>
          <p:nvSpPr>
            <p:cNvPr id="363" name=""/>
            <p:cNvSpPr/>
            <p:nvPr/>
          </p:nvSpPr>
          <p:spPr>
            <a:xfrm>
              <a:off x="7780320" y="2133720"/>
              <a:ext cx="1082880" cy="5814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78680" y="2133720"/>
              <a:ext cx="1558440" cy="5814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265360" y="2133720"/>
              <a:ext cx="880200" cy="5814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275360" y="2133720"/>
              <a:ext cx="950400" cy="5814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7399080" y="2743200"/>
            <a:ext cx="47484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87040" y="3352680"/>
            <a:ext cx="243936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h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74280" y="3962520"/>
            <a:ext cx="155700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lo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82677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grated config, build, package, test and management system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make inside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have action create many 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derstands directo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s real data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 all aspects in one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ST BE OPEN SOUR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 the mean time..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works on other platforms,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ust not automated config/tes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 code generator (precompiled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I C runtime library (no problem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’s tests are (necessarily) pathological worst-case examp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 didn’t create these problems,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 just exercise them aggressivel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280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Babel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ill Provide More Build Hel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.make”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ly lists code genera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y add additional flags, macros, etc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ly used for regression tes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y generate artifacts useful for develop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per scri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 flipV="1">
            <a:off x="2666880" y="1904760"/>
            <a:ext cx="3962520" cy="3733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429000" y="3429000"/>
            <a:ext cx="2209680" cy="1295280"/>
          </a:xfrm>
          <a:prstGeom prst="cloudCallout">
            <a:avLst>
              <a:gd name="adj1" fmla="val -310129"/>
              <a:gd name="adj2" fmla="val -238481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9480" y="2514600"/>
            <a:ext cx="2438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rther Future Babel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ill Do Distributed Comput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38080" y="1600200"/>
            <a:ext cx="1828800" cy="914400"/>
          </a:xfrm>
          <a:prstGeom prst="downArrowCallout">
            <a:avLst>
              <a:gd name="adj1" fmla="val 30910"/>
              <a:gd name="adj2" fmla="val 42009"/>
              <a:gd name="adj3" fmla="val 20468"/>
              <a:gd name="adj4" fmla="val 66667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4114800"/>
            <a:ext cx="1828800" cy="1828800"/>
            <a:chOff x="838080" y="4114800"/>
            <a:chExt cx="1828800" cy="1828800"/>
          </a:xfrm>
        </p:grpSpPr>
        <p:sp>
          <p:nvSpPr>
            <p:cNvPr id="382" name=""/>
            <p:cNvSpPr/>
            <p:nvPr/>
          </p:nvSpPr>
          <p:spPr>
            <a:xfrm>
              <a:off x="838080" y="4114800"/>
              <a:ext cx="1828800" cy="838080"/>
            </a:xfrm>
            <a:prstGeom prst="upArrowCallout">
              <a:avLst>
                <a:gd name="adj1" fmla="val 45849"/>
                <a:gd name="adj2" fmla="val 42804"/>
                <a:gd name="adj3" fmla="val 22222"/>
                <a:gd name="adj4" fmla="val 73856"/>
              </a:avLst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rsha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38080" y="5105520"/>
              <a:ext cx="1828800" cy="838080"/>
            </a:xfrm>
            <a:prstGeom prst="upArrowCallout">
              <a:avLst>
                <a:gd name="adj1" fmla="val 45849"/>
                <a:gd name="adj2" fmla="val 42804"/>
                <a:gd name="adj3" fmla="val 22222"/>
                <a:gd name="adj4" fmla="val 73856"/>
              </a:avLst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ne Protoc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6629400" y="1600200"/>
            <a:ext cx="1828800" cy="1828800"/>
            <a:chOff x="6629400" y="1600200"/>
            <a:chExt cx="1828800" cy="1828800"/>
          </a:xfrm>
        </p:grpSpPr>
        <p:sp>
          <p:nvSpPr>
            <p:cNvPr id="385" name=""/>
            <p:cNvSpPr/>
            <p:nvPr/>
          </p:nvSpPr>
          <p:spPr>
            <a:xfrm>
              <a:off x="6629400" y="1600200"/>
              <a:ext cx="1828800" cy="914400"/>
            </a:xfrm>
            <a:prstGeom prst="downArrowCallout">
              <a:avLst>
                <a:gd name="adj1" fmla="val 30910"/>
                <a:gd name="adj2" fmla="val 42009"/>
                <a:gd name="adj3" fmla="val 20468"/>
                <a:gd name="adj4" fmla="val 66667"/>
              </a:avLst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ne Protoc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29400" y="2590920"/>
              <a:ext cx="1828800" cy="838080"/>
            </a:xfrm>
            <a:prstGeom prst="downArrowCallout">
              <a:avLst>
                <a:gd name="adj1" fmla="val 33725"/>
                <a:gd name="adj2" fmla="val 45835"/>
                <a:gd name="adj3" fmla="val 20468"/>
                <a:gd name="adj4" fmla="val 66667"/>
              </a:avLst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nmarsha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838080" y="2590920"/>
            <a:ext cx="7620120" cy="2361960"/>
            <a:chOff x="838080" y="2590920"/>
            <a:chExt cx="7620120" cy="2361960"/>
          </a:xfrm>
        </p:grpSpPr>
        <p:sp>
          <p:nvSpPr>
            <p:cNvPr id="388" name=""/>
            <p:cNvSpPr/>
            <p:nvPr/>
          </p:nvSpPr>
          <p:spPr>
            <a:xfrm>
              <a:off x="838080" y="2590920"/>
              <a:ext cx="1828800" cy="838080"/>
            </a:xfrm>
            <a:prstGeom prst="downArrowCallout">
              <a:avLst>
                <a:gd name="adj1" fmla="val 33725"/>
                <a:gd name="adj2" fmla="val 45835"/>
                <a:gd name="adj3" fmla="val 20468"/>
                <a:gd name="adj4" fmla="val 6666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ub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38080" y="3543480"/>
              <a:ext cx="18288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29400" y="4114800"/>
              <a:ext cx="1828800" cy="838080"/>
            </a:xfrm>
            <a:prstGeom prst="upArrowCallout">
              <a:avLst>
                <a:gd name="adj1" fmla="val 45849"/>
                <a:gd name="adj2" fmla="val 42804"/>
                <a:gd name="adj3" fmla="val 22222"/>
                <a:gd name="adj4" fmla="val 73856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k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629400" y="3543480"/>
              <a:ext cx="18288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6629400" y="5105520"/>
            <a:ext cx="1828800" cy="838080"/>
          </a:xfrm>
          <a:prstGeom prst="upArrowCallout">
            <a:avLst>
              <a:gd name="adj1" fmla="val 45849"/>
              <a:gd name="adj2" fmla="val 42804"/>
              <a:gd name="adj3" fmla="val 22222"/>
              <a:gd name="adj4" fmla="val 73856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505320" y="6324480"/>
            <a:ext cx="18288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osing Remark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82960" indent="-282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Beta 0.5 is releas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enables language interoperability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nect C, C++, F77, and Pytho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de a uniform object-model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n in non-OO languages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ploying &amp; Installing Language Interoperable Code in Genera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still very ha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s broken every tool we u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-announce@llnl.gov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-users@llnl.gov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tp://www.llnl.gov/CASC/compon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onents@llnl.gov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ill Bosl, Tammy Dahlgren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om Epperly, Scott Kohn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ary Kumfert, &amp; Steve Smi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57600" y="6248520"/>
            <a:ext cx="1676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lease Announceme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8680" y="4343040"/>
            <a:ext cx="8318520" cy="231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, C++, F77, Python(clie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babel_dropshadow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819520" y="1523880"/>
            <a:ext cx="4038480" cy="1474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971800" y="2590920"/>
            <a:ext cx="3429000" cy="142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ETA  0.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3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HPC and Componen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chnology REALISTICALLY b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ted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t HPC Components have huge (and unique) hurdles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erse Architec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erse OS’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tion of SPMD and Dist. Comp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chaic Pkg/Devel/Config/Build to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-CS trained (or interested) us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3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the HPC community really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ford yet another compiler such a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bel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language interoperability importan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importan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3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is the Java subset of C++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adequate as an HPC IDL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a “Java subset of C++” 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es o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it to bind to other languages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t a common inheritance model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t a common exception model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496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5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the role of traditional (parallel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ols in component technology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pefully, they’re replaced by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oder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parallel tool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496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9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will be the configuration issue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components...to be portable an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-performanc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t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ck of Configuration, Packaging, &amp; Deployment tool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the #1 Achilles heel for 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the #1 day-to-day pain in Babel develop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1 cause for failure in regression tes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496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anyone actually make the effort to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ize their application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it will be mess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fforts to Babelize at LLNL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re - want OOP in ANSI C &amp; automatic F77 binding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PS - want scripting interface for laser plasma physic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RAI - framework used in AL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496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4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uld components be viewed a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stly a library/runtime develope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chnolog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.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used components in this PowerPoint Pres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s can use components without knowing they’re using them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harder to achieve in UNIX than other platfor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057320" y="3521160"/>
            <a:ext cx="73422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 performed under the auspices of the U. S. Department of Energy by the University of California, Lawrence Livermore National Laboratory under Contract W-7405-Eng-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15080" y="650880"/>
            <a:ext cx="3502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CRL-VG-14464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248880" y="609480"/>
            <a:ext cx="24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minous Foreshadow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onents are to OO wha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O is to structured programm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riting good OO librarie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harder tha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riting good subrouti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riting good Component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harder tha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riting good OO librar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842160" y="39020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Much Harder 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 times harde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842160" y="39020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914400" y="2286000"/>
          <a:ext cx="3646440" cy="2727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6000"/>
                    <a:ext cx="3646440" cy="27273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4876920" y="2286000"/>
          <a:ext cx="3646440" cy="272736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2286000"/>
                    <a:ext cx="3646440" cy="27273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5181120"/>
            <a:ext cx="8686800" cy="14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0% of my coding time is spent on portability/configure/build iss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bel-0.5.0.tar.gz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code genera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ten in Jav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runtime libr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ten in ANSI 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cs (minimal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pers, talks, javadoc ht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bel101 tuto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4800600" y="990720"/>
            <a:ext cx="4038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it all work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veloper’s POV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Develop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s a SIDL sp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s babel to generate IORs, Skels, &amp; Impls in language of cho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s implementation in Impl fi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iles it all into a libr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s SIDL &amp; library to reposit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077320" y="266760"/>
            <a:ext cx="761760" cy="7621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943600" y="1447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134040" y="228600"/>
            <a:ext cx="1942920" cy="838080"/>
            <a:chOff x="6134040" y="228600"/>
            <a:chExt cx="1942920" cy="838080"/>
          </a:xfrm>
        </p:grpSpPr>
        <p:sp>
          <p:nvSpPr>
            <p:cNvPr id="432" name=""/>
            <p:cNvSpPr/>
            <p:nvPr/>
          </p:nvSpPr>
          <p:spPr>
            <a:xfrm>
              <a:off x="6134040" y="228600"/>
              <a:ext cx="76212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3" name=""/>
            <p:cNvCxnSpPr>
              <a:stCxn id="429" idx="2"/>
              <a:endCxn id="432" idx="3"/>
            </p:cNvCxnSpPr>
            <p:nvPr/>
          </p:nvCxnSpPr>
          <p:spPr>
            <a:xfrm flipH="1">
              <a:off x="6895440" y="647280"/>
              <a:ext cx="1181880" cy="108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34" name=""/>
          <p:cNvGrpSpPr/>
          <p:nvPr/>
        </p:nvGrpSpPr>
        <p:grpSpPr>
          <a:xfrm>
            <a:off x="4952880" y="1066680"/>
            <a:ext cx="3200400" cy="2895840"/>
            <a:chOff x="4952880" y="1066680"/>
            <a:chExt cx="3200400" cy="2895840"/>
          </a:xfrm>
        </p:grpSpPr>
        <p:sp>
          <p:nvSpPr>
            <p:cNvPr id="435" name=""/>
            <p:cNvSpPr/>
            <p:nvPr/>
          </p:nvSpPr>
          <p:spPr>
            <a:xfrm>
              <a:off x="4952880" y="26668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OR.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105520" y="3048120"/>
              <a:ext cx="76176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OR.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095880" y="26668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kel.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248520" y="3124080"/>
              <a:ext cx="76176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kel.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238880" y="26668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mpl.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391520" y="3124080"/>
              <a:ext cx="76176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mpl.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91320" y="1523880"/>
              <a:ext cx="1447560" cy="68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ab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2" name=""/>
            <p:cNvCxnSpPr>
              <a:stCxn id="432" idx="2"/>
              <a:endCxn id="441" idx="0"/>
            </p:cNvCxnSpPr>
            <p:nvPr/>
          </p:nvCxnSpPr>
          <p:spPr>
            <a:xfrm>
              <a:off x="6514920" y="1066680"/>
              <a:ext cx="108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3" name=""/>
            <p:cNvCxnSpPr>
              <a:stCxn id="441" idx="4"/>
              <a:endCxn id="437" idx="0"/>
            </p:cNvCxnSpPr>
            <p:nvPr/>
          </p:nvCxnSpPr>
          <p:spPr>
            <a:xfrm flipH="1">
              <a:off x="6476760" y="2209680"/>
              <a:ext cx="3888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4" name=""/>
            <p:cNvCxnSpPr>
              <a:stCxn id="441" idx="5"/>
              <a:endCxn id="439" idx="0"/>
            </p:cNvCxnSpPr>
            <p:nvPr/>
          </p:nvCxnSpPr>
          <p:spPr>
            <a:xfrm>
              <a:off x="7026120" y="2109600"/>
              <a:ext cx="594720" cy="55764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5" name=""/>
            <p:cNvCxnSpPr>
              <a:stCxn id="441" idx="3"/>
              <a:endCxn id="435" idx="0"/>
            </p:cNvCxnSpPr>
            <p:nvPr/>
          </p:nvCxnSpPr>
          <p:spPr>
            <a:xfrm flipH="1">
              <a:off x="5333400" y="2109600"/>
              <a:ext cx="670680" cy="55764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446" name=""/>
          <p:cNvCxnSpPr>
            <a:stCxn id="429" idx="3"/>
            <a:endCxn id="439" idx="0"/>
          </p:cNvCxnSpPr>
          <p:nvPr/>
        </p:nvCxnSpPr>
        <p:spPr>
          <a:xfrm flipH="1">
            <a:off x="7619760" y="917280"/>
            <a:ext cx="568800" cy="17499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47" name=""/>
          <p:cNvGrpSpPr/>
          <p:nvPr/>
        </p:nvGrpSpPr>
        <p:grpSpPr>
          <a:xfrm>
            <a:off x="5486400" y="3885840"/>
            <a:ext cx="2286000" cy="2743560"/>
            <a:chOff x="5486400" y="3885840"/>
            <a:chExt cx="2286000" cy="2743560"/>
          </a:xfrm>
        </p:grpSpPr>
        <p:sp>
          <p:nvSpPr>
            <p:cNvPr id="448" name=""/>
            <p:cNvSpPr/>
            <p:nvPr/>
          </p:nvSpPr>
          <p:spPr>
            <a:xfrm>
              <a:off x="5715000" y="4495680"/>
              <a:ext cx="1828800" cy="838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mpile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anli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9" name=""/>
            <p:cNvCxnSpPr>
              <a:stCxn id="438" idx="2"/>
              <a:endCxn id="448" idx="0"/>
            </p:cNvCxnSpPr>
            <p:nvPr/>
          </p:nvCxnSpPr>
          <p:spPr>
            <a:xfrm>
              <a:off x="6629040" y="3962160"/>
              <a:ext cx="1080" cy="53388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0" name=""/>
            <p:cNvCxnSpPr>
              <a:stCxn id="440" idx="2"/>
              <a:endCxn id="448" idx="7"/>
            </p:cNvCxnSpPr>
            <p:nvPr/>
          </p:nvCxnSpPr>
          <p:spPr>
            <a:xfrm flipH="1">
              <a:off x="7275240" y="3962160"/>
              <a:ext cx="497520" cy="65628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1" name=""/>
            <p:cNvCxnSpPr>
              <a:stCxn id="436" idx="2"/>
              <a:endCxn id="448" idx="1"/>
            </p:cNvCxnSpPr>
            <p:nvPr/>
          </p:nvCxnSpPr>
          <p:spPr>
            <a:xfrm>
              <a:off x="5486400" y="3885840"/>
              <a:ext cx="497520" cy="7326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2" name=""/>
            <p:cNvCxnSpPr>
              <a:stCxn id="448" idx="4"/>
              <a:endCxn id="453" idx="0"/>
            </p:cNvCxnSpPr>
            <p:nvPr/>
          </p:nvCxnSpPr>
          <p:spPr>
            <a:xfrm>
              <a:off x="6629040" y="5334120"/>
              <a:ext cx="108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3" name=""/>
            <p:cNvSpPr/>
            <p:nvPr/>
          </p:nvSpPr>
          <p:spPr>
            <a:xfrm>
              <a:off x="6248520" y="5791320"/>
              <a:ext cx="76176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b.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1600200" y="0"/>
            <a:ext cx="5791320" cy="6858000"/>
            <a:chOff x="1600200" y="0"/>
            <a:chExt cx="5791320" cy="6858000"/>
          </a:xfrm>
        </p:grpSpPr>
        <p:sp>
          <p:nvSpPr>
            <p:cNvPr id="455" name=""/>
            <p:cNvSpPr/>
            <p:nvPr/>
          </p:nvSpPr>
          <p:spPr>
            <a:xfrm>
              <a:off x="5791320" y="0"/>
              <a:ext cx="1371600" cy="1295280"/>
            </a:xfrm>
            <a:prstGeom prst="ellipse">
              <a:avLst/>
            </a:prstGeom>
            <a:noFill/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019920" y="5562720"/>
              <a:ext cx="1371600" cy="1295280"/>
            </a:xfrm>
            <a:prstGeom prst="ellipse">
              <a:avLst/>
            </a:prstGeom>
            <a:noFill/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7" name=""/>
            <p:cNvCxnSpPr>
              <a:stCxn id="456" idx="1"/>
              <a:endCxn id="458" idx="3"/>
            </p:cNvCxnSpPr>
            <p:nvPr/>
          </p:nvCxnSpPr>
          <p:spPr>
            <a:xfrm rot="5400000">
              <a:off x="5214600" y="4860000"/>
              <a:ext cx="154440" cy="1859760"/>
            </a:xfrm>
            <a:prstGeom prst="curvedConnector5">
              <a:avLst>
                <a:gd name="adj1" fmla="val -246261"/>
                <a:gd name="adj2" fmla="val 27957"/>
                <a:gd name="adj3" fmla="val -246261"/>
              </a:avLst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</p:cxnSp>
        <p:sp>
          <p:nvSpPr>
            <p:cNvPr id="458" name=""/>
            <p:cNvSpPr/>
            <p:nvPr/>
          </p:nvSpPr>
          <p:spPr>
            <a:xfrm>
              <a:off x="1600200" y="5638680"/>
              <a:ext cx="274320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ww-casc.llnl.go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267080" y="762120"/>
              <a:ext cx="1524240" cy="5029200"/>
            </a:xfrm>
            <a:custGeom>
              <a:avLst/>
              <a:gdLst/>
              <a:ahLst/>
              <a:rect l="l" t="t" r="r" b="b"/>
              <a:pathLst>
                <a:path w="960" h="3168">
                  <a:moveTo>
                    <a:pt x="960" y="0"/>
                  </a:moveTo>
                  <a:cubicBezTo>
                    <a:pt x="624" y="384"/>
                    <a:pt x="288" y="768"/>
                    <a:pt x="144" y="1296"/>
                  </a:cubicBezTo>
                  <a:cubicBezTo>
                    <a:pt x="0" y="1824"/>
                    <a:pt x="48" y="2496"/>
                    <a:pt x="96" y="3168"/>
                  </a:cubicBezTo>
                </a:path>
              </a:pathLst>
            </a:custGeom>
            <a:noFill/>
            <a:ln w="7632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6095880" y="228600"/>
            <a:ext cx="914400" cy="6400800"/>
            <a:chOff x="6095880" y="228600"/>
            <a:chExt cx="914400" cy="6400800"/>
          </a:xfrm>
        </p:grpSpPr>
        <p:sp>
          <p:nvSpPr>
            <p:cNvPr id="461" name=""/>
            <p:cNvSpPr/>
            <p:nvPr/>
          </p:nvSpPr>
          <p:spPr>
            <a:xfrm>
              <a:off x="6095880" y="228600"/>
              <a:ext cx="762120" cy="838080"/>
            </a:xfrm>
            <a:prstGeom prst="foldedCorner">
              <a:avLst>
                <a:gd name="adj" fmla="val 12500"/>
              </a:avLst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48520" y="5791320"/>
              <a:ext cx="761760" cy="838080"/>
            </a:xfrm>
            <a:prstGeom prst="foldedCorner">
              <a:avLst>
                <a:gd name="adj" fmla="val 12500"/>
              </a:avLst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b.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4419720" y="4419720"/>
            <a:ext cx="304560" cy="304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05520" y="838080"/>
            <a:ext cx="4038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it all work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’s POV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nent 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rches repository for appropriate componen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es application language, platfor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s the appropriate library and SIDL fi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s babel to generates Stubs and I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nent 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s application using Stub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s and links it all toge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248520" y="0"/>
            <a:ext cx="761760" cy="7621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248520" y="12952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5257800" y="761760"/>
            <a:ext cx="2743200" cy="914760"/>
            <a:chOff x="5257800" y="761760"/>
            <a:chExt cx="2743200" cy="914760"/>
          </a:xfrm>
        </p:grpSpPr>
        <p:sp>
          <p:nvSpPr>
            <p:cNvPr id="470" name=""/>
            <p:cNvSpPr/>
            <p:nvPr/>
          </p:nvSpPr>
          <p:spPr>
            <a:xfrm>
              <a:off x="5257800" y="1219320"/>
              <a:ext cx="274320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ww-casc.llnl.go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1" name=""/>
            <p:cNvCxnSpPr>
              <a:stCxn id="467" idx="4"/>
              <a:endCxn id="470" idx="0"/>
            </p:cNvCxnSpPr>
            <p:nvPr/>
          </p:nvCxnSpPr>
          <p:spPr>
            <a:xfrm>
              <a:off x="6629040" y="761760"/>
              <a:ext cx="1080" cy="43884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72" name=""/>
          <p:cNvGrpSpPr/>
          <p:nvPr/>
        </p:nvGrpSpPr>
        <p:grpSpPr>
          <a:xfrm>
            <a:off x="6629400" y="1695600"/>
            <a:ext cx="2133720" cy="1809720"/>
            <a:chOff x="6629400" y="1695600"/>
            <a:chExt cx="2133720" cy="1809720"/>
          </a:xfrm>
        </p:grpSpPr>
        <p:sp>
          <p:nvSpPr>
            <p:cNvPr id="473" name=""/>
            <p:cNvSpPr/>
            <p:nvPr/>
          </p:nvSpPr>
          <p:spPr>
            <a:xfrm>
              <a:off x="7086600" y="26668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001000" y="26668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b.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5" name=""/>
            <p:cNvCxnSpPr>
              <a:stCxn id="470" idx="2"/>
              <a:endCxn id="473" idx="0"/>
            </p:cNvCxnSpPr>
            <p:nvPr/>
          </p:nvCxnSpPr>
          <p:spPr>
            <a:xfrm>
              <a:off x="6629400" y="1695600"/>
              <a:ext cx="838800" cy="9720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6" name=""/>
            <p:cNvCxnSpPr>
              <a:stCxn id="470" idx="2"/>
              <a:endCxn id="474" idx="0"/>
            </p:cNvCxnSpPr>
            <p:nvPr/>
          </p:nvCxnSpPr>
          <p:spPr>
            <a:xfrm>
              <a:off x="6629400" y="1695600"/>
              <a:ext cx="1753200" cy="9720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77" name=""/>
          <p:cNvGrpSpPr/>
          <p:nvPr/>
        </p:nvGrpSpPr>
        <p:grpSpPr>
          <a:xfrm>
            <a:off x="4800600" y="1695240"/>
            <a:ext cx="2285640" cy="1391040"/>
            <a:chOff x="4800600" y="1695240"/>
            <a:chExt cx="2285640" cy="1391040"/>
          </a:xfrm>
        </p:grpSpPr>
        <p:sp>
          <p:nvSpPr>
            <p:cNvPr id="478" name=""/>
            <p:cNvSpPr/>
            <p:nvPr/>
          </p:nvSpPr>
          <p:spPr>
            <a:xfrm>
              <a:off x="4800600" y="2057400"/>
              <a:ext cx="1447920" cy="68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ab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9" name=""/>
            <p:cNvCxnSpPr>
              <a:stCxn id="470" idx="2"/>
              <a:endCxn id="478" idx="0"/>
            </p:cNvCxnSpPr>
            <p:nvPr/>
          </p:nvCxnSpPr>
          <p:spPr>
            <a:xfrm flipH="1">
              <a:off x="5523840" y="1695240"/>
              <a:ext cx="1105560" cy="3625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0" name=""/>
            <p:cNvCxnSpPr>
              <a:stCxn id="473" idx="1"/>
              <a:endCxn id="478" idx="7"/>
            </p:cNvCxnSpPr>
            <p:nvPr/>
          </p:nvCxnSpPr>
          <p:spPr>
            <a:xfrm rot="10800000">
              <a:off x="6035040" y="2156760"/>
              <a:ext cx="1051560" cy="929520"/>
            </a:xfrm>
            <a:prstGeom prst="curvedConnector5">
              <a:avLst>
                <a:gd name="adj1" fmla="val 39863"/>
                <a:gd name="adj2" fmla="val 55792"/>
                <a:gd name="adj3" fmla="val 39863"/>
              </a:avLst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81" name=""/>
          <p:cNvGrpSpPr/>
          <p:nvPr/>
        </p:nvGrpSpPr>
        <p:grpSpPr>
          <a:xfrm>
            <a:off x="4190760" y="380880"/>
            <a:ext cx="2057760" cy="4953240"/>
            <a:chOff x="4190760" y="380880"/>
            <a:chExt cx="2057760" cy="4953240"/>
          </a:xfrm>
        </p:grpSpPr>
        <p:sp>
          <p:nvSpPr>
            <p:cNvPr id="482" name=""/>
            <p:cNvSpPr/>
            <p:nvPr/>
          </p:nvSpPr>
          <p:spPr>
            <a:xfrm>
              <a:off x="4267080" y="44956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in.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3" name=""/>
            <p:cNvCxnSpPr>
              <a:stCxn id="467" idx="2"/>
              <a:endCxn id="463" idx="2"/>
            </p:cNvCxnSpPr>
            <p:nvPr/>
          </p:nvCxnSpPr>
          <p:spPr>
            <a:xfrm flipV="1" rot="10800000">
              <a:off x="4419000" y="380520"/>
              <a:ext cx="1829520" cy="4191840"/>
            </a:xfrm>
            <a:prstGeom prst="curvedConnector5">
              <a:avLst>
                <a:gd name="adj1" fmla="val 112497"/>
                <a:gd name="adj2" fmla="val 49995"/>
                <a:gd name="adj3" fmla="val 112497"/>
              </a:avLst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84" name=""/>
          <p:cNvGrpSpPr/>
          <p:nvPr/>
        </p:nvGrpSpPr>
        <p:grpSpPr>
          <a:xfrm>
            <a:off x="4724280" y="2743200"/>
            <a:ext cx="1752840" cy="1676520"/>
            <a:chOff x="4724280" y="2743200"/>
            <a:chExt cx="1752840" cy="1676520"/>
          </a:xfrm>
        </p:grpSpPr>
        <p:sp>
          <p:nvSpPr>
            <p:cNvPr id="485" name=""/>
            <p:cNvSpPr/>
            <p:nvPr/>
          </p:nvSpPr>
          <p:spPr>
            <a:xfrm>
              <a:off x="4724280" y="3200400"/>
              <a:ext cx="76212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ub.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876920" y="3581280"/>
              <a:ext cx="76176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ub.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715000" y="3200400"/>
              <a:ext cx="76212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OR.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8" name=""/>
            <p:cNvCxnSpPr>
              <a:stCxn id="478" idx="4"/>
              <a:endCxn id="487" idx="0"/>
            </p:cNvCxnSpPr>
            <p:nvPr/>
          </p:nvCxnSpPr>
          <p:spPr>
            <a:xfrm>
              <a:off x="5524200" y="2743200"/>
              <a:ext cx="57204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9" name=""/>
            <p:cNvCxnSpPr>
              <a:stCxn id="478" idx="4"/>
              <a:endCxn id="485" idx="0"/>
            </p:cNvCxnSpPr>
            <p:nvPr/>
          </p:nvCxnSpPr>
          <p:spPr>
            <a:xfrm flipH="1">
              <a:off x="5105160" y="2743200"/>
              <a:ext cx="41976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90" name=""/>
          <p:cNvGrpSpPr/>
          <p:nvPr/>
        </p:nvGrpSpPr>
        <p:grpSpPr>
          <a:xfrm>
            <a:off x="5029200" y="3504960"/>
            <a:ext cx="3352680" cy="2972160"/>
            <a:chOff x="5029200" y="3504960"/>
            <a:chExt cx="3352680" cy="2972160"/>
          </a:xfrm>
        </p:grpSpPr>
        <p:sp>
          <p:nvSpPr>
            <p:cNvPr id="491" name=""/>
            <p:cNvSpPr/>
            <p:nvPr/>
          </p:nvSpPr>
          <p:spPr>
            <a:xfrm>
              <a:off x="5943600" y="4572000"/>
              <a:ext cx="1828800" cy="838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mpile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2" name=""/>
            <p:cNvCxnSpPr>
              <a:stCxn id="474" idx="2"/>
              <a:endCxn id="491" idx="7"/>
            </p:cNvCxnSpPr>
            <p:nvPr/>
          </p:nvCxnSpPr>
          <p:spPr>
            <a:xfrm flipH="1">
              <a:off x="7503840" y="3504960"/>
              <a:ext cx="878400" cy="11898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3" name=""/>
            <p:cNvCxnSpPr>
              <a:stCxn id="486" idx="2"/>
              <a:endCxn id="491" idx="1"/>
            </p:cNvCxnSpPr>
            <p:nvPr/>
          </p:nvCxnSpPr>
          <p:spPr>
            <a:xfrm>
              <a:off x="5257800" y="4419360"/>
              <a:ext cx="954720" cy="2754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4" name=""/>
            <p:cNvCxnSpPr>
              <a:stCxn id="487" idx="2"/>
              <a:endCxn id="491" idx="0"/>
            </p:cNvCxnSpPr>
            <p:nvPr/>
          </p:nvCxnSpPr>
          <p:spPr>
            <a:xfrm>
              <a:off x="6095520" y="4038480"/>
              <a:ext cx="762840" cy="53424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5" name=""/>
            <p:cNvCxnSpPr>
              <a:stCxn id="482" idx="3"/>
              <a:endCxn id="491" idx="2"/>
            </p:cNvCxnSpPr>
            <p:nvPr/>
          </p:nvCxnSpPr>
          <p:spPr>
            <a:xfrm>
              <a:off x="5029200" y="4914720"/>
              <a:ext cx="915120" cy="7668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6" name=""/>
            <p:cNvCxnSpPr>
              <a:stCxn id="491" idx="4"/>
              <a:endCxn id="497" idx="0"/>
            </p:cNvCxnSpPr>
            <p:nvPr/>
          </p:nvCxnSpPr>
          <p:spPr>
            <a:xfrm>
              <a:off x="6857640" y="5409720"/>
              <a:ext cx="1080" cy="2293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7" name=""/>
            <p:cNvSpPr/>
            <p:nvPr/>
          </p:nvSpPr>
          <p:spPr>
            <a:xfrm>
              <a:off x="6477120" y="5638680"/>
              <a:ext cx="76176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.o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19040" y="298440"/>
            <a:ext cx="82803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and Code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nguage Interoper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09080" y="1523880"/>
            <a:ext cx="2599200" cy="131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J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N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W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atform 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54240" y="3281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16280" y="451332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09480" y="23670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01880" y="32767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69240" y="451332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49640" y="56689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77" idx="0"/>
            <a:endCxn id="76" idx="2"/>
          </p:cNvCxnSpPr>
          <p:nvPr/>
        </p:nvCxnSpPr>
        <p:spPr>
          <a:xfrm flipV="1">
            <a:off x="2391840" y="3859920"/>
            <a:ext cx="1080" cy="653400"/>
          </a:xfrm>
          <a:prstGeom prst="straightConnector1">
            <a:avLst/>
          </a:prstGeom>
          <a:ln w="381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77" idx="2"/>
            <a:endCxn id="81" idx="0"/>
          </p:cNvCxnSpPr>
          <p:nvPr/>
        </p:nvCxnSpPr>
        <p:spPr>
          <a:xfrm>
            <a:off x="2392200" y="5092200"/>
            <a:ext cx="2199600" cy="577080"/>
          </a:xfrm>
          <a:prstGeom prst="straightConnector1">
            <a:avLst/>
          </a:prstGeom>
          <a:ln w="3816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7" idx="3"/>
            <a:endCxn id="80" idx="1"/>
          </p:cNvCxnSpPr>
          <p:nvPr/>
        </p:nvCxnSpPr>
        <p:spPr>
          <a:xfrm>
            <a:off x="2868480" y="4803480"/>
            <a:ext cx="3201120" cy="1080"/>
          </a:xfrm>
          <a:prstGeom prst="straightConnector1">
            <a:avLst/>
          </a:prstGeom>
          <a:ln w="38160">
            <a:solidFill>
              <a:srgbClr val="800080"/>
            </a:solidFill>
            <a:miter/>
            <a:headEnd len="med" type="triangle" w="med"/>
          </a:ln>
        </p:spPr>
      </p:cxnSp>
      <p:cxnSp>
        <p:nvCxnSpPr>
          <p:cNvPr id="85" name=""/>
          <p:cNvCxnSpPr>
            <a:stCxn id="76" idx="0"/>
            <a:endCxn id="78" idx="1"/>
          </p:cNvCxnSpPr>
          <p:nvPr/>
        </p:nvCxnSpPr>
        <p:spPr>
          <a:xfrm flipV="1">
            <a:off x="2391840" y="2656800"/>
            <a:ext cx="1816920" cy="624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79" idx="0"/>
            <a:endCxn id="78" idx="3"/>
          </p:cNvCxnSpPr>
          <p:nvPr/>
        </p:nvCxnSpPr>
        <p:spPr>
          <a:xfrm flipH="1" flipV="1">
            <a:off x="4977720" y="2657160"/>
            <a:ext cx="1809000" cy="619920"/>
          </a:xfrm>
          <a:prstGeom prst="straightConnector1">
            <a:avLst/>
          </a:prstGeom>
          <a:ln w="381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81" idx="0"/>
            <a:endCxn id="76" idx="3"/>
          </p:cNvCxnSpPr>
          <p:nvPr/>
        </p:nvCxnSpPr>
        <p:spPr>
          <a:xfrm flipH="1" flipV="1">
            <a:off x="2630160" y="3571560"/>
            <a:ext cx="1961280" cy="2097360"/>
          </a:xfrm>
          <a:prstGeom prst="straightConnector1">
            <a:avLst/>
          </a:prstGeom>
          <a:ln w="3816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80" idx="1"/>
            <a:endCxn id="76" idx="3"/>
          </p:cNvCxnSpPr>
          <p:nvPr/>
        </p:nvCxnSpPr>
        <p:spPr>
          <a:xfrm flipH="1" flipV="1">
            <a:off x="2629800" y="3571920"/>
            <a:ext cx="3439080" cy="1232280"/>
          </a:xfrm>
          <a:prstGeom prst="straightConnector1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7" idx="0"/>
            <a:endCxn id="78" idx="2"/>
          </p:cNvCxnSpPr>
          <p:nvPr/>
        </p:nvCxnSpPr>
        <p:spPr>
          <a:xfrm flipV="1">
            <a:off x="2391840" y="2945520"/>
            <a:ext cx="2202840" cy="1567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2895480" y="4876920"/>
            <a:ext cx="3200400" cy="241200"/>
          </a:xfrm>
          <a:custGeom>
            <a:avLst/>
            <a:gdLst/>
            <a:ahLst/>
            <a:rect l="l" t="t" r="r" b="b"/>
            <a:pathLst>
              <a:path w="2016" h="152">
                <a:moveTo>
                  <a:pt x="0" y="48"/>
                </a:moveTo>
                <a:cubicBezTo>
                  <a:pt x="312" y="100"/>
                  <a:pt x="624" y="152"/>
                  <a:pt x="960" y="144"/>
                </a:cubicBezTo>
                <a:cubicBezTo>
                  <a:pt x="1296" y="136"/>
                  <a:pt x="1656" y="68"/>
                  <a:pt x="201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3505320"/>
            <a:ext cx="3429000" cy="1218960"/>
          </a:xfrm>
          <a:custGeom>
            <a:avLst/>
            <a:gdLst/>
            <a:ahLst/>
            <a:rect l="l" t="t" r="r" b="b"/>
            <a:pathLst>
              <a:path w="2160" h="768">
                <a:moveTo>
                  <a:pt x="0" y="0"/>
                </a:moveTo>
                <a:cubicBezTo>
                  <a:pt x="444" y="56"/>
                  <a:pt x="888" y="112"/>
                  <a:pt x="1248" y="240"/>
                </a:cubicBezTo>
                <a:cubicBezTo>
                  <a:pt x="1608" y="368"/>
                  <a:pt x="1884" y="568"/>
                  <a:pt x="2160" y="76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babel_dropshadow" descr=""/>
          <p:cNvPicPr/>
          <p:nvPr/>
        </p:nvPicPr>
        <p:blipFill>
          <a:blip r:embed="rId1">
            <a:lum bright="-12000"/>
          </a:blip>
          <a:stretch/>
        </p:blipFill>
        <p:spPr>
          <a:xfrm flipH="1" rot="10800000">
            <a:off x="3505320" y="3886200"/>
            <a:ext cx="2361960" cy="860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19040" y="298440"/>
            <a:ext cx="8280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66880" y="3733920"/>
            <a:ext cx="762120" cy="22860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2971800"/>
            <a:ext cx="0" cy="83808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638680" y="3657240"/>
            <a:ext cx="838440" cy="30492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81480" y="4724280"/>
            <a:ext cx="914400" cy="15264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743200" y="4571640"/>
            <a:ext cx="838080" cy="22860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4724280"/>
            <a:ext cx="0" cy="99072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bel Enable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nguage Interoperabi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587600"/>
            <a:ext cx="412128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uly Object Orien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6560" y="1587600"/>
            <a:ext cx="426708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ption Hand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MI (futur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54240" y="3281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16280" y="451332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09480" y="23670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01880" y="32767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69240" y="451332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49640" y="56689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248520" y="3048120"/>
            <a:ext cx="1066680" cy="99036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828800" y="2133720"/>
            <a:ext cx="3276720" cy="3124080"/>
            <a:chOff x="1828800" y="2133720"/>
            <a:chExt cx="3276720" cy="3124080"/>
          </a:xfrm>
        </p:grpSpPr>
        <p:sp>
          <p:nvSpPr>
            <p:cNvPr id="111" name=""/>
            <p:cNvSpPr/>
            <p:nvPr/>
          </p:nvSpPr>
          <p:spPr>
            <a:xfrm>
              <a:off x="4038480" y="2133720"/>
              <a:ext cx="1067040" cy="990360"/>
            </a:xfrm>
            <a:custGeom>
              <a:avLst/>
              <a:gdLst>
                <a:gd name="textAreaLeft" fmla="*/ 243360 w 1067040"/>
                <a:gd name="textAreaRight" fmla="*/ 823680 w 1067040"/>
                <a:gd name="textAreaTop" fmla="*/ 226080 h 990360"/>
                <a:gd name="textAreaBottom" fmla="*/ 76428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28800" y="3048120"/>
              <a:ext cx="1066680" cy="990360"/>
            </a:xfrm>
            <a:custGeom>
              <a:avLst/>
              <a:gdLst>
                <a:gd name="textAreaLeft" fmla="*/ 243360 w 1066680"/>
                <a:gd name="textAreaRight" fmla="*/ 823320 w 1066680"/>
                <a:gd name="textAreaTop" fmla="*/ 226080 h 990360"/>
                <a:gd name="textAreaBottom" fmla="*/ 76428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28800" y="4267080"/>
              <a:ext cx="1066680" cy="990720"/>
            </a:xfrm>
            <a:custGeom>
              <a:avLst/>
              <a:gdLst>
                <a:gd name="textAreaLeft" fmla="*/ 243360 w 1066680"/>
                <a:gd name="textAreaRight" fmla="*/ 823320 w 1066680"/>
                <a:gd name="textAreaTop" fmla="*/ 226080 h 990720"/>
                <a:gd name="textAreaBottom" fmla="*/ 76464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114800" y="5486400"/>
            <a:ext cx="1066680" cy="990720"/>
          </a:xfrm>
          <a:prstGeom prst="noSmoking">
            <a:avLst>
              <a:gd name="adj" fmla="val 125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943600" y="4343400"/>
            <a:ext cx="2619360" cy="1693800"/>
            <a:chOff x="5943600" y="4343400"/>
            <a:chExt cx="2619360" cy="1693800"/>
          </a:xfrm>
        </p:grpSpPr>
        <p:grpSp>
          <p:nvGrpSpPr>
            <p:cNvPr id="116" name=""/>
            <p:cNvGrpSpPr/>
            <p:nvPr/>
          </p:nvGrpSpPr>
          <p:grpSpPr>
            <a:xfrm>
              <a:off x="5943600" y="4343400"/>
              <a:ext cx="1981080" cy="990720"/>
              <a:chOff x="5943600" y="4343400"/>
              <a:chExt cx="1981080" cy="990720"/>
            </a:xfrm>
          </p:grpSpPr>
          <p:sp>
            <p:nvSpPr>
              <p:cNvPr id="117" name=""/>
              <p:cNvSpPr/>
              <p:nvPr/>
            </p:nvSpPr>
            <p:spPr>
              <a:xfrm>
                <a:off x="5943600" y="4343400"/>
                <a:ext cx="1905120" cy="990720"/>
              </a:xfrm>
              <a:custGeom>
                <a:avLst/>
                <a:gdLst>
                  <a:gd name="textAreaLeft" fmla="*/ 434880 w 1905120"/>
                  <a:gd name="textAreaRight" fmla="*/ 1470240 w 1905120"/>
                  <a:gd name="textAreaTop" fmla="*/ 226080 h 990720"/>
                  <a:gd name="textAreaBottom" fmla="*/ 764640 h 99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934320" y="4343400"/>
                <a:ext cx="990360" cy="99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5400000">
                <a:off x="6438960" y="4152960"/>
                <a:ext cx="990720" cy="1371600"/>
              </a:xfrm>
              <a:prstGeom prst="blockArc">
                <a:avLst>
                  <a:gd name="adj1" fmla="val 10611920"/>
                  <a:gd name="adj2" fmla="val 188080"/>
                  <a:gd name="adj3" fmla="val 16139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 flipV="1">
                <a:off x="6858000" y="4800600"/>
                <a:ext cx="457200" cy="38088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 txBox="1"/>
            <p:nvPr/>
          </p:nvSpPr>
          <p:spPr>
            <a:xfrm>
              <a:off x="6858000" y="4952880"/>
              <a:ext cx="1704960" cy="108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 Black"/>
                </a:rPr>
                <a:t>Soon!!!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19040" y="298440"/>
            <a:ext cx="8280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1880" y="1523880"/>
            <a:ext cx="4717800" cy="58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’s In This Relea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266720" y="1587600"/>
            <a:ext cx="48769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bel Enable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nguage Interoperabi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babel_dropshadow" descr=""/>
          <p:cNvPicPr/>
          <p:nvPr/>
        </p:nvPicPr>
        <p:blipFill>
          <a:blip r:embed="rId1">
            <a:lum bright="-12000"/>
          </a:blip>
          <a:stretch/>
        </p:blipFill>
        <p:spPr>
          <a:xfrm flipH="1" rot="10800000">
            <a:off x="3505320" y="3886200"/>
            <a:ext cx="2361960" cy="860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666880" y="3733920"/>
            <a:ext cx="762120" cy="22860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2971800"/>
            <a:ext cx="0" cy="83808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638680" y="3657240"/>
            <a:ext cx="838440" cy="30492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4724280"/>
            <a:ext cx="914400" cy="15264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743200" y="4571640"/>
            <a:ext cx="838080" cy="22860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4724280"/>
            <a:ext cx="0" cy="99072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54240" y="3281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16280" y="451332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09480" y="23670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01880" y="32767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69240" y="451332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49640" y="56689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bel Has Two Types of Custome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41529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ve a c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 to increase their user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learn SID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 Babel general and powerfu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4080" y="1587600"/>
            <a:ext cx="44895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ve a probl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 to solve their probl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y never see SIDL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 software that’s easy &amp; trustworth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81600" y="1474920"/>
            <a:ext cx="5720400" cy="642600"/>
            <a:chOff x="381600" y="1474920"/>
            <a:chExt cx="5720400" cy="642600"/>
          </a:xfrm>
        </p:grpSpPr>
        <p:sp>
          <p:nvSpPr>
            <p:cNvPr id="143" name=""/>
            <p:cNvSpPr/>
            <p:nvPr/>
          </p:nvSpPr>
          <p:spPr>
            <a:xfrm>
              <a:off x="381600" y="1474920"/>
              <a:ext cx="264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Developer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48680" y="1474920"/>
              <a:ext cx="1453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User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bel’s Design Prioriti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veloper/User dichotom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’s natural for each language?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ld expose C array structs in C++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 style would be SIDL::array&lt;T&gt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4572000"/>
            <a:ext cx="6933960" cy="2226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emplate &l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rray&lt;item_t&gt; : public array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 array_t, item_t,          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item_cxx_wrapper_t&gt;  {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8:14:34Z</dcterms:created>
  <dc:creator>Gary Kumfert</dc:creator>
  <dc:description/>
  <dc:language>en-US</dc:language>
  <cp:lastModifiedBy>SCCD User</cp:lastModifiedBy>
  <cp:lastPrinted>2001-07-19T22:31:50Z</cp:lastPrinted>
  <dcterms:modified xsi:type="dcterms:W3CDTF">2001-08-07T18:22:47Z</dcterms:modified>
  <cp:revision>69</cp:revision>
  <dc:subject/>
  <dc:title>ComponentsWorkshop</dc:title>
</cp:coreProperties>
</file>