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A9885A-666E-491A-A1BF-C9586AA048D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0240" y="4406760"/>
            <a:ext cx="512784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3B0-750C-4F6A-A13A-55C212B3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D41-EBB4-4C06-9A90-AB810609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617-81B2-40D7-B42E-33699C8E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AA1-0D9F-4E16-81A4-7C0D2931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14C-31A8-41E9-AEA4-70995485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D31-E35D-4EA7-B904-13FD2378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664-E01F-4BF4-9B53-D2504E16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0C4-D761-4254-80D0-EB623764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951-A99E-4AB1-A93B-BDED80CB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3B1-0248-421F-907C-B2A4C4DE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AE3-54F0-4654-83DA-027EAE1C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191-DBF9-4062-98EF-F2AD1414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510F-D9E2-4372-8C0B-C6255BB37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2654280"/>
            <a:ext cx="852480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7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Epperly and Gary Kumfert</a:t>
            </a:r>
            <a:br>
              <a:rPr sz="24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3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1143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for High-Performance Scientific Simul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53920"/>
            <a:ext cx="8076960" cy="152280"/>
            <a:chOff x="533520" y="85392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5392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6804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04720" y="2422440"/>
            <a:ext cx="8076960" cy="152640"/>
            <a:chOff x="504720" y="242244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04720" y="242244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4720" y="253692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02B-FD17-40D9-B88C-E67E8E5A70B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is investigating high-performance component technology for the DO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omponent Architecture (CCA) fo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workshops and meetings since January,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L, LANL, LBNL, LLNL, ORNL, SNL, Indiana, and Ut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z.ca.sandia.gov/~cca-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interoperability for high-performanc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massively parallel SPM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industry approaches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specifications and referenc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 developed by CCA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develop a joint reference implementation by FY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BD2-0F8E-44B4-BFD2-D8ECE162E2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is researching a variety of component issues in scientific comput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6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between components via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 component repository formats and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 GU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anguage interoperability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component lo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arallel data redistribution between SPM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interface standards (e.g., solvers, meshes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low-level parallel communication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C32-7F7B-4150-AC52-E9CF6AD96A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488-C0F1-48BA-A013-7A0A022D7E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ocus is on tightly-coupled same-address space 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2"/>
            <a:endCxn id="144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2"/>
            <a:endCxn id="148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4" idx="2"/>
            <a:endCxn id="146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4" idx="2"/>
            <a:endCxn id="145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5AF-D3D7-4B1B-84D7-C4A4D226ED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ETSc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ement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, RTTI,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D8D-6AC4-483B-AE2F-521C06BB74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radeoffs when choosing a language interoperability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040" y="1486080"/>
            <a:ext cx="87249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generation, wrapper tools (e.g., SWIG), ID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hose the IDL approach to languag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any language can call and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tools need a common interface descrip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information for automatic generation of distributed ca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26240" y="4240080"/>
            <a:ext cx="3420000" cy="2055240"/>
            <a:chOff x="4926240" y="4240080"/>
            <a:chExt cx="3420000" cy="2055240"/>
          </a:xfrm>
        </p:grpSpPr>
        <p:sp>
          <p:nvSpPr>
            <p:cNvPr id="158" name=""/>
            <p:cNvSpPr/>
            <p:nvPr/>
          </p:nvSpPr>
          <p:spPr>
            <a:xfrm>
              <a:off x="6264360" y="4957920"/>
              <a:ext cx="519120" cy="51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6040" y="4773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5459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5600" y="42400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57200" y="47736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79720" y="55357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17920" y="59580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5029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42120" y="4957920"/>
              <a:ext cx="82224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23200" y="4524480"/>
              <a:ext cx="0" cy="4334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783480" y="4957560"/>
              <a:ext cx="90792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3480" y="5303880"/>
              <a:ext cx="77796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84960" y="5303880"/>
              <a:ext cx="77940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31120" y="5477040"/>
              <a:ext cx="0" cy="47448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87240" y="4280040"/>
            <a:ext cx="3638880" cy="1937160"/>
            <a:chOff x="687240" y="4280040"/>
            <a:chExt cx="3638880" cy="1937160"/>
          </a:xfrm>
        </p:grpSpPr>
        <p:sp>
          <p:nvSpPr>
            <p:cNvPr id="173" name=""/>
            <p:cNvSpPr/>
            <p:nvPr/>
          </p:nvSpPr>
          <p:spPr>
            <a:xfrm>
              <a:off x="3537360" y="4533480"/>
              <a:ext cx="78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J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b61"/>
                  </a:solidFill>
                  <a:latin typeface="Arial"/>
                </a:rPr>
                <a:t>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W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5480" y="4660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240" y="5346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2880" y="42800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880" y="48128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61000" y="53305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2520" y="58798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5" idx="0"/>
              <a:endCxn id="174" idx="2"/>
            </p:cNvCxnSpPr>
            <p:nvPr/>
          </p:nvCxnSpPr>
          <p:spPr>
            <a:xfrm flipV="1">
              <a:off x="969480" y="4996440"/>
              <a:ext cx="109800" cy="34956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5" idx="2"/>
              <a:endCxn id="179" idx="0"/>
            </p:cNvCxnSpPr>
            <p:nvPr/>
          </p:nvCxnSpPr>
          <p:spPr>
            <a:xfrm>
              <a:off x="969840" y="5682960"/>
              <a:ext cx="1329120" cy="19728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5" idx="3"/>
              <a:endCxn id="178" idx="1"/>
            </p:cNvCxnSpPr>
            <p:nvPr/>
          </p:nvCxnSpPr>
          <p:spPr>
            <a:xfrm flipV="1">
              <a:off x="1253520" y="5498280"/>
              <a:ext cx="1705320" cy="1584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</a:ln>
          </p:spPr>
        </p:cxnSp>
        <p:cxnSp>
          <p:nvCxnSpPr>
            <p:cNvPr id="183" name=""/>
            <p:cNvCxnSpPr>
              <a:stCxn id="174" idx="0"/>
              <a:endCxn id="176" idx="1"/>
            </p:cNvCxnSpPr>
            <p:nvPr/>
          </p:nvCxnSpPr>
          <p:spPr>
            <a:xfrm flipV="1">
              <a:off x="1079280" y="4447440"/>
              <a:ext cx="902160" cy="21312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77" idx="0"/>
              <a:endCxn id="176" idx="3"/>
            </p:cNvCxnSpPr>
            <p:nvPr/>
          </p:nvCxnSpPr>
          <p:spPr>
            <a:xfrm flipH="1" flipV="1">
              <a:off x="2458080" y="4447440"/>
              <a:ext cx="905400" cy="36504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79" idx="0"/>
              <a:endCxn id="174" idx="3"/>
            </p:cNvCxnSpPr>
            <p:nvPr/>
          </p:nvCxnSpPr>
          <p:spPr>
            <a:xfrm flipH="1" flipV="1">
              <a:off x="1243800" y="4827960"/>
              <a:ext cx="1054440" cy="105156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8" idx="1"/>
              <a:endCxn id="174" idx="3"/>
            </p:cNvCxnSpPr>
            <p:nvPr/>
          </p:nvCxnSpPr>
          <p:spPr>
            <a:xfrm flipH="1" flipV="1">
              <a:off x="1243800" y="4828320"/>
              <a:ext cx="1714680" cy="6703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75" idx="0"/>
              <a:endCxn id="176" idx="2"/>
            </p:cNvCxnSpPr>
            <p:nvPr/>
          </p:nvCxnSpPr>
          <p:spPr>
            <a:xfrm flipV="1">
              <a:off x="969840" y="4615920"/>
              <a:ext cx="1251360" cy="73008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D54-BBAC-43AA-BB11-B80E82CA68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DL for scientific computing requires capabilities not present in industry ID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standard IDLs: CORBA, COM, RPC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capabilities for a scientific computing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for parallel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 dynamic multidimensional arrays and complex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s for f77/f90 and “special” languages (e.g., Yori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nd easy-to-modify IDL for research purp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 inheritance model (Java-like interfaces and class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for same address-space method inv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141-C216-4DD1-96F1-CF94068E63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provides language interoperability for scientific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a “scientific” interface defini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odified industry IDL technology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describes calling interfaces (e.g., CCA specifi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tools automatically generate code to “glue languag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00" y="3505320"/>
            <a:ext cx="5301360" cy="252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ES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axp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, in double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do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5040" y="4419720"/>
            <a:ext cx="788760" cy="70380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IDL</a:t>
            </a:r>
            <a:br>
              <a:rPr sz="2000"/>
            </a:b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800600"/>
            <a:ext cx="3812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42080" y="3373560"/>
            <a:ext cx="1043280" cy="2826000"/>
            <a:chOff x="7642080" y="3373560"/>
            <a:chExt cx="1043280" cy="2826000"/>
          </a:xfrm>
        </p:grpSpPr>
        <p:sp>
          <p:nvSpPr>
            <p:cNvPr id="196" name=""/>
            <p:cNvSpPr/>
            <p:nvPr/>
          </p:nvSpPr>
          <p:spPr>
            <a:xfrm>
              <a:off x="7889040" y="33735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920" y="3979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32880" y="458640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42080" y="519264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Pyth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68240" y="58006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f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0" y="4800600"/>
            <a:ext cx="9144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58000" y="3657240"/>
            <a:ext cx="990720" cy="1143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858000" y="4267080"/>
            <a:ext cx="9907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4800600"/>
            <a:ext cx="7621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4800600"/>
            <a:ext cx="914400" cy="12193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0920" y="5562720"/>
            <a:ext cx="27594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library writer develop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6880" y="3124080"/>
            <a:ext cx="17460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user runs thi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0040" y="6248520"/>
            <a:ext cx="168804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and get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400440" y="3581280"/>
            <a:ext cx="228600" cy="6858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934320" y="3809880"/>
            <a:ext cx="1143000" cy="236232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6E0-93E8-4F95-94E8-FD30726CB8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incorporates ideas from Java and CORBA to describe scientific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4480" y="2057400"/>
            <a:ext cx="170784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um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265-5B56-45E5-A2B1-18FA89921A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s call automatically generated interface code completely unaware of SIDL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" y="1839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3600" y="2286000"/>
            <a:ext cx="45133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b,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smg_sol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b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x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A = hypre_matrix_NewMatrix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smg_solver = hypre_smg_solver_new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etMaxIter(smg_solver,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olve(smg_solver, A, b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Finalize(smg_sol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400" y="2286000"/>
            <a:ext cx="43185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vector b,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matrix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smg_solver smg_solv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b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x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A = hypre::matrix::NewMatrix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 = hypre::smg_solver::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etMaxIter(1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olve(A, b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Finali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2720" y="16765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C++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11960" y="167652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b61"/>
                </a:solidFill>
                <a:uFillTx/>
                <a:latin typeface="Arial"/>
              </a:rPr>
              <a:t>Fortran 77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16B-4C80-4827-A8DD-F2105AA8F8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 though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113800"/>
            <a:ext cx="6934320" cy="1008720"/>
          </a:xfrm>
          <a:prstGeom prst="rect">
            <a:avLst/>
          </a:prstGeom>
          <a:noFill/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Goal: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 Provide an overview of the approach, techniques,  and tools we are exploring in adopting software component technology for scientific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1F1-094B-4550-9986-E2D3932B99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version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version management scheme for SIDL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mbols are assigned a fixed vers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word requests specified version (or late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versions of specs (e.g., ESI 0.5, ESI 0.5.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1440" y="3429000"/>
            <a:ext cx="6490080" cy="283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ESI 0.5.1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access ESI spec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HYPRE 0.7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define HYPRE spec v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HYPR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fine v0.7 of HYPRE.Vector using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of the ESI.Vecto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Vector extends ESI.Vec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D5F-1A2A-4073-A8CE-9A6BEB3388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support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i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, f77, C++ mostly finished using old SIDL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500 test cases probe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am for exploratory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migrating system to use new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, Python, and Yorick suppor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thon and Yorick are scripting languages (Yorick from LL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 to begin development in October timef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quick” because of C interface support in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90 and MATLAB will (hopefully) begin early next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D3E-D1BA-454E-947A-4989FCB4B4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4200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collaborating wit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explore SIDL technology in a scientific libr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s: Andy Cleary, Jeff Painter, Cal Ribb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nterface description file generated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30 interfaces and class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s to generate glue code for object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IDL use i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support for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ran capabilities through SIDL in upcoming 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integrate existing C, Fortran, and C++ in one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is a useful language for discussing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bet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 based on SIDL OO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verhead in same-address space too small to 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CE7-1E47-4DD8-9700-5A0390B0B1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DBD-EBB7-4BAE-AEE0-70EF34EE49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80" y="298440"/>
            <a:ext cx="88646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developing a web-based architecture to simplify access by scientists and tool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nd library developers must ha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ss to our technology; otherwise, they simply will not u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web-based deployment lowers the “threshold of pain” to adopting component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5720" y="1676520"/>
            <a:ext cx="7616160" cy="2927880"/>
            <a:chOff x="765720" y="1676520"/>
            <a:chExt cx="7616160" cy="2927880"/>
          </a:xfrm>
        </p:grpSpPr>
        <p:grpSp>
          <p:nvGrpSpPr>
            <p:cNvPr id="233" name=""/>
            <p:cNvGrpSpPr/>
            <p:nvPr/>
          </p:nvGrpSpPr>
          <p:grpSpPr>
            <a:xfrm>
              <a:off x="765720" y="1676520"/>
              <a:ext cx="1002240" cy="1023120"/>
              <a:chOff x="765720" y="1676520"/>
              <a:chExt cx="1002240" cy="10231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114560" y="1676520"/>
                <a:ext cx="304560" cy="609480"/>
                <a:chOff x="1114560" y="1676520"/>
                <a:chExt cx="304560" cy="6094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152360" y="1676520"/>
                  <a:ext cx="228240" cy="228600"/>
                </a:xfrm>
                <a:prstGeom prst="ellipse">
                  <a:avLst/>
                </a:prstGeom>
                <a:noFill/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66480" y="1905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14560" y="1981440"/>
                  <a:ext cx="304560" cy="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1114560" y="2133720"/>
                  <a:ext cx="15192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66480" y="2133720"/>
                  <a:ext cx="15228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765720" y="2362320"/>
                <a:ext cx="100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80"/>
                    </a:solidFill>
                    <a:latin typeface="Arial"/>
                  </a:rPr>
                  <a:t>scienti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991800" y="3156120"/>
              <a:ext cx="551160" cy="1006920"/>
              <a:chOff x="991800" y="3156120"/>
              <a:chExt cx="551160" cy="1006920"/>
            </a:xfrm>
          </p:grpSpPr>
          <p:sp>
            <p:nvSpPr>
              <p:cNvPr id="242" name=""/>
              <p:cNvSpPr/>
              <p:nvPr/>
            </p:nvSpPr>
            <p:spPr>
              <a:xfrm>
                <a:off x="1038240" y="3156120"/>
                <a:ext cx="457200" cy="6091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4560" y="3232080"/>
                <a:ext cx="75960" cy="15192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90520" y="3536640"/>
                <a:ext cx="152640" cy="7596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90520" y="3384360"/>
                <a:ext cx="76320" cy="1519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1800" y="3825720"/>
                <a:ext cx="55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c6d9c"/>
                    </a:solidFill>
                    <a:latin typeface="Arial"/>
                  </a:rPr>
                  <a:t>to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752480" y="2133720"/>
              <a:ext cx="8384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76520" y="3048120"/>
              <a:ext cx="9144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69760" y="2590920"/>
              <a:ext cx="1239840" cy="565920"/>
              <a:chOff x="2669760" y="2590920"/>
              <a:chExt cx="1239840" cy="565920"/>
            </a:xfrm>
          </p:grpSpPr>
          <p:sp>
            <p:nvSpPr>
              <p:cNvPr id="250" name=""/>
              <p:cNvSpPr/>
              <p:nvPr/>
            </p:nvSpPr>
            <p:spPr>
              <a:xfrm>
                <a:off x="2669760" y="28195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33"/>
                    </a:solidFill>
                    <a:latin typeface="Arial"/>
                  </a:rPr>
                  <a:t>web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1" name="asf_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160" y="2590920"/>
                <a:ext cx="990720" cy="32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" name=""/>
            <p:cNvSpPr/>
            <p:nvPr/>
          </p:nvSpPr>
          <p:spPr>
            <a:xfrm>
              <a:off x="3962520" y="2819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105520" y="2362320"/>
              <a:ext cx="1143000" cy="838080"/>
              <a:chOff x="5105520" y="2362320"/>
              <a:chExt cx="1143000" cy="838080"/>
            </a:xfrm>
          </p:grpSpPr>
          <p:sp>
            <p:nvSpPr>
              <p:cNvPr id="254" name=""/>
              <p:cNvSpPr/>
              <p:nvPr/>
            </p:nvSpPr>
            <p:spPr>
              <a:xfrm>
                <a:off x="5105520" y="2362320"/>
                <a:ext cx="1143000" cy="838080"/>
              </a:xfrm>
              <a:prstGeom prst="flowChartMultidocument">
                <a:avLst/>
              </a:prstGeom>
              <a:noFill/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07680" y="2514600"/>
                <a:ext cx="93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IDL too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ervl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J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781680" y="3276720"/>
              <a:ext cx="1600200" cy="1327680"/>
              <a:chOff x="6781680" y="3276720"/>
              <a:chExt cx="1600200" cy="1327680"/>
            </a:xfrm>
          </p:grpSpPr>
          <p:sp>
            <p:nvSpPr>
              <p:cNvPr id="257" name=""/>
              <p:cNvSpPr/>
              <p:nvPr/>
            </p:nvSpPr>
            <p:spPr>
              <a:xfrm>
                <a:off x="6781680" y="426708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b61"/>
                    </a:solidFill>
                    <a:latin typeface="Arial"/>
                  </a:rPr>
                  <a:t>SQL 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48440" y="3276720"/>
                <a:ext cx="1067040" cy="99036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2060640" y="32767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2880" y="1676520"/>
              <a:ext cx="76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web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12408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babel_dropshadow" descr=""/>
            <p:cNvPicPr/>
            <p:nvPr/>
          </p:nvPicPr>
          <p:blipFill>
            <a:blip r:embed="rId2"/>
            <a:stretch/>
          </p:blipFill>
          <p:spPr>
            <a:xfrm>
              <a:off x="6934320" y="1905120"/>
              <a:ext cx="129528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flipV="1">
              <a:off x="6324480" y="2133720"/>
              <a:ext cx="5335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1B2-D09F-4427-ACA8-715F585971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web-based repository for component software and typ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53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exandria repository suppor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type descriptions for libraries and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and componen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ace to the Babel language interoperabilit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209680" y="2971800"/>
          <a:ext cx="5410440" cy="37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541044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A26-3F52-43CF-BB45-8460916660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ser converts SIDL to XML that is stored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sitor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used to generate XML interface informatio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type description used to generate glu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25800" y="2133720"/>
            <a:ext cx="6741360" cy="1404000"/>
            <a:chOff x="1225800" y="2133720"/>
            <a:chExt cx="6741360" cy="1404000"/>
          </a:xfrm>
        </p:grpSpPr>
        <p:sp>
          <p:nvSpPr>
            <p:cNvPr id="271" name=""/>
            <p:cNvSpPr/>
            <p:nvPr/>
          </p:nvSpPr>
          <p:spPr>
            <a:xfrm>
              <a:off x="3737520" y="2360520"/>
              <a:ext cx="959400" cy="39888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25800" y="24224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s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334120" y="2133720"/>
              <a:ext cx="2633040" cy="914400"/>
              <a:chOff x="5334120" y="2133720"/>
              <a:chExt cx="2633040" cy="91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5334120" y="2133720"/>
                <a:ext cx="304920" cy="3808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34120" y="2666880"/>
                <a:ext cx="304920" cy="3812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45400" y="2408400"/>
                <a:ext cx="20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b61"/>
                    </a:solidFill>
                    <a:latin typeface="Arial"/>
                  </a:rPr>
                  <a:t>type repositor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15000" y="2133720"/>
                <a:ext cx="152640" cy="9144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124440" y="2590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876920" y="2361960"/>
              <a:ext cx="38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6920" y="2666880"/>
              <a:ext cx="38088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3200" y="320040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1120" y="2895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56000" y="48769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920" y="43434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b61"/>
                </a:solidFill>
                <a:latin typeface="Arial"/>
              </a:rPr>
              <a:t>typ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71520" y="5257800"/>
            <a:ext cx="2020320" cy="3988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cod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18148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4480" y="4876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554160" y="4572000"/>
            <a:ext cx="613440" cy="1892160"/>
            <a:chOff x="6554160" y="4572000"/>
            <a:chExt cx="613440" cy="1892160"/>
          </a:xfrm>
        </p:grpSpPr>
        <p:sp>
          <p:nvSpPr>
            <p:cNvPr id="289" name=""/>
            <p:cNvSpPr/>
            <p:nvPr/>
          </p:nvSpPr>
          <p:spPr>
            <a:xfrm>
              <a:off x="6606000" y="507996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4160" y="5587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88440" y="4572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66760" y="60958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6095880" y="480024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95880" y="52574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548640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54864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56000" y="57913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76720" y="55627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4480" y="5791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8280" y="60958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achine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C7DA-9754-4BC9-962E-4295386B23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XML file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.V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200" y="1752480"/>
            <a:ext cx="8227440" cy="44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?xml version="1.0" encoding="UTF-8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DOCTYPE Symbol PUBLIC “-//CCA//SIDL Symbol DTD v1.0//EN” “SIDL.dtd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Ve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 dat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00816 08:47:22 PD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Entry ke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urce-ur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alu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home/skohn/hypre.sid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adata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mment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Interfa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IDL.Interf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 communica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cop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defini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xp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sBlock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Interfac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83A-616A-4A66-857B-0238B5AC18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533-B3A7-4CDC-B308-ADAAC39D07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redistribution of complex data structures between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data redistribution for non-local 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nnect parallel application to visualizatio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utomatically redistribute complex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 support redistribution of arbitrary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- modify SIDL and special interfac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666880" y="3200400"/>
            <a:ext cx="3810240" cy="2438280"/>
            <a:chOff x="2666880" y="3200400"/>
            <a:chExt cx="3810240" cy="2438280"/>
          </a:xfrm>
        </p:grpSpPr>
        <p:sp>
          <p:nvSpPr>
            <p:cNvPr id="308" name=""/>
            <p:cNvSpPr/>
            <p:nvPr/>
          </p:nvSpPr>
          <p:spPr>
            <a:xfrm>
              <a:off x="2666880" y="3200400"/>
              <a:ext cx="91440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819160" y="3352680"/>
              <a:ext cx="609480" cy="457200"/>
              <a:chOff x="2819160" y="3352680"/>
              <a:chExt cx="609480" cy="45720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2895480" y="3352680"/>
                <a:ext cx="22824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95480" y="3581280"/>
                <a:ext cx="15192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24080" y="3352680"/>
                <a:ext cx="15192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047760" y="3504960"/>
                <a:ext cx="228240" cy="1526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971800" y="3657600"/>
                <a:ext cx="75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819160" y="3581280"/>
                <a:ext cx="7596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380988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47760" y="36576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76360" y="3504960"/>
                <a:ext cx="15228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200400" y="3581280"/>
                <a:ext cx="22824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666880" y="403848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933640" y="4228920"/>
              <a:ext cx="380880" cy="381240"/>
              <a:chOff x="2933640" y="4228920"/>
              <a:chExt cx="380880" cy="38124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3161880" y="430524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85920" y="438156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33640" y="438156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933640" y="453384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33640" y="438156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085920" y="4228920"/>
                <a:ext cx="76320" cy="1526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62240" y="4228920"/>
                <a:ext cx="15228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666880" y="487656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781360" y="4952520"/>
              <a:ext cx="685800" cy="609480"/>
              <a:chOff x="2781360" y="4952520"/>
              <a:chExt cx="685800" cy="60948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2781360" y="5333760"/>
                <a:ext cx="22860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009960" y="5105160"/>
                <a:ext cx="15228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162240" y="495252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81360" y="540972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09960" y="53337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2857680" y="540936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162240" y="5181120"/>
                <a:ext cx="15264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62240" y="5105160"/>
                <a:ext cx="15264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90840" y="495288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3314520" y="51051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562720" y="445752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676840" y="4533480"/>
              <a:ext cx="685800" cy="609840"/>
              <a:chOff x="5676840" y="4533480"/>
              <a:chExt cx="685800" cy="609840"/>
            </a:xfrm>
          </p:grpSpPr>
          <p:sp>
            <p:nvSpPr>
              <p:cNvPr id="343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057360" y="453384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905080" y="468612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29120" y="476244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905440" y="4685760"/>
                <a:ext cx="15228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057720" y="453348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76840" y="49910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05440" y="49147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5753160" y="499068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057720" y="4762080"/>
                <a:ext cx="15264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57720" y="4686120"/>
                <a:ext cx="15264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86320" y="45338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210000" y="46861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476244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715000" y="3695760"/>
              <a:ext cx="609480" cy="609120"/>
              <a:chOff x="5715000" y="3695760"/>
              <a:chExt cx="609480" cy="609120"/>
            </a:xfrm>
          </p:grpSpPr>
          <p:sp>
            <p:nvSpPr>
              <p:cNvPr id="361" name=""/>
              <p:cNvSpPr/>
              <p:nvPr/>
            </p:nvSpPr>
            <p:spPr>
              <a:xfrm flipH="1">
                <a:off x="5790960" y="3695760"/>
                <a:ext cx="22860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91320" y="39240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19920" y="3695760"/>
                <a:ext cx="15228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943240" y="3848040"/>
                <a:ext cx="22860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15000" y="3924000"/>
                <a:ext cx="7632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72200" y="3848040"/>
                <a:ext cx="152280" cy="75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095520" y="392400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943240" y="4076640"/>
                <a:ext cx="152280" cy="2282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7280" y="415260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562720" y="361944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3581280"/>
              <a:ext cx="18288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657600" y="4114800"/>
              <a:ext cx="1828800" cy="30456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600" y="4419360"/>
              <a:ext cx="1828800" cy="30492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57600" y="4876200"/>
              <a:ext cx="1828800" cy="381240"/>
            </a:xfrm>
            <a:prstGeom prst="line">
              <a:avLst/>
            </a:prstGeom>
            <a:ln w="19080">
              <a:solidFill>
                <a:srgbClr val="00c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BEF-26DF-4B18-81FC-7EF3498731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ical simulation software is becoming increasingly complex and interdisciplin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re asked to develop 3d, massively parallel, high-fidelity, full-physics simulations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do it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quires the integration of software libraries developed by other t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resources are limited and expertise may not ex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local control over software development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issues (f77, C, C++, Python, Java, f9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for small codes do not scale to 500K 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84A-8EB8-472A-AEFE-3D784FC3B3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components will require special additions to SIDL interfac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4880" y="1485720"/>
            <a:ext cx="8978760" cy="20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RMI semantics for paralle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so need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pass-by-value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ever, no data distribution directives - must be done dynamic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3640" y="3429000"/>
            <a:ext cx="5514840" cy="222840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package ESI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erface Vec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double dot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py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in Vector 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Global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LocalSize() 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4D2-5C0C-4965-8E6F-8EFAF6032F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redistribution of arbitrary dat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the object to do it for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egular data too complex to represent in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approac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implement one of a set of redistributi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queries object at run-time for supported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45880" y="3200400"/>
            <a:ext cx="7796520" cy="2284200"/>
            <a:chOff x="245880" y="3200400"/>
            <a:chExt cx="7796520" cy="2284200"/>
          </a:xfrm>
        </p:grpSpPr>
        <p:sp>
          <p:nvSpPr>
            <p:cNvPr id="387" name=""/>
            <p:cNvSpPr/>
            <p:nvPr/>
          </p:nvSpPr>
          <p:spPr>
            <a:xfrm>
              <a:off x="245880" y="3200400"/>
              <a:ext cx="5057640" cy="2284200"/>
            </a:xfrm>
            <a:prstGeom prst="rect">
              <a:avLst/>
            </a:prstGeom>
            <a:noFill/>
            <a:ln w="1908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Complex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de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Array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use existing array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from PAWS or CUMULV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0080" y="335304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1200" y="3429000"/>
              <a:ext cx="24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wo streams on 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hree streams on 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563440" y="4191120"/>
            <a:ext cx="3201120" cy="2532600"/>
            <a:chOff x="5563440" y="4191120"/>
            <a:chExt cx="3201120" cy="2532600"/>
          </a:xfrm>
        </p:grpSpPr>
        <p:grpSp>
          <p:nvGrpSpPr>
            <p:cNvPr id="391" name=""/>
            <p:cNvGrpSpPr/>
            <p:nvPr/>
          </p:nvGrpSpPr>
          <p:grpSpPr>
            <a:xfrm>
              <a:off x="8231040" y="4572000"/>
              <a:ext cx="532800" cy="1295280"/>
              <a:chOff x="8231040" y="4572000"/>
              <a:chExt cx="532800" cy="1295280"/>
            </a:xfrm>
          </p:grpSpPr>
          <p:sp>
            <p:nvSpPr>
              <p:cNvPr id="392" name=""/>
              <p:cNvSpPr/>
              <p:nvPr/>
            </p:nvSpPr>
            <p:spPr>
              <a:xfrm>
                <a:off x="8231040" y="5333760"/>
                <a:ext cx="532800" cy="53352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31040" y="4572000"/>
                <a:ext cx="532800" cy="53316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563800" y="4191120"/>
              <a:ext cx="533160" cy="2057400"/>
              <a:chOff x="5563800" y="4191120"/>
              <a:chExt cx="533160" cy="2057400"/>
            </a:xfrm>
          </p:grpSpPr>
          <p:sp>
            <p:nvSpPr>
              <p:cNvPr id="395" name=""/>
              <p:cNvSpPr/>
              <p:nvPr/>
            </p:nvSpPr>
            <p:spPr>
              <a:xfrm>
                <a:off x="5563800" y="419112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63800" y="4953240"/>
                <a:ext cx="533160" cy="53316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3800" y="571500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556344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07360" y="4648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480" y="4267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40480" y="5029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0480" y="579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07360" y="541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3032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1840" y="4496040"/>
              <a:ext cx="1904760" cy="2286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171840" y="4876560"/>
              <a:ext cx="1904760" cy="30492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171840" y="5029200"/>
              <a:ext cx="1904760" cy="9144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1840" y="4496040"/>
              <a:ext cx="1904760" cy="9144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71840" y="5181840"/>
              <a:ext cx="1904760" cy="38088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171840" y="5714640"/>
              <a:ext cx="1904760" cy="2286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C7F-92B4-4453-B85D-347C824D91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component technology be part of the future of scientific compu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, maybe - or maybe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does offer new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to manage large-scale application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and easier plug-and-p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, not re-invent the wh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s to interoperate with industry software (e.g., SO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capabilities come at a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s scientists to using component technolog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p learning curve (needs to become part of cul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adigm for developing scientific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AC2-5567-49CB-9A2C-77A52A789D7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University of California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VG-14054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B5D-108A-47AF-B634-0808B824B0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barriers to software re-use, interoperability, and integr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5010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le programming languages (f90 calling C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ilities in C and C++ header files (poor physical desig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low-level run-time support (e.g., reference count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(“how do I know you know what you’re doing?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ould re-write it in less time than it would take to learn it…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understanding barriers (the interesting on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nteractions of the math and physics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ftware that reflects that underst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ere we gain insights and make scientific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B94-6F73-4604-B93D-CD4D6C9856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ies address issues of software complexity and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24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created component technology to addres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problems due to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large applications with third-part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 evolution of large legac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886200"/>
            <a:ext cx="6858000" cy="100872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Observation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: The laboratory must address similar problems but in a different applications space (parallel high-performance scientific simulation, not busine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60E-A3C5-4C03-A4DF-7D1A9EBAF9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ndustry solutions will not work in a scientific computing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peting industry component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JavaBeans and Enterprise JavaB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G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 for high-performance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ddress issues of massively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focuses on abstractions for business (not scientific)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navailable on our parallel research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upport for Fortran 77 and Fortran 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can leverage techniques and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9D7-EC30-4DEF-AD8A-A26E354FEC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extends OO with interoperability and common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318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object-oriented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language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object calling interfaces independent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glue” software to support cross-languag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mmon behavior, packaging, and descri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must support some comm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tools (e.g., repositories, builders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design, scripting, or frame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programming (e.g., modu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 for all of your problems (just some of th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BB8-75CB-489D-96CC-F6F4ABDC30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approaches help to manage application software complex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680" y="15526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lithic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7120" y="155088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-block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079960" y="2227320"/>
            <a:ext cx="3752640" cy="2194920"/>
            <a:chOff x="5079960" y="2227320"/>
            <a:chExt cx="3752640" cy="2194920"/>
          </a:xfrm>
        </p:grpSpPr>
        <p:grpSp>
          <p:nvGrpSpPr>
            <p:cNvPr id="80" name=""/>
            <p:cNvGrpSpPr/>
            <p:nvPr/>
          </p:nvGrpSpPr>
          <p:grpSpPr>
            <a:xfrm>
              <a:off x="7318440" y="3512880"/>
              <a:ext cx="1514160" cy="909360"/>
              <a:chOff x="7318440" y="3512880"/>
              <a:chExt cx="1514160" cy="909360"/>
            </a:xfrm>
          </p:grpSpPr>
          <p:sp>
            <p:nvSpPr>
              <p:cNvPr id="81" name=""/>
              <p:cNvSpPr/>
              <p:nvPr/>
            </p:nvSpPr>
            <p:spPr>
              <a:xfrm>
                <a:off x="7318440" y="3512880"/>
                <a:ext cx="151416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82160" y="3607920"/>
                <a:ext cx="1383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equ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675480" y="256680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67920" y="2677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079960" y="2227320"/>
              <a:ext cx="1270080" cy="909360"/>
              <a:chOff x="5079960" y="2227320"/>
              <a:chExt cx="1270080" cy="909360"/>
            </a:xfrm>
          </p:grpSpPr>
          <p:sp>
            <p:nvSpPr>
              <p:cNvPr id="86" name=""/>
              <p:cNvSpPr/>
              <p:nvPr/>
            </p:nvSpPr>
            <p:spPr>
              <a:xfrm>
                <a:off x="5079960" y="2227320"/>
                <a:ext cx="127008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62760" y="2323800"/>
                <a:ext cx="110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tepp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34120" y="2876040"/>
              <a:ext cx="490320" cy="115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9920" y="3925440"/>
              <a:ext cx="477720" cy="274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05560" y="3065040"/>
              <a:ext cx="331920" cy="577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9840" y="345564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2280" y="35668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1640" y="3057120"/>
              <a:ext cx="604800" cy="490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0720" y="4734000"/>
            <a:ext cx="409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ight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ess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re-use is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well-understood by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2600" y="4734000"/>
            <a:ext cx="329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oose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more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high re-use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new to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8480" y="2227320"/>
            <a:ext cx="4115520" cy="2193840"/>
            <a:chOff x="528480" y="2227320"/>
            <a:chExt cx="4115520" cy="2193840"/>
          </a:xfrm>
        </p:grpSpPr>
        <p:sp>
          <p:nvSpPr>
            <p:cNvPr id="97" name=""/>
            <p:cNvSpPr/>
            <p:nvPr/>
          </p:nvSpPr>
          <p:spPr>
            <a:xfrm>
              <a:off x="528480" y="2227320"/>
              <a:ext cx="2367000" cy="219384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000" y="2324160"/>
              <a:ext cx="200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imestep loop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1440" y="268596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f ( test1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280" y="3371760"/>
              <a:ext cx="201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lse if ( test2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4160" y="39211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33640" y="2876400"/>
              <a:ext cx="1352520" cy="1314720"/>
            </a:xfrm>
            <a:prstGeom prst="cloudCallout">
              <a:avLst>
                <a:gd name="adj1" fmla="val -76759"/>
                <a:gd name="adj2" fmla="val -23310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57680" y="2743200"/>
              <a:ext cx="1752480" cy="1523880"/>
            </a:xfrm>
            <a:prstGeom prst="cloudCallout">
              <a:avLst>
                <a:gd name="adj1" fmla="val -66305"/>
                <a:gd name="adj2" fmla="val 25523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0240" y="2949480"/>
              <a:ext cx="1823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h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ard-code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A13-12E1-4038-A025-BF2CE0FB3B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ALPS application combines three physics packages with local time refin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4160" y="1562040"/>
            <a:ext cx="8530920" cy="2251800"/>
            <a:chOff x="344160" y="1562040"/>
            <a:chExt cx="8530920" cy="2251800"/>
          </a:xfrm>
        </p:grpSpPr>
        <p:sp>
          <p:nvSpPr>
            <p:cNvPr id="107" name=""/>
            <p:cNvSpPr/>
            <p:nvPr/>
          </p:nvSpPr>
          <p:spPr>
            <a:xfrm>
              <a:off x="4506120" y="2957400"/>
              <a:ext cx="122760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Gradient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55840" y="2805120"/>
              <a:ext cx="1439640" cy="100872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Berger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Rigoutsos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Clust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18320" y="2957400"/>
              <a:ext cx="1256760" cy="703800"/>
            </a:xfrm>
            <a:prstGeom prst="rect">
              <a:avLst/>
            </a:prstGeom>
            <a:noFill/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Load</a:t>
              </a:r>
              <a:br>
                <a:rPr sz="2000"/>
              </a:b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Balan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38520" y="1562040"/>
              <a:ext cx="2230560" cy="70380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Time Refinement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160" y="2890800"/>
              <a:ext cx="1581120" cy="70380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Hierarchy</a:t>
              </a:r>
              <a:br>
                <a:rPr sz="2000"/>
              </a:b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29920" y="1562040"/>
              <a:ext cx="1523520" cy="703800"/>
            </a:xfrm>
            <a:prstGeom prst="rect">
              <a:avLst/>
            </a:prstGeom>
            <a:noFill/>
            <a:ln w="28440">
              <a:solidFill>
                <a:srgbClr val="0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Regridding</a:t>
              </a:r>
              <a:br>
                <a:rPr sz="2000"/>
              </a:b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Algorit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0" idx="2"/>
              <a:endCxn id="111" idx="0"/>
            </p:cNvCxnSpPr>
            <p:nvPr/>
          </p:nvCxnSpPr>
          <p:spPr>
            <a:xfrm flipH="1">
              <a:off x="1134000" y="2306160"/>
              <a:ext cx="1819800" cy="570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0" idx="3"/>
              <a:endCxn id="112" idx="1"/>
            </p:cNvCxnSpPr>
            <p:nvPr/>
          </p:nvCxnSpPr>
          <p:spPr>
            <a:xfrm>
              <a:off x="4097160" y="1926720"/>
              <a:ext cx="1803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2" idx="2"/>
              <a:endCxn id="107" idx="0"/>
            </p:cNvCxnSpPr>
            <p:nvPr/>
          </p:nvCxnSpPr>
          <p:spPr>
            <a:xfrm flipH="1">
              <a:off x="5120280" y="2306160"/>
              <a:ext cx="157212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2" idx="2"/>
              <a:endCxn id="108" idx="0"/>
            </p:cNvCxnSpPr>
            <p:nvPr/>
          </p:nvCxnSpPr>
          <p:spPr>
            <a:xfrm flipH="1">
              <a:off x="6676200" y="2306160"/>
              <a:ext cx="16560" cy="48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2" idx="2"/>
              <a:endCxn id="109" idx="0"/>
            </p:cNvCxnSpPr>
            <p:nvPr/>
          </p:nvCxnSpPr>
          <p:spPr>
            <a:xfrm>
              <a:off x="6692760" y="2306160"/>
              <a:ext cx="155448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8" name=""/>
          <p:cNvGrpSpPr/>
          <p:nvPr/>
        </p:nvGrpSpPr>
        <p:grpSpPr>
          <a:xfrm>
            <a:off x="6772320" y="4735440"/>
            <a:ext cx="2179440" cy="1008720"/>
            <a:chOff x="6772320" y="4735440"/>
            <a:chExt cx="2179440" cy="1008720"/>
          </a:xfrm>
        </p:grpSpPr>
        <p:sp>
          <p:nvSpPr>
            <p:cNvPr id="119" name=""/>
            <p:cNvSpPr/>
            <p:nvPr/>
          </p:nvSpPr>
          <p:spPr>
            <a:xfrm>
              <a:off x="7088400" y="4735440"/>
              <a:ext cx="1863360" cy="10087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Ion Adve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Numerical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21" idx="3"/>
              <a:endCxn id="119" idx="1"/>
            </p:cNvCxnSpPr>
            <p:nvPr/>
          </p:nvCxnSpPr>
          <p:spPr>
            <a:xfrm>
              <a:off x="6772320" y="5249520"/>
              <a:ext cx="28800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326160" y="4367160"/>
            <a:ext cx="2751480" cy="1516680"/>
            <a:chOff x="326160" y="4367160"/>
            <a:chExt cx="2751480" cy="1516680"/>
          </a:xfrm>
        </p:grpSpPr>
        <p:sp>
          <p:nvSpPr>
            <p:cNvPr id="123" name=""/>
            <p:cNvSpPr/>
            <p:nvPr/>
          </p:nvSpPr>
          <p:spPr>
            <a:xfrm>
              <a:off x="326160" y="4875120"/>
              <a:ext cx="1665000" cy="10087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Light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pag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5" idx="2"/>
              <a:endCxn id="123" idx="0"/>
            </p:cNvCxnSpPr>
            <p:nvPr/>
          </p:nvCxnSpPr>
          <p:spPr>
            <a:xfrm flipH="1">
              <a:off x="1158120" y="4367160"/>
              <a:ext cx="1919880" cy="494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2348280" y="4367160"/>
            <a:ext cx="1709280" cy="1305360"/>
            <a:chOff x="2348280" y="4367160"/>
            <a:chExt cx="1709280" cy="1305360"/>
          </a:xfrm>
        </p:grpSpPr>
        <p:sp>
          <p:nvSpPr>
            <p:cNvPr id="127" name=""/>
            <p:cNvSpPr/>
            <p:nvPr/>
          </p:nvSpPr>
          <p:spPr>
            <a:xfrm>
              <a:off x="2348280" y="4968720"/>
              <a:ext cx="1709280" cy="703800"/>
            </a:xfrm>
            <a:prstGeom prst="rect">
              <a:avLst/>
            </a:prstGeom>
            <a:noFill/>
            <a:ln w="28440">
              <a:solidFill>
                <a:srgbClr val="00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Electrostatic</a:t>
              </a:r>
              <a:br>
                <a:rPr sz="2000"/>
              </a:b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Field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5" idx="2"/>
              <a:endCxn id="127" idx="0"/>
            </p:cNvCxnSpPr>
            <p:nvPr/>
          </p:nvCxnSpPr>
          <p:spPr>
            <a:xfrm>
              <a:off x="3077640" y="4367160"/>
              <a:ext cx="126360" cy="588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1" name=""/>
          <p:cNvSpPr/>
          <p:nvPr/>
        </p:nvSpPr>
        <p:spPr>
          <a:xfrm>
            <a:off x="4527000" y="4732200"/>
            <a:ext cx="2216880" cy="10087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onservative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Hyperbolic Level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60360" y="2306520"/>
            <a:ext cx="3475440" cy="2411280"/>
            <a:chOff x="2160360" y="2306520"/>
            <a:chExt cx="3475440" cy="2411280"/>
          </a:xfrm>
        </p:grpSpPr>
        <p:cxnSp>
          <p:nvCxnSpPr>
            <p:cNvPr id="130" name=""/>
            <p:cNvCxnSpPr>
              <a:stCxn id="125" idx="2"/>
              <a:endCxn id="121" idx="0"/>
            </p:cNvCxnSpPr>
            <p:nvPr/>
          </p:nvCxnSpPr>
          <p:spPr>
            <a:xfrm>
              <a:off x="3077640" y="4366800"/>
              <a:ext cx="255852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2160360" y="3622680"/>
              <a:ext cx="183564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ser-Plasma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10" idx="2"/>
              <a:endCxn id="125" idx="0"/>
            </p:cNvCxnSpPr>
            <p:nvPr/>
          </p:nvCxnSpPr>
          <p:spPr>
            <a:xfrm>
              <a:off x="2954160" y="2306520"/>
              <a:ext cx="124560" cy="130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07" idx="1"/>
              <a:endCxn id="125" idx="0"/>
            </p:cNvCxnSpPr>
            <p:nvPr/>
          </p:nvCxnSpPr>
          <p:spPr>
            <a:xfrm flipH="1">
              <a:off x="3078000" y="3322440"/>
              <a:ext cx="140076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3108960" y="5713560"/>
            <a:ext cx="3262320" cy="845280"/>
            <a:chOff x="3108960" y="5713560"/>
            <a:chExt cx="3262320" cy="845280"/>
          </a:xfrm>
        </p:grpSpPr>
        <p:sp>
          <p:nvSpPr>
            <p:cNvPr id="134" name=""/>
            <p:cNvSpPr/>
            <p:nvPr/>
          </p:nvSpPr>
          <p:spPr>
            <a:xfrm>
              <a:off x="3108960" y="6099120"/>
              <a:ext cx="3262320" cy="4597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Poisson Hierarchy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7" idx="2"/>
              <a:endCxn id="134" idx="0"/>
            </p:cNvCxnSpPr>
            <p:nvPr/>
          </p:nvCxnSpPr>
          <p:spPr>
            <a:xfrm>
              <a:off x="3203640" y="5713560"/>
              <a:ext cx="1537200" cy="419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56A-A387-4953-BF6E-F56854B1D0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kohn</cp:lastModifiedBy>
  <cp:lastPrinted>2000-11-06T21:04:45Z</cp:lastPrinted>
  <dcterms:modified xsi:type="dcterms:W3CDTF">2000-11-06T21:04:53Z</dcterms:modified>
  <cp:revision>385</cp:revision>
  <dc:subject>CCA Interoperability and the CORBA IDL</dc:subject>
  <dc:title>CCA Interoperability</dc:title>
</cp:coreProperties>
</file>