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B563E8A-76D7-4541-9ACE-E85D1AFB23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3280" cy="34149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F5A-41DE-4F6D-ACED-ED328D3A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8FD-D2E4-4459-9AF8-64898BFC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8BA-C85C-4A43-8447-5FA9E086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246-694C-49E2-8C49-2F1225E1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87D-BD2A-41BE-87BA-421A35EB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099-F96C-43CF-A39D-EBFFC30C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016-D46C-4615-A2A2-EE790155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81A-CC5F-4B2C-BAC3-72D92DEC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9FF-949E-4C7F-83B0-D606635D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C8F-261D-4150-B55F-690B4EB3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69B-7E41-4238-BC82-05B6EE4C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7C1-0A4B-4F97-9D64-7FF06D68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80BD-715B-4514-A579-B6FD6F850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rew Cleary, Steven G. Smith, and Brent Smolinski</a:t>
            </a:r>
            <a:br>
              <a:rPr sz="2400"/>
            </a:b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21,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1430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Mechanism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6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 Scientific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24040"/>
            <a:ext cx="8076960" cy="152280"/>
            <a:chOff x="533520" y="82404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2404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3816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33520" y="2508120"/>
            <a:ext cx="8076960" cy="152640"/>
            <a:chOff x="533520" y="250812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33520" y="250812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520" y="26226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glue code bridges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3280" y="3200400"/>
            <a:ext cx="3842640" cy="155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31960" y="1741320"/>
            <a:ext cx="168048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Library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09520" y="2752560"/>
            <a:ext cx="292536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olver_Vector_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40040" y="3765600"/>
            <a:ext cx="3065760" cy="39888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IDL “Run-Time Syste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0720" y="4778280"/>
            <a:ext cx="298332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olver::Vector::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5320" y="5791320"/>
            <a:ext cx="299268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ibrary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9200" y="26668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952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kele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0" idx="2"/>
            <a:endCxn id="181" idx="0"/>
          </p:cNvCxnSpPr>
          <p:nvPr/>
        </p:nvCxnSpPr>
        <p:spPr>
          <a:xfrm>
            <a:off x="7071840" y="2181240"/>
            <a:ext cx="1080" cy="55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2"/>
            <a:endCxn id="182" idx="0"/>
          </p:cNvCxnSpPr>
          <p:nvPr/>
        </p:nvCxnSpPr>
        <p:spPr>
          <a:xfrm>
            <a:off x="7071840" y="3192480"/>
            <a:ext cx="252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2" idx="2"/>
            <a:endCxn id="183" idx="0"/>
          </p:cNvCxnSpPr>
          <p:nvPr/>
        </p:nvCxnSpPr>
        <p:spPr>
          <a:xfrm flipH="1">
            <a:off x="7071480" y="4204800"/>
            <a:ext cx="2520" cy="559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3" idx="2"/>
            <a:endCxn id="184" idx="0"/>
          </p:cNvCxnSpPr>
          <p:nvPr/>
        </p:nvCxnSpPr>
        <p:spPr>
          <a:xfrm>
            <a:off x="7071840" y="5218200"/>
            <a:ext cx="108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343400" y="4800600"/>
            <a:ext cx="10666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343400" y="297144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ing the IDL stubs from user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03760" y="1523880"/>
            <a:ext cx="5301360" cy="137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x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05560" y="4876920"/>
            <a:ext cx="412776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function error(A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integ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x,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o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04480" y="2987640"/>
            <a:ext cx="508752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result =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esul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9560" y="196380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76920" y="363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08040" y="5345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8400" y="55278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51000" y="5715000"/>
            <a:ext cx="1241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ata copies (means single address-spa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of a C++ virtual function call (or maybe a fe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 in either a threaded or MPI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Fortran 77/90 in “high-performance”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and Python with maybe a little more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e support for prototyping tools like Mat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bility for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fficiently general to express most scientific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be object oriented and support error mechanis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goals for the interoperability of high-performance scientific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issues for scientific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existing technology where appropri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nd ILU IDLs and language mapp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inheritance and introspection ide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features are needed in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the “Scientific IDL” onto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and overheads in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research approach in our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a simple prototype can work in a scientific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… add new features (e.g., distributed comput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our “Scientific IDL” looks li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the CORBA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oriented, exceptions, namesp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tax similar to Java and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s to all languages of interest but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(for now, anyway) unnecessary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way qual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 and union (performance and Fortran consider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rrays and sequences (replaced - see belo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new data types and fix stupid th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inheritance model broken - adopt Ja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complex type and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static and final qualifiers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IDL looks a lot like 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249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specification for a linear solver pack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600200"/>
            <a:ext cx="8686800" cy="5030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itialize(in array&lt;double,1&gt; dat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C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Kryl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Abstract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olve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...) throws </a:t>
            </a: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Convergence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IDL expres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tly expressive for some numerical pack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KINSOL, structured AMR linear solvers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ed at some parts of the PETSc pack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system limited to types expressible in the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ointers and currently no templ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with external opaque objects (e.g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PI_Com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only high-level interfaces will be expressed in the ID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han just the intersection of language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 can be supported through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object-oriented support in C or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introspection, RTTI, reference counting, exceptions …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mapping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/90 are the only re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Java mappings are defined by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mappings are defined by IL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structs do not add to complexity of language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 should be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C bindings for function n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aque object references become integers (as in MP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tructs or unions needed (or can be mapped to objec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90 will be major pai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use f77 mapping and not exploit expanded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IDL arrays to map onto Fortran 90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ing sequences and array descriptors compiler-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doing this by hand would be almost impos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and the run-time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ed run-time system is very si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address space (perhaps distributed la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design means no data copies (perhaps array transpo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 requires function tables as in C++ or PET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is a few function calls (could be inlined awa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hat do we need in a run-time sy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of vtables for Java inheritance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/down casting and introspection que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 support as in CORBA (really just error return cod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iscellaneous stuff (complex numbers in C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status and future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implementation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ser/analyzer written in Java with Java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type for polymorphism/multiple inheritance support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ng prototype with parser stub gen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development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the technology can work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interoperability for C, C++, and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language mappings for f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language mappings for Java, Python, and MatLa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distributed capabilities (borrow existing technolog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724960" cy="36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interoperability mechanis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IDL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n IDL for interoperability in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tran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consid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002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c6d9c"/>
                </a:solidFill>
                <a:uFillTx/>
                <a:latin typeface="Arial"/>
              </a:rPr>
              <a:t>Goal</a:t>
            </a:r>
            <a:r>
              <a:rPr b="1" lang="en-US" sz="2400" spc="-1" strike="noStrike">
                <a:solidFill>
                  <a:srgbClr val="0c6d9c"/>
                </a:solidFill>
                <a:latin typeface="Arial"/>
              </a:rPr>
              <a:t>:  Apply IDL interoperability technology to problems in high-performance parallel scientific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the IDL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teroperability (even for Fortran 90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support for object 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ve enough for many numerical libraries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provides a nice description language fo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ally generates type information for introsp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 and potenti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 designers write the IDL description (but … it’s simp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mapping may not be as “natural” as if by h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are limited to the IDL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alternativ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MI-13182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hould not be a barrier to software re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0" idx="2"/>
            <a:endCxn id="67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" name=""/>
          <p:cNvCxnSpPr>
            <a:stCxn id="70" idx="2"/>
            <a:endCxn id="71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67" idx="2"/>
            <a:endCxn id="69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67" idx="2"/>
            <a:endCxn id="68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PETSc library implements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spection, RTTI, simple exception mecha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5726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language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6486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 custom bindings for each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-intensive to generate bindings for supported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tailor binding to style and conventions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 taken in the MPI standardization eff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84680" y="5499000"/>
            <a:ext cx="1574640" cy="660600"/>
            <a:chOff x="3784680" y="5499000"/>
            <a:chExt cx="1574640" cy="660600"/>
          </a:xfrm>
        </p:grpSpPr>
        <p:sp>
          <p:nvSpPr>
            <p:cNvPr id="81" name=""/>
            <p:cNvSpPr/>
            <p:nvPr/>
          </p:nvSpPr>
          <p:spPr>
            <a:xfrm>
              <a:off x="3860640" y="557532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0033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84680" y="549900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07160" y="559260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Libr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108160" y="3213000"/>
            <a:ext cx="1270080" cy="507960"/>
            <a:chOff x="2108160" y="3213000"/>
            <a:chExt cx="1270080" cy="507960"/>
          </a:xfrm>
        </p:grpSpPr>
        <p:sp>
          <p:nvSpPr>
            <p:cNvPr id="85" name=""/>
            <p:cNvSpPr/>
            <p:nvPr/>
          </p:nvSpPr>
          <p:spPr>
            <a:xfrm>
              <a:off x="21844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081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66840" y="3230640"/>
              <a:ext cx="107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Fortr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955880" y="4127400"/>
            <a:ext cx="1574640" cy="812880"/>
            <a:chOff x="1955880" y="4127400"/>
            <a:chExt cx="1574640" cy="812880"/>
          </a:xfrm>
        </p:grpSpPr>
        <p:sp>
          <p:nvSpPr>
            <p:cNvPr id="89" name=""/>
            <p:cNvSpPr/>
            <p:nvPr/>
          </p:nvSpPr>
          <p:spPr>
            <a:xfrm>
              <a:off x="20318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558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692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Fortran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765760" y="3213000"/>
            <a:ext cx="1270080" cy="507960"/>
            <a:chOff x="5765760" y="3213000"/>
            <a:chExt cx="1270080" cy="507960"/>
          </a:xfrm>
        </p:grpSpPr>
        <p:sp>
          <p:nvSpPr>
            <p:cNvPr id="93" name=""/>
            <p:cNvSpPr/>
            <p:nvPr/>
          </p:nvSpPr>
          <p:spPr>
            <a:xfrm>
              <a:off x="58420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657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28920" y="3230640"/>
              <a:ext cx="668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936960" y="3213000"/>
            <a:ext cx="1270080" cy="507960"/>
            <a:chOff x="3936960" y="3213000"/>
            <a:chExt cx="1270080" cy="507960"/>
          </a:xfrm>
        </p:grpSpPr>
        <p:sp>
          <p:nvSpPr>
            <p:cNvPr id="97" name=""/>
            <p:cNvSpPr/>
            <p:nvPr/>
          </p:nvSpPr>
          <p:spPr>
            <a:xfrm>
              <a:off x="40132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369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9520" y="32306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84680" y="4127400"/>
            <a:ext cx="1574640" cy="812880"/>
            <a:chOff x="3784680" y="4127400"/>
            <a:chExt cx="1574640" cy="812880"/>
          </a:xfrm>
        </p:grpSpPr>
        <p:sp>
          <p:nvSpPr>
            <p:cNvPr id="101" name=""/>
            <p:cNvSpPr/>
            <p:nvPr/>
          </p:nvSpPr>
          <p:spPr>
            <a:xfrm>
              <a:off x="38606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846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980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613480" y="4127400"/>
            <a:ext cx="1574640" cy="812880"/>
            <a:chOff x="5613480" y="4127400"/>
            <a:chExt cx="1574640" cy="812880"/>
          </a:xfrm>
        </p:grpSpPr>
        <p:sp>
          <p:nvSpPr>
            <p:cNvPr id="105" name=""/>
            <p:cNvSpPr/>
            <p:nvPr/>
          </p:nvSpPr>
          <p:spPr>
            <a:xfrm>
              <a:off x="56894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134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68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++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5720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20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7432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886200"/>
            <a:ext cx="6705360" cy="25146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51814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ed with th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custom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that target small collections of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call interfaces or automatic glue code gen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SWIG wraps C and C++ for calls from scripting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very general - limited only to subsets of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3657600"/>
            <a:ext cx="94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14440" y="419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516888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17120" y="32767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840" y="41911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5920" y="51688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7040" y="6095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0"/>
            <a:endCxn id="119" idx="2"/>
          </p:cNvCxnSpPr>
          <p:nvPr/>
        </p:nvCxnSpPr>
        <p:spPr>
          <a:xfrm flipV="1">
            <a:off x="2388960" y="4587840"/>
            <a:ext cx="108360" cy="58140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2"/>
            <a:endCxn id="124" idx="0"/>
          </p:cNvCxnSpPr>
          <p:nvPr/>
        </p:nvCxnSpPr>
        <p:spPr>
          <a:xfrm>
            <a:off x="2389320" y="5565240"/>
            <a:ext cx="2202480" cy="53100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stCxn id="120" idx="3"/>
            <a:endCxn id="123" idx="1"/>
          </p:cNvCxnSpPr>
          <p:nvPr/>
        </p:nvCxnSpPr>
        <p:spPr>
          <a:xfrm>
            <a:off x="2720880" y="5366880"/>
            <a:ext cx="3604320" cy="10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128" name=""/>
          <p:cNvCxnSpPr>
            <a:stCxn id="119" idx="0"/>
            <a:endCxn id="121" idx="1"/>
          </p:cNvCxnSpPr>
          <p:nvPr/>
        </p:nvCxnSpPr>
        <p:spPr>
          <a:xfrm flipV="1">
            <a:off x="2496960" y="3474360"/>
            <a:ext cx="18201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0"/>
            <a:endCxn id="121" idx="3"/>
          </p:cNvCxnSpPr>
          <p:nvPr/>
        </p:nvCxnSpPr>
        <p:spPr>
          <a:xfrm flipH="1" flipV="1">
            <a:off x="4866480" y="3474360"/>
            <a:ext cx="18867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4" idx="0"/>
            <a:endCxn id="119" idx="3"/>
          </p:cNvCxnSpPr>
          <p:nvPr/>
        </p:nvCxnSpPr>
        <p:spPr>
          <a:xfrm flipH="1" flipV="1">
            <a:off x="2680560" y="4389120"/>
            <a:ext cx="1910520" cy="170712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"/>
          <p:cNvCxnSpPr>
            <a:stCxn id="123" idx="1"/>
            <a:endCxn id="119" idx="3"/>
          </p:cNvCxnSpPr>
          <p:nvPr/>
        </p:nvCxnSpPr>
        <p:spPr>
          <a:xfrm flipH="1" flipV="1">
            <a:off x="2680920" y="4389120"/>
            <a:ext cx="3643920" cy="9784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0" idx="0"/>
            <a:endCxn id="121" idx="2"/>
          </p:cNvCxnSpPr>
          <p:nvPr/>
        </p:nvCxnSpPr>
        <p:spPr>
          <a:xfrm flipV="1">
            <a:off x="2389320" y="3673080"/>
            <a:ext cx="2203920" cy="14961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038480" y="42670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an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objects in an “interface definition languag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language interoperates with the “IDL languag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generates “glue” that wraps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0120" y="4076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01660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40800" y="31240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6920" y="4076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9960" y="50166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41080" y="594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00480" y="452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4267080"/>
            <a:ext cx="144756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505320"/>
            <a:ext cx="0" cy="76176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952880" y="4266720"/>
            <a:ext cx="160020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666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08640" y="5181480"/>
            <a:ext cx="0" cy="8384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: Interface Definition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ative interface descrip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s interface only (no implementation detail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-independent way to describe object AP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7400" y="2743200"/>
            <a:ext cx="5671440" cy="374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600" spc="-1" strike="noStrike">
                <a:solidFill>
                  <a:srgbClr val="ff0033"/>
                </a:solidFill>
                <a:latin typeface="Courier New"/>
              </a:rPr>
              <a:t>Sparse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 generates “glue” code from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58600" y="1555920"/>
            <a:ext cx="7908840" cy="5015160"/>
            <a:chOff x="858600" y="1555920"/>
            <a:chExt cx="7908840" cy="5015160"/>
          </a:xfrm>
        </p:grpSpPr>
        <p:sp>
          <p:nvSpPr>
            <p:cNvPr id="154" name=""/>
            <p:cNvSpPr/>
            <p:nvPr/>
          </p:nvSpPr>
          <p:spPr>
            <a:xfrm>
              <a:off x="3677400" y="3657600"/>
              <a:ext cx="1931760" cy="39888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SIDL Compi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33840" y="1555920"/>
              <a:ext cx="200628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cc"/>
                  </a:solidFill>
                  <a:latin typeface="Arial"/>
                </a:rPr>
                <a:t>hypre</a:t>
              </a: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 Interface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0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St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86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Skele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3160" y="3505320"/>
              <a:ext cx="13831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r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3080" y="3505320"/>
              <a:ext cx="205740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c6d9c"/>
                  </a:solidFill>
                  <a:latin typeface="Arial"/>
                </a:rPr>
                <a:t>hypre </a:t>
              </a: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8" idx="3"/>
              <a:endCxn id="154" idx="1"/>
            </p:cNvCxnSpPr>
            <p:nvPr/>
          </p:nvCxnSpPr>
          <p:spPr>
            <a:xfrm>
              <a:off x="2576160" y="3870000"/>
              <a:ext cx="1072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4" idx="3"/>
              <a:endCxn id="159" idx="1"/>
            </p:cNvCxnSpPr>
            <p:nvPr/>
          </p:nvCxnSpPr>
          <p:spPr>
            <a:xfrm>
              <a:off x="5638320" y="3870000"/>
              <a:ext cx="901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62" name=""/>
            <p:cNvCxnSpPr>
              <a:stCxn id="155" idx="2"/>
              <a:endCxn id="154" idx="0"/>
            </p:cNvCxnSpPr>
            <p:nvPr/>
          </p:nvCxnSpPr>
          <p:spPr>
            <a:xfrm>
              <a:off x="4636800" y="2300400"/>
              <a:ext cx="6840" cy="13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54" idx="2"/>
              <a:endCxn id="156" idx="0"/>
            </p:cNvCxnSpPr>
            <p:nvPr/>
          </p:nvCxnSpPr>
          <p:spPr>
            <a:xfrm flipH="1">
              <a:off x="3426840" y="4096800"/>
              <a:ext cx="121644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4" idx="2"/>
              <a:endCxn id="157" idx="0"/>
            </p:cNvCxnSpPr>
            <p:nvPr/>
          </p:nvCxnSpPr>
          <p:spPr>
            <a:xfrm>
              <a:off x="4642920" y="4096800"/>
              <a:ext cx="107100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54" idx="0"/>
              <a:endCxn id="166" idx="3"/>
            </p:cNvCxnSpPr>
            <p:nvPr/>
          </p:nvCxnSpPr>
          <p:spPr>
            <a:xfrm flipV="1">
              <a:off x="4643280" y="2985480"/>
              <a:ext cx="2912400" cy="657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grpSp>
          <p:nvGrpSpPr>
            <p:cNvPr id="167" name=""/>
            <p:cNvGrpSpPr/>
            <p:nvPr/>
          </p:nvGrpSpPr>
          <p:grpSpPr>
            <a:xfrm>
              <a:off x="6340320" y="1600200"/>
              <a:ext cx="2427120" cy="1371600"/>
              <a:chOff x="6340320" y="1600200"/>
              <a:chExt cx="2427120" cy="1371600"/>
            </a:xfrm>
          </p:grpSpPr>
          <p:sp>
            <p:nvSpPr>
              <p:cNvPr id="166" name=""/>
              <p:cNvSpPr/>
              <p:nvPr/>
            </p:nvSpPr>
            <p:spPr>
              <a:xfrm>
                <a:off x="6340320" y="1600200"/>
                <a:ext cx="2427120" cy="1371600"/>
              </a:xfrm>
              <a:prstGeom prst="flowChartMagneticDisk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56160" y="2158920"/>
                <a:ext cx="239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Language Mappings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Compiler Detai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55680" y="1600200"/>
                <a:ext cx="179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68686"/>
                    </a:solidFill>
                    <a:latin typeface="Arial"/>
                  </a:rPr>
                  <a:t>IDL Datab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858600" y="5867280"/>
              <a:ext cx="156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d by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ibrary 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6040" y="5867280"/>
              <a:ext cx="205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wraps 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209680" y="6019560"/>
              <a:ext cx="3924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7120" y="6019920"/>
              <a:ext cx="3124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14600" y="426708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4191120"/>
              <a:ext cx="2427120" cy="1295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91120" y="5715000"/>
              <a:ext cx="78264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400800" y="426672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oftWindows</cp:lastModifiedBy>
  <cp:lastPrinted>1998-10-27T15:54:28Z</cp:lastPrinted>
  <dcterms:modified xsi:type="dcterms:W3CDTF">1999-05-12T22:18:50Z</dcterms:modified>
  <cp:revision>72</cp:revision>
  <dc:subject>CCA Interoperability and the CORBA IDL</dc:subject>
  <dc:title>CCA Interoperability</dc:title>
</cp:coreProperties>
</file>